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F3B7-0401-49EA-B923-8F72B964A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02920" y="40399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596E-9402-4D42-A4AE-4606EED64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6860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898E-525E-4814-9872-FAD296B57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5352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448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0292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5352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0448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E16D-76FF-456C-AB8F-594B97290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A071E-2674-4DD2-A1EE-31A310D47F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BDC8D-08DC-40B0-AAF9-94091B23BA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52261-1FE6-498C-9CE4-13BA0E3FA0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DAC96-A5C5-48B4-92B5-9D29FA6B73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4D46E-0EC6-4F71-815A-2F50307463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33CA-69A7-494E-9F0E-DFA6A1317A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6E383-F360-493E-9441-DACDFD6859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50D5-DADF-496E-BD01-F47D453DE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6860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8E321-1D39-4BF1-B8CC-A54DC6E510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FAB5D-A664-4017-8AE9-A8918FFD24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402920" y="40399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80C61-27FB-4FEA-BE8B-ED1BFCE313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6860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E16C6-B719-401D-B18A-C2AD5A5D21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5352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448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40292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5352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0448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507D4-FD25-4494-9DDA-B1C1BFCF2E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DA93-2DC0-45A8-B158-8A4D0A61B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E61D0-B024-433E-81D0-B6666B98B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6F24-1168-4EEA-BB63-8371B9795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EB51-38AB-4D97-A01E-1E9C0B822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B03B-E6D2-427A-A38A-84167FBF8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6860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E237-1D1C-4C3C-A7C5-679B5276F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041B-F896-488A-ABD4-934376201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Aft>
                <a:spcPts val="20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Aft>
                <a:spcPts val="2001"/>
              </a:spcAft>
              <a:buClr>
                <a:srgbClr val="ffff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Aft>
                <a:spcPts val="2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Aft>
                <a:spcPts val="2001"/>
              </a:spcAft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A3AD-2CB4-48CB-A735-8EC1F3A6C0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6200000">
            <a:off x="5172840" y="-2759760"/>
            <a:ext cx="17640" cy="7924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4217760" y="2323800"/>
            <a:ext cx="17640" cy="8453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-360"/>
            <a:ext cx="903240" cy="6862680"/>
            <a:chOff x="0" y="-360"/>
            <a:chExt cx="903240" cy="6862680"/>
          </a:xfrm>
        </p:grpSpPr>
        <p:sp>
          <p:nvSpPr>
            <p:cNvPr id="6" name=""/>
            <p:cNvSpPr/>
            <p:nvPr/>
          </p:nvSpPr>
          <p:spPr>
            <a:xfrm rot="16200000">
              <a:off x="-2976480" y="2978640"/>
              <a:ext cx="6859080" cy="90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85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16200000">
              <a:off x="-3198960" y="319968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  <a:ea typeface="MS PGothic"/>
                </a:rPr>
                <a:t>INTERGOVERNMENTAL PANEL ON CLIMATE CHANG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6200000">
              <a:off x="-2966760" y="3317760"/>
              <a:ext cx="6857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NATIONAL GREENHOUSE GAS INVENTORIES PROGRAM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822960" y="-360"/>
              <a:ext cx="0" cy="685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"/>
            <p:cNvGrpSpPr/>
            <p:nvPr/>
          </p:nvGrpSpPr>
          <p:grpSpPr>
            <a:xfrm>
              <a:off x="36720" y="6187320"/>
              <a:ext cx="771120" cy="647640"/>
              <a:chOff x="36720" y="6187320"/>
              <a:chExt cx="771120" cy="647640"/>
            </a:xfrm>
          </p:grpSpPr>
          <p:pic>
            <p:nvPicPr>
              <p:cNvPr id="11" name="" descr=""/>
              <p:cNvPicPr/>
              <p:nvPr/>
            </p:nvPicPr>
            <p:blipFill>
              <a:blip r:embed="rId4"/>
              <a:stretch/>
            </p:blipFill>
            <p:spPr>
              <a:xfrm rot="16200000">
                <a:off x="47160" y="6226200"/>
                <a:ext cx="54072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" name=""/>
              <p:cNvSpPr/>
              <p:nvPr/>
            </p:nvSpPr>
            <p:spPr>
              <a:xfrm rot="16200000">
                <a:off x="345600" y="6372720"/>
                <a:ext cx="64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751"/>
                  </a:spcBef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WM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36720" y="84600"/>
              <a:ext cx="780120" cy="647640"/>
              <a:chOff x="36720" y="84600"/>
              <a:chExt cx="780120" cy="647640"/>
            </a:xfrm>
          </p:grpSpPr>
          <p:pic>
            <p:nvPicPr>
              <p:cNvPr id="14" name="" descr=""/>
              <p:cNvPicPr/>
              <p:nvPr/>
            </p:nvPicPr>
            <p:blipFill>
              <a:blip r:embed="rId5"/>
              <a:stretch/>
            </p:blipFill>
            <p:spPr>
              <a:xfrm rot="16200000">
                <a:off x="9000" y="162720"/>
                <a:ext cx="540360" cy="48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" name=""/>
              <p:cNvSpPr/>
              <p:nvPr/>
            </p:nvSpPr>
            <p:spPr>
              <a:xfrm rot="16200000">
                <a:off x="354600" y="270000"/>
                <a:ext cx="64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751"/>
                  </a:spcBef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UNE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155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85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21333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2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64F4-97BF-4A56-8201-574C34825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716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1676520"/>
            <a:ext cx="76960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64628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164628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0"/>
            <a:ext cx="9144000" cy="1060200"/>
            <a:chOff x="0" y="0"/>
            <a:chExt cx="9144000" cy="10602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 Unicode"/>
                  <a:ea typeface="MS PGothic"/>
                </a:rPr>
                <a:t>INTERGOVERNMENTAL PANEL ON CLIMATE CHANGE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44600"/>
              <a:ext cx="91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NATIONAL GREENHOUSE GAS INVENTORIES PROGRAM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10526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36360" y="44280"/>
              <a:ext cx="863640" cy="1010880"/>
              <a:chOff x="36360" y="44280"/>
              <a:chExt cx="863640" cy="1010880"/>
            </a:xfrm>
          </p:grpSpPr>
          <p:pic>
            <p:nvPicPr>
              <p:cNvPr id="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07640" y="44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36360" y="686880"/>
                <a:ext cx="86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1125"/>
                  </a:spcBef>
                  <a:spcAft>
                    <a:spcPts val="112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WM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172360" y="44280"/>
              <a:ext cx="863640" cy="1015920"/>
              <a:chOff x="8172360" y="44280"/>
              <a:chExt cx="863640" cy="1015920"/>
            </a:xfrm>
          </p:grpSpPr>
          <p:pic>
            <p:nvPicPr>
              <p:cNvPr id="6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243640" y="44280"/>
                <a:ext cx="720720" cy="62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8172360" y="691920"/>
                <a:ext cx="86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1125"/>
                  </a:spcBef>
                  <a:spcAft>
                    <a:spcPts val="112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UNE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ctr">
              <a:spcAft>
                <a:spcPts val="1500"/>
              </a:spcAft>
              <a:buClr>
                <a:srgbClr val="ffff00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spcAft>
                <a:spcPts val="1250"/>
              </a:spcAft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1828800" algn="ctr">
              <a:spcAft>
                <a:spcPts val="1250"/>
              </a:spcAft>
              <a:buClr>
                <a:srgbClr val="ffff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1333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olume 5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ast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5640" y="3860640"/>
            <a:ext cx="7885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2006 IPCC Guidelin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4800600"/>
            <a:ext cx="817236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  <a:ea typeface="MS PGothic"/>
              </a:rPr>
              <a:t>Bonn, 18 may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  <a:ea typeface="MS PGothic"/>
              </a:rPr>
              <a:t>Riitta Pipat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Arial"/>
              </a:rPr>
              <a:t>Biological treatment of solid wast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GHG (CH</a:t>
            </a:r>
            <a:r>
              <a:rPr b="0" lang="fi-FI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, N</a:t>
            </a:r>
            <a:r>
              <a:rPr b="0" lang="fi-FI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O) emissions from biological treatment small (CO</a:t>
            </a:r>
            <a:r>
              <a:rPr b="0" lang="fi-FI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 not taken into account as of biogenic origi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simple methdology - activity data times emission factor (defaults provided for composting and anaerobic digestio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energy use of methane from anaerobic digestion =&gt; emissions from combustion to be reported in the Energy secto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9013-946B-4404-AD85-AC506656B041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Arial"/>
              </a:rPr>
              <a:t>Incineration and open burning of wast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54380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Waste-to-energy reported in the energy secto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0" lang="fi-FI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 from fossil waste fractions (plastics, waste oils, etc.), N</a:t>
            </a:r>
            <a:r>
              <a:rPr b="0" lang="fi-FI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O and CH</a:t>
            </a:r>
            <a:r>
              <a:rPr b="0" lang="fi-FI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open burning - new category; important in developing countr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06CA4-91EE-4080-843B-BF98E065D69E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Arial"/>
              </a:rPr>
              <a:t>Wastewater treatment and discharg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improved guidance (incl. tier-structure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wastewater and sludge - emissions during treatment estimated together (organic matter in sludge disposed at SWDS, spread in agricultural soils or incinerated subtracted)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uncollected wastewater - methodology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fi-FI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O - methodology also for industrial waste water treatment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D216-9C8C-432D-BF4F-BAB8B7CEC431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Guidance complemented, revised (e.g. FOD model) and default activity data and parameters improv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a more systematic approach to waste manag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Good quality activity data (amounts, waste compostion, BOD/COD in wastewater, management/treatment data) - data improving in many countries but still a challen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234B-A83B-4CB1-8627-AD1140564F4D}" type="slidenum">
              <a:t>13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14475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PCC 2006 GLs: Waste Volume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71280" y="2362320"/>
            <a:ext cx="8172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iitta Pipatti (Finland) and Sonia Viera (Brazil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Joao Alves (Brazil), Michiel R. J. Doorn (Netherlands),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Qingxian Gao (China), Sabin Guendehou (Benin), Leif Hockstad (USA), William Irving (USA)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atthias Koch (Germany), Carlos López (Cuba), Katarina Mareckova, (Slovakia), Hans Oonk (the Netherlands), Craig Palmer (Canada)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lizabeth Scheehle (USA), Sharma Chhemendra (India), Alison Smith (UK), Per Svardal (Norway), Sirintornthep Towprayoon (Thailand), Masato Yamada (Japan) 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an Wang (China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ents of the present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aste Volume - cont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ctivity data collection (solid waste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aste categor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verview of methodological issues and challenges in repor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280F-654E-4428-9AC5-824FB7DE309F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Arial"/>
              </a:rPr>
              <a:t>Waste Volume - cont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1 Introdu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2 Waste generation, composition and management dat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3 Solid waste dispos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4 Biological treatment of solid was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5 Incineration and Open Burning of Was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6 Wastewater treatment and dischar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C73D-BDE6-44A1-960D-4A9071A238ED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ctivity data for solid waste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8381880" cy="51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aste generation, composition and management dat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encourage collection and use of country-specific data (local conditions vary much; uncertainties for default data large)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gional/country-specific default data on amounts, management and waste composi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anagement data: solid waste disposal, incineration, composting and other (recycling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onsistent treatment across categor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1DAB-4436-4A13-9578-4521D8615978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ctivity data for solid wast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Default waste categories: MSW, Sludge, Industrial waste and Oth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gional defaults for MSW components (paper, food, wood, plastics, etc.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efaults for carbon contents in the different waste typ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ff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degradable organic carbon (SWDS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ff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ossil carbon (incineration, open burning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01D1-5555-4204-BC6B-A90F76CB0CD7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Arial"/>
              </a:rPr>
              <a:t>Solid waste disposa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Aft>
                <a:spcPts val="17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00"/>
                </a:solidFill>
                <a:latin typeface="Arial"/>
              </a:rPr>
              <a:t>Significant source of methan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-325800">
              <a:spcAft>
                <a:spcPts val="17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00"/>
                </a:solidFill>
                <a:latin typeface="Arial"/>
              </a:rPr>
              <a:t>Considerable time lag in emissions after disposal - taken into account in the First order decay model (revised from GPG2000; spreadsheet; can be used for all Tier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00"/>
                </a:solidFill>
                <a:latin typeface="Arial"/>
              </a:rPr>
              <a:t>default parameters provided (updated values - decay rates by climate zon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00"/>
                </a:solidFill>
                <a:latin typeface="Arial"/>
              </a:rPr>
              <a:t>default regional acitivity data (guidance how to estimate historical disposa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00"/>
                </a:solidFill>
                <a:latin typeface="Arial"/>
              </a:rPr>
              <a:t>methane recovery - guidance improve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3A1A-C6F7-4682-B073-A4556D04C239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Arial"/>
              </a:rPr>
              <a:t>Solid waste disposa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Provide data for HWP estima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00"/>
                </a:solidFill>
                <a:latin typeface="Arial"/>
              </a:rPr>
              <a:t>FOD model produces estimates on carbon storage in SW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00"/>
                </a:solidFill>
                <a:latin typeface="Arial"/>
              </a:rPr>
              <a:t>only long-term carbon storage estimate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00"/>
                </a:solidFill>
                <a:latin typeface="Arial"/>
              </a:rPr>
              <a:t>also corresponding methane estimate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00"/>
                </a:solidFill>
                <a:latin typeface="Arial"/>
              </a:rPr>
              <a:t>carbon storage taken into account in the AFOLU/HWP section =&gt; long-term carbon storage reported as an information item in the Waste secto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E998-A1F2-49FE-9538-AE5172971B47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Arial"/>
              </a:rPr>
              <a:t>Solid waste disposa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47920" y="1224000"/>
          <a:ext cx="6246720" cy="54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24000"/>
                    <a:ext cx="6246720" cy="54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B30C-07CD-4F73-9F40-4747158C375C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07:51:39Z</dcterms:created>
  <dc:creator> IGES</dc:creator>
  <dc:description/>
  <dc:language>en-US</dc:language>
  <cp:lastModifiedBy>財団法人 地球環境戦略研究機関</cp:lastModifiedBy>
  <dcterms:modified xsi:type="dcterms:W3CDTF">2006-05-17T17:33:29Z</dcterms:modified>
  <cp:revision>29</cp:revision>
  <dc:subject/>
  <dc:title>2006 IPCC Guidelines on National Greenhouse Gas Inventories</dc:title>
</cp:coreProperties>
</file>