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30A64-55E8-41D2-A8AF-F4C05E9B63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7543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402920" y="4039920"/>
            <a:ext cx="7543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50485-C3BF-4E3E-8CCE-557FA7CC0D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268600" y="141300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402920" y="40399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268600" y="40399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9E2E8-273F-4F16-8931-549CCA43D9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953520" y="141300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504480" y="141300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402920" y="403992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953520" y="403992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504480" y="403992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0026C-49DC-4E2C-A362-0649A63692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AB6D8-0095-4F1D-98D3-D1DD22C10D2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402920" y="14130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6676F-C7DB-449F-A233-5333AD6AB5B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43E62-512F-4E6A-9814-824448D9385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3681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68600" y="1413000"/>
            <a:ext cx="3681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8DBEA-13F0-497D-98E8-8BF0F0D8C24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DD1FA-DDA4-4222-A56E-7811BC64C41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218960" y="-36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EC4EE-C4B1-4C08-8669-6F151BEA440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600" y="1413000"/>
            <a:ext cx="3681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402920" y="40399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9201B-BC2A-4CD5-B2F3-9FF43B1BBD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402920" y="14130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48053-890C-42B7-B483-6A0EE2202E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3681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68600" y="141300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268600" y="40399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50CD2-CCB4-4047-BE7E-A5C68A4B857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68600" y="141300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402920" y="4039920"/>
            <a:ext cx="7543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90F53-39A3-4A2C-A312-D849A420570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7543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402920" y="4039920"/>
            <a:ext cx="7543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03655-3C0F-410E-9A40-734D50B39FB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68600" y="141300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402920" y="40399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268600" y="40399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1DDDC-27C3-4DCD-A4B4-9BD8BCC1493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953520" y="141300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04480" y="141300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402920" y="403992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953520" y="403992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504480" y="403992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B5678-1DA7-4EB9-8587-90A79B70D1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1B6AA-CCAF-4813-B9E1-273B25D530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3681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68600" y="1413000"/>
            <a:ext cx="3681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DBF5F-1D7F-4ACA-BE6D-94E8BF8098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72C0A-65B9-40F2-97E2-48CF1B9358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218960" y="-36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A9DB1-5C2B-40D9-9747-3DAB2A4A88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600" y="1413000"/>
            <a:ext cx="3681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02920" y="40399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E4546-A057-4CE3-9769-86B5A53F25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3681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68600" y="141300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268600" y="40399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2BF93-1C95-446F-B6D7-B996455D1A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68600" y="141300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02920" y="4039920"/>
            <a:ext cx="7543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8F011-B03B-4498-898F-782559F24E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85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02920" y="14130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Aft>
                <a:spcPts val="2001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Aft>
                <a:spcPts val="2001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spcAft>
                <a:spcPts val="2001"/>
              </a:spcAft>
              <a:buClr>
                <a:srgbClr val="ffff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584000" indent="-226080">
              <a:spcAft>
                <a:spcPts val="2001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36520" indent="-226080">
              <a:spcAft>
                <a:spcPts val="2001"/>
              </a:spcAft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36520" indent="-226080">
              <a:spcAft>
                <a:spcPts val="2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36520" indent="-226080">
              <a:spcAft>
                <a:spcPts val="2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61643-C0C4-4416-8373-905424C453A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rot="16200000">
            <a:off x="5172840" y="-2759760"/>
            <a:ext cx="17640" cy="79246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rot="5400000">
            <a:off x="4217760" y="2323800"/>
            <a:ext cx="17640" cy="84535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-360"/>
            <a:ext cx="903240" cy="6862680"/>
            <a:chOff x="0" y="-360"/>
            <a:chExt cx="903240" cy="6862680"/>
          </a:xfrm>
        </p:grpSpPr>
        <p:sp>
          <p:nvSpPr>
            <p:cNvPr id="6" name=""/>
            <p:cNvSpPr/>
            <p:nvPr/>
          </p:nvSpPr>
          <p:spPr>
            <a:xfrm rot="16200000">
              <a:off x="-2976480" y="2978640"/>
              <a:ext cx="6859080" cy="900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f85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16200000">
              <a:off x="-3198960" y="3199680"/>
              <a:ext cx="685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 Unicode"/>
                  <a:ea typeface="MS PGothic"/>
                </a:rPr>
                <a:t>INTERGOVERNMENTAL PANEL ON CLIMATE CHANG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6200000">
              <a:off x="-2966760" y="3317760"/>
              <a:ext cx="6857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NATIONAL GREENHOUSE GAS INVENTORIES PROGRAMM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>
              <a:off x="822960" y="-360"/>
              <a:ext cx="0" cy="685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" name=""/>
            <p:cNvGrpSpPr/>
            <p:nvPr/>
          </p:nvGrpSpPr>
          <p:grpSpPr>
            <a:xfrm>
              <a:off x="36720" y="6187320"/>
              <a:ext cx="771120" cy="647640"/>
              <a:chOff x="36720" y="6187320"/>
              <a:chExt cx="771120" cy="647640"/>
            </a:xfrm>
          </p:grpSpPr>
          <p:pic>
            <p:nvPicPr>
              <p:cNvPr id="11" name="" descr=""/>
              <p:cNvPicPr/>
              <p:nvPr/>
            </p:nvPicPr>
            <p:blipFill>
              <a:blip r:embed="rId4"/>
              <a:stretch/>
            </p:blipFill>
            <p:spPr>
              <a:xfrm rot="16200000">
                <a:off x="47160" y="6226200"/>
                <a:ext cx="54072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" name=""/>
              <p:cNvSpPr/>
              <p:nvPr/>
            </p:nvSpPr>
            <p:spPr>
              <a:xfrm rot="16200000">
                <a:off x="345600" y="6372720"/>
                <a:ext cx="647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spcBef>
                    <a:spcPts val="751"/>
                  </a:spcBef>
                  <a:spcAft>
                    <a:spcPts val="75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WM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36720" y="84600"/>
              <a:ext cx="780120" cy="647640"/>
              <a:chOff x="36720" y="84600"/>
              <a:chExt cx="780120" cy="647640"/>
            </a:xfrm>
          </p:grpSpPr>
          <p:pic>
            <p:nvPicPr>
              <p:cNvPr id="14" name="" descr=""/>
              <p:cNvPicPr/>
              <p:nvPr/>
            </p:nvPicPr>
            <p:blipFill>
              <a:blip r:embed="rId5"/>
              <a:stretch/>
            </p:blipFill>
            <p:spPr>
              <a:xfrm rot="16200000">
                <a:off x="9000" y="162720"/>
                <a:ext cx="540360" cy="48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" name=""/>
              <p:cNvSpPr/>
              <p:nvPr/>
            </p:nvSpPr>
            <p:spPr>
              <a:xfrm rot="16200000">
                <a:off x="354600" y="270000"/>
                <a:ext cx="647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spcBef>
                    <a:spcPts val="751"/>
                  </a:spcBef>
                  <a:spcAft>
                    <a:spcPts val="75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UNE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85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1155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f85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280" y="21333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ldNum" idx="2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DF897-C46F-4EB1-979B-B945740CBA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7164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47920" y="1676520"/>
            <a:ext cx="76960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1646280" y="25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-1646280" y="25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0" y="0"/>
            <a:ext cx="9144000" cy="1060200"/>
            <a:chOff x="0" y="0"/>
            <a:chExt cx="9144000" cy="1060200"/>
          </a:xfrm>
        </p:grpSpPr>
        <p:sp>
          <p:nvSpPr>
            <p:cNvPr id="62" name=""/>
            <p:cNvSpPr/>
            <p:nvPr/>
          </p:nvSpPr>
          <p:spPr>
            <a:xfrm>
              <a:off x="0" y="0"/>
              <a:ext cx="914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Sans Unicode"/>
                  <a:ea typeface="MS PGothic"/>
                </a:rPr>
                <a:t>INTERGOVERNMENTAL PANEL ON CLIMATE CHANGE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444600"/>
              <a:ext cx="914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NATIONAL GREENHOUSE GAS INVENTORIES PROGRAM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105264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36360" y="44280"/>
              <a:ext cx="863640" cy="1010880"/>
              <a:chOff x="36360" y="44280"/>
              <a:chExt cx="863640" cy="1010880"/>
            </a:xfrm>
          </p:grpSpPr>
          <p:pic>
            <p:nvPicPr>
              <p:cNvPr id="6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07640" y="44280"/>
                <a:ext cx="720720" cy="72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"/>
              <p:cNvSpPr/>
              <p:nvPr/>
            </p:nvSpPr>
            <p:spPr>
              <a:xfrm>
                <a:off x="36360" y="686880"/>
                <a:ext cx="86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spcBef>
                    <a:spcPts val="1125"/>
                  </a:spcBef>
                  <a:spcAft>
                    <a:spcPts val="1125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WM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8172360" y="44280"/>
              <a:ext cx="863640" cy="1015920"/>
              <a:chOff x="8172360" y="44280"/>
              <a:chExt cx="863640" cy="1015920"/>
            </a:xfrm>
          </p:grpSpPr>
          <p:pic>
            <p:nvPicPr>
              <p:cNvPr id="6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243640" y="44280"/>
                <a:ext cx="720720" cy="622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" name=""/>
              <p:cNvSpPr/>
              <p:nvPr/>
            </p:nvSpPr>
            <p:spPr>
              <a:xfrm>
                <a:off x="8172360" y="691920"/>
                <a:ext cx="86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spcBef>
                    <a:spcPts val="1125"/>
                  </a:spcBef>
                  <a:spcAft>
                    <a:spcPts val="1125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UNE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1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914400" algn="ctr">
              <a:spcAft>
                <a:spcPts val="1500"/>
              </a:spcAft>
              <a:buClr>
                <a:srgbClr val="ffff00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3" marL="1371600" algn="ctr">
              <a:spcAft>
                <a:spcPts val="1250"/>
              </a:spcAft>
              <a:buClr>
                <a:srgbClr val="ffff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4" marL="1828800" algn="ctr">
              <a:spcAft>
                <a:spcPts val="1250"/>
              </a:spcAft>
              <a:buClr>
                <a:srgbClr val="ffff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85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280" y="2437920"/>
            <a:ext cx="81723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Volume I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eneral Guidance and Reporting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71280" y="4800240"/>
            <a:ext cx="8172360" cy="13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Arial"/>
              </a:rPr>
              <a:t>Bonn, 18 may 2006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Arial"/>
              </a:rPr>
              <a:t>Newton Paciornik</a:t>
            </a:r>
            <a:br>
              <a:rPr sz="1600"/>
            </a:br>
            <a:r>
              <a:rPr b="0" lang="en-GB" sz="1600" spc="-1" strike="noStrike">
                <a:solidFill>
                  <a:srgbClr val="ffff00"/>
                </a:solidFill>
                <a:latin typeface="Arial"/>
              </a:rPr>
              <a:t>Ministry of Science and Technology of Brazil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85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mpiling an Inventory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eneral Guidanc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2001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Key category analysi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Aft>
                <a:spcPts val="174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Basis for methodological choice and prioritizing resourc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Aft>
                <a:spcPts val="174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General approach (level and trend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Aft>
                <a:spcPts val="1500"/>
              </a:spcAft>
              <a:buClr>
                <a:srgbClr val="ffff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Guidance on disaggregation lev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Aft>
                <a:spcPts val="174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Approach 1 (level contribution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Aft>
                <a:spcPts val="174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Approach 2 (level +uncertainty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Aft>
                <a:spcPts val="174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Qualitative criteri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994CD-C9BA-47AB-85ED-6CD0229C3BF1}" type="slidenum">
              <a:t>10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85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mpiling an Inventory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eneral Guidanc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2001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ime series consistenc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Aft>
                <a:spcPts val="174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ethods for ensuring time-series consistency in cases where it is not possible to use the same method/data for the entire perio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Aft>
                <a:spcPts val="174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uidance in recalculation of estimates for previous year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Aft>
                <a:spcPts val="174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solving data gap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AB1D6-C64C-4FB6-9C47-EE7DE922BF5A}" type="slidenum">
              <a:t>11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85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mpiling an Inventory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eneral Guidanc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2001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Quality assurance/Quality contro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74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veloping a QA/QC pla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74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QC procedur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1500"/>
              </a:spcAft>
              <a:buClr>
                <a:srgbClr val="ffff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ssess and maintain quality during inventory compilatio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74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QA procedur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1500"/>
              </a:spcAft>
              <a:buClr>
                <a:srgbClr val="ffff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view procedures by external personn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74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Verification procedures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1500"/>
              </a:spcAft>
              <a:buClr>
                <a:srgbClr val="ffff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ternal methods and dat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60A6D-1030-4267-9EEB-68599FC35B39}" type="slidenum">
              <a:t>12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85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mpiling an Inventory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eneral Guidanc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2001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Precursors and indirect N</a:t>
            </a:r>
            <a:r>
              <a:rPr b="0" lang="en-GB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Aft>
                <a:spcPts val="174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Cross-sectoral guidanc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Aft>
                <a:spcPts val="174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Link to EMEP/Corinai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Aft>
                <a:spcPts val="174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Indirect N</a:t>
            </a:r>
            <a:r>
              <a:rPr b="0" lang="en-GB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O from atmospheric deposition of NO</a:t>
            </a:r>
            <a:r>
              <a:rPr b="0" lang="en-GB" sz="28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 and NH</a:t>
            </a:r>
            <a:r>
              <a:rPr b="0" lang="en-GB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BB73E-87F4-4C0D-817B-D5F3E6C831E1}" type="slidenum">
              <a:t>13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85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mpiling an Inventory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eneral Guidanc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2001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porting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74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verage – category defini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74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tation key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74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nits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74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porting tabl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1500"/>
              </a:spcAft>
              <a:buClr>
                <a:srgbClr val="ffff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nnual inventory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1500"/>
              </a:spcAft>
              <a:buClr>
                <a:srgbClr val="ffff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rend tables by ga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1500"/>
              </a:spcAft>
              <a:buClr>
                <a:srgbClr val="ffff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ncertainties and key categories tabl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6CB29-4102-4689-84D8-0BD217188B47}" type="slidenum">
              <a:t>14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85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General Guidance Developmen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02920" y="1219320"/>
            <a:ext cx="75438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Aft>
                <a:spcPts val="2001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uilt on GPG 2000 and GPG LULUCF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Aft>
                <a:spcPts val="174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Quantifying uncertainties in practic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Aft>
                <a:spcPts val="174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ethodological choice (key sources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Aft>
                <a:spcPts val="174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calcul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Aft>
                <a:spcPts val="174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Quality Control / Quality Assuranc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Aft>
                <a:spcPts val="2001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006 Guidelin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Aft>
                <a:spcPts val="174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troductory section on GHG inventories  and steps needed for prepar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Aft>
                <a:spcPts val="174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tended advice on data collec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E5F2F-C5AB-44F9-8553-06BA7091E26A}" type="slidenum">
              <a:t>2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85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ventory Quality – Good Practic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02920" y="1219320"/>
            <a:ext cx="75438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Aft>
                <a:spcPts val="2001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ransparenc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Aft>
                <a:spcPts val="174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ufficient and clear document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Aft>
                <a:spcPts val="1500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ossible replication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Aft>
                <a:spcPts val="2001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pletenes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Aft>
                <a:spcPts val="174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ll categories of sources and sink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Aft>
                <a:spcPts val="174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ll gas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Aft>
                <a:spcPts val="174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eographical coverag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Aft>
                <a:spcPts val="174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issing elements clearly documented and justifie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BA1B9-C175-42A9-B60F-7EFFA0B522A2}" type="slidenum">
              <a:t>3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85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ventory Quality – Good Practic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2001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sistenc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74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fferences between different years estimations should reflect real chang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74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areful treatment of methodological chang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001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parability (among countries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74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assification and definition of categories of emissions and removal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74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se of reporting guidance and tabl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A093C-19A3-45A3-86C6-2E9079F00E9E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85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ventory Quality – Good Practic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2001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ccurac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Aft>
                <a:spcPts val="174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missions and removals are neither over- nor underestimates so far as can be judged and in which uncertainties are reduced as far as practicabl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DB391-935C-4FD5-B6E2-3DECF7C6AAE5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85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stimation Methods – Basic concept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2001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ier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Aft>
                <a:spcPts val="174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ethods are presented in 3 tier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Aft>
                <a:spcPts val="1500"/>
              </a:spcAft>
              <a:buClr>
                <a:srgbClr val="ffff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ier 1 – Basic method using available national and international statistics and default emission factor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Aft>
                <a:spcPts val="1500"/>
              </a:spcAft>
              <a:buClr>
                <a:srgbClr val="ffff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ier 2 – Intermediate method using country specific dat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Aft>
                <a:spcPts val="1500"/>
              </a:spcAft>
              <a:buClr>
                <a:srgbClr val="ffff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ier 3 – Higher complexity methods with more demanding data requirements and generally more accurat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B0D91-E102-4AC6-B1CC-69C3E4594898}" type="slidenum">
              <a:t>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85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stimation methods – Basic concept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2001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Key categories approach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Aft>
                <a:spcPts val="174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sed to identify categories that have a significant influence on a country’s GHG inventory in terms of  level, trend or uncertainty of emissions and removal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Aft>
                <a:spcPts val="2001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cision tre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Aft>
                <a:spcPts val="174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elp in selection of appropriate tiered methodology based on assessment of key categories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B36CB-8CFC-4A45-93D8-2959301235E0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85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mpiling an Inventory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eneral Guidanc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2001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ata collec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74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ata collection planning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74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sing existing dat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74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enerating new dat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74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mission factors and direct measuremen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74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ctivity dat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74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pert elicitation and survey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AA662-E972-415F-A754-8119979E2BA6}" type="slidenum">
              <a:t>8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85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mpiling an Inventory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eneral Guidanc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2001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ncertainty assessmen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Aft>
                <a:spcPts val="174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nceptual basi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Aft>
                <a:spcPts val="174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auses of uncertaint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Aft>
                <a:spcPts val="174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ducing uncertaint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Aft>
                <a:spcPts val="174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Quantifying uncertainti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Aft>
                <a:spcPts val="174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bining uncertainti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66F83-7CA0-4517-BCD5-FD393D2DCCFE}" type="slidenum">
              <a:t>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5T07:51:39Z</dcterms:created>
  <dc:creator> IGES</dc:creator>
  <dc:description/>
  <dc:language>en-US</dc:language>
  <cp:lastModifiedBy>UNFCCC</cp:lastModifiedBy>
  <dcterms:modified xsi:type="dcterms:W3CDTF">2006-05-17T08:41:30Z</dcterms:modified>
  <cp:revision>32</cp:revision>
  <dc:subject/>
  <dc:title>2006 IPCC Guidelines on National Greenhouse Gas Inventories</dc:title>
</cp:coreProperties>
</file>