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4DA0-4138-4459-A3B0-E60E4243F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D3A9-E2C3-48F6-A05C-EAB39AD73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5EC9-DC1E-4B1A-B835-87F7FA0A9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794B-26D7-43BE-87D1-E3C4D251C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5DFF-6988-4953-86DF-5690F7ED6E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0AF9-194C-40D2-84F8-A281A4506A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9FCB-27F7-42D6-AEA6-CF14B10A3E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5343-41EF-42A4-8F14-CE4820AD9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9CB8-A716-42DD-9BFB-1E3EF8488B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BFE4-B8EE-49D5-BEA7-C3CA914836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DC46-6CFC-41A6-8FB6-63CE2E952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DBE6-E2B2-4C1B-847F-3724E248A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D731-8511-41C1-94FA-0F1B585EE2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D5C1-6101-4DDD-ACE7-BD4978BD62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7ABB-4EEF-4DD2-8C63-CE8A407C35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5A58-5BD1-4B58-939E-19851EF9CE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5352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4480" y="141300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4029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5352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04480" y="40399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1291-16E3-4FE2-8401-D7D19AE31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A888-671C-4305-8086-B2079232A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F15F-9E30-4BE9-B6C4-53F62885E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9333-AC5C-43E2-B67F-A74123C8B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9283-FD2F-49F9-BACC-E9D48D7CD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D3A1-B4FB-46AD-ABBC-A17ED94D8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8600" y="40399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D0E6-E97C-4338-A8C4-96ECE44CB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600" y="141300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2920" y="40399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3705-835F-4B3E-A8E5-DBE83C182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Aft>
                <a:spcPts val="20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Aft>
                <a:spcPts val="2001"/>
              </a:spcAft>
              <a:buClr>
                <a:srgbClr val="ffff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Aft>
                <a:spcPts val="2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Aft>
                <a:spcPts val="2001"/>
              </a:spcAft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BED1-90BA-4A8E-9144-07ED9B17F3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5172840" y="-2759760"/>
            <a:ext cx="17640" cy="792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217760" y="2323800"/>
            <a:ext cx="17640" cy="845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-360"/>
            <a:ext cx="903240" cy="6862680"/>
            <a:chOff x="0" y="-360"/>
            <a:chExt cx="903240" cy="6862680"/>
          </a:xfrm>
        </p:grpSpPr>
        <p:sp>
          <p:nvSpPr>
            <p:cNvPr id="6" name=""/>
            <p:cNvSpPr/>
            <p:nvPr/>
          </p:nvSpPr>
          <p:spPr>
            <a:xfrm rot="16200000">
              <a:off x="-2976480" y="2978640"/>
              <a:ext cx="6859080" cy="9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85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-3198960" y="319968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-2966760" y="3317760"/>
              <a:ext cx="6857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22960" y="-360"/>
              <a:ext cx="0" cy="68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36720" y="6187320"/>
              <a:ext cx="771120" cy="647640"/>
              <a:chOff x="36720" y="6187320"/>
              <a:chExt cx="771120" cy="647640"/>
            </a:xfrm>
          </p:grpSpPr>
          <p:pic>
            <p:nvPicPr>
              <p:cNvPr id="11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47160" y="6226200"/>
                <a:ext cx="54072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 rot="16200000">
                <a:off x="345600" y="637272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36720" y="84600"/>
              <a:ext cx="780120" cy="647640"/>
              <a:chOff x="36720" y="84600"/>
              <a:chExt cx="780120" cy="647640"/>
            </a:xfrm>
          </p:grpSpPr>
          <p:pic>
            <p:nvPicPr>
              <p:cNvPr id="14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9000" y="162720"/>
                <a:ext cx="540360" cy="48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"/>
              <p:cNvSpPr/>
              <p:nvPr/>
            </p:nvSpPr>
            <p:spPr>
              <a:xfrm rot="16200000">
                <a:off x="354600" y="270000"/>
                <a:ext cx="6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751"/>
                  </a:spcBef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85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AA8C-712A-43D2-BD12-388E30D66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676520"/>
            <a:ext cx="769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646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1060200"/>
            <a:chOff x="0" y="0"/>
            <a:chExt cx="9144000" cy="10602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Lucida Sans Unicode"/>
                  <a:ea typeface="MS PGothic"/>
                </a:rPr>
                <a:t>INTERGOVERNMENTAL PANEL ON CLIMATE CHANGE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4460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ATIONAL GREENHOUSE GAS INVENTORIES PROGRAM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6360" y="44280"/>
              <a:ext cx="863640" cy="1010880"/>
              <a:chOff x="36360" y="44280"/>
              <a:chExt cx="863640" cy="1010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640" y="44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36360" y="68688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W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172360" y="44280"/>
              <a:ext cx="863640" cy="1015920"/>
              <a:chOff x="8172360" y="44280"/>
              <a:chExt cx="863640" cy="101592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43640" y="44280"/>
                <a:ext cx="720720" cy="6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8172360" y="69192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1125"/>
                  </a:spcBef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UN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Aft>
                <a:spcPts val="1500"/>
              </a:spcAft>
              <a:buClr>
                <a:srgbClr val="ffff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Aft>
                <a:spcPts val="1250"/>
              </a:spcAft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Aft>
                <a:spcPts val="1250"/>
              </a:spcAft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’s New in the Energy Volum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8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PCC 2006 Guideli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00600"/>
            <a:ext cx="8172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Bonn, 18 ma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inus Pulles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NO,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4581360"/>
            <a:ext cx="504000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r. Tinus Pu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NO, the Netherland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inus.Pulles@tno.n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hone: +31 55 549 3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“real” changes since the revised 1996 Guidelin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’s new?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2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ear separation of Sectoral Approach and Reference Approac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2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ear treatment of non-energy use of fuel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2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w chapter on CO2 Capture and Sto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2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s for abandoned coal min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2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w methodologies and emission factors to reflect developing country circumstances as wel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2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roved decision trees facilitating more accurate emission estim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Aft>
                <a:spcPts val="2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information for all default valu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ergy sector 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The energy sector comprise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宋体"/>
              </a:rPr>
              <a:t>fugitive emissions during exploration, exploitation of primary energy sources,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宋体"/>
              </a:rPr>
              <a:t>conversion of primary energy sources into more useable energy forms in refineries and power pla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宋体"/>
              </a:rPr>
              <a:t>transmission and distribution of fuel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宋体"/>
              </a:rPr>
              <a:t>use of fuels in stationary and mobile application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4011840" cy="568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certainty inform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alphaModFix amt="90000"/>
          </a:blip>
          <a:srcRect l="-2649" t="0" r="0" b="3845"/>
          <a:stretch/>
        </p:blipFill>
        <p:spPr>
          <a:xfrm>
            <a:off x="357120" y="2135160"/>
            <a:ext cx="8426520" cy="36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44920" y="1353960"/>
            <a:ext cx="914400" cy="690840"/>
          </a:xfrm>
          <a:prstGeom prst="borderCallout2">
            <a:avLst>
              <a:gd name="adj1" fmla="val 18750"/>
              <a:gd name="adj2" fmla="val -8333"/>
              <a:gd name="adj3" fmla="val 16550"/>
              <a:gd name="adj4" fmla="val 328995"/>
              <a:gd name="adj5" fmla="val 380921"/>
              <a:gd name="adj6" fmla="val 396009"/>
            </a:avLst>
          </a:prstGeom>
          <a:solidFill>
            <a:srgbClr val="00cc99"/>
          </a:solidFill>
          <a:ln w="28440">
            <a:solidFill>
              <a:srgbClr val="00cc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in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59280" y="4005360"/>
            <a:ext cx="2555640" cy="23763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859280" y="765000"/>
            <a:ext cx="3240000" cy="3256200"/>
            <a:chOff x="4859280" y="765000"/>
            <a:chExt cx="3240000" cy="3256200"/>
          </a:xfrm>
        </p:grpSpPr>
        <p:sp>
          <p:nvSpPr>
            <p:cNvPr id="122" name=""/>
            <p:cNvSpPr/>
            <p:nvPr/>
          </p:nvSpPr>
          <p:spPr>
            <a:xfrm rot="5400000">
              <a:off x="7235640" y="3157560"/>
              <a:ext cx="863640" cy="863280"/>
            </a:xfrm>
            <a:custGeom>
              <a:avLst/>
              <a:gdLst>
                <a:gd name="textAreaLeft" fmla="*/ 551880 w 863640"/>
                <a:gd name="textAreaRight" fmla="*/ 864000 w 863640"/>
                <a:gd name="textAreaTop" fmla="*/ 22320 h 863280"/>
                <a:gd name="textAreaBottom" fmla="*/ 840960 h 86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451"/>
                  </a:lnTo>
                  <a:cubicBezTo>
                    <a:pt x="10800" y="8351"/>
                    <a:pt x="5400" y="9251"/>
                    <a:pt x="0" y="9251"/>
                  </a:cubicBezTo>
                  <a:cubicBezTo>
                    <a:pt x="5400" y="9251"/>
                    <a:pt x="10800" y="10151"/>
                    <a:pt x="10800" y="110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9280" y="765000"/>
              <a:ext cx="1563840" cy="376560"/>
            </a:xfrm>
            <a:prstGeom prst="borderCallout2">
              <a:avLst>
                <a:gd name="adj1" fmla="val 18750"/>
                <a:gd name="adj2" fmla="val -8333"/>
                <a:gd name="adj3" fmla="val 30379"/>
                <a:gd name="adj4" fmla="val 169337"/>
                <a:gd name="adj5" fmla="val 632912"/>
                <a:gd name="adj6" fmla="val 184365"/>
              </a:avLst>
            </a:prstGeom>
            <a:solidFill>
              <a:srgbClr val="00cc99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certain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3768840"/>
                <a:tab algn="r" pos="763128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ctoral Approach”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vs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“Reference Approach”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03280" y="1413000"/>
          <a:ext cx="7543800" cy="50292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8200" indent="-268200"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Estimate to be included in national inven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54a50"/>
                        </a:gs>
                        <a:gs pos="100000">
                          <a:srgbClr val="5f859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8200" indent="-268200"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Part of QA/Q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8200" indent="-268200"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Independent check of the sectoral appro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54a50"/>
                        </a:gs>
                        <a:gs pos="100000">
                          <a:srgbClr val="5f8591"/>
                        </a:gs>
                      </a:gsLst>
                      <a:lin ang="13500000"/>
                    </a:gradFill>
                  </a:tcPr>
                </a:tc>
              </a:tr>
              <a:tr h="19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Fuel used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 Emission 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Aft>
                          <a:spcPts val="1125"/>
                        </a:spcAft>
                        <a:buClr>
                          <a:srgbClr val="ffff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Ti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Aft>
                          <a:spcPts val="1125"/>
                        </a:spcAft>
                        <a:buClr>
                          <a:srgbClr val="ffff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Ti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Aft>
                          <a:spcPts val="1125"/>
                        </a:spcAft>
                        <a:buClr>
                          <a:srgbClr val="ffff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Tie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54a50"/>
                        </a:gs>
                        <a:gs pos="100000">
                          <a:srgbClr val="5f8591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8200" indent="-268200"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National Carbon balance, based on (primary) fuel combustion and international trade (imports, exports) with correct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54a50"/>
                        </a:gs>
                        <a:gs pos="100000">
                          <a:srgbClr val="5f8591"/>
                        </a:gs>
                      </a:gsLst>
                      <a:lin ang="8100000"/>
                    </a:gradFill>
                  </a:tcPr>
                </a:tc>
              </a:tr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All g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54a50"/>
                        </a:gs>
                        <a:gs pos="100000">
                          <a:srgbClr val="5f859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buClr>
                          <a:srgbClr val="ffff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MS PGothic"/>
                        </a:rPr>
                        <a:t>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54a50"/>
                        </a:gs>
                        <a:gs pos="100000">
                          <a:srgbClr val="5f8591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987640" y="3645000"/>
            <a:ext cx="576360" cy="1224000"/>
          </a:xfrm>
          <a:prstGeom prst="triangle">
            <a:avLst>
              <a:gd name="adj" fmla="val 220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95640" y="3645000"/>
            <a:ext cx="576360" cy="1224000"/>
          </a:xfrm>
          <a:prstGeom prst="triangle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Energy use of Fue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definition: Non-Energy Use is not dealt with in “Energy” but in “Industrial Processes and Product Use”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toral Approach uses “Fuel Combusted”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rrection for Non-Energy Use is implemented in the Reference Approach to deal with the carbon stored in produc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2006GLs would help segregate energy and non-energy emissions from sectors such as iron and steel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2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ptur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nd Stor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alphaModFix amt="85000"/>
          </a:blip>
          <a:srcRect l="0" t="-1533" r="-15831" b="0"/>
          <a:stretch/>
        </p:blipFill>
        <p:spPr>
          <a:xfrm>
            <a:off x="358920" y="1557360"/>
            <a:ext cx="8426160" cy="4560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484280"/>
            <a:ext cx="3276720" cy="3313080"/>
          </a:xfrm>
          <a:prstGeom prst="irregularSeal2">
            <a:avLst/>
          </a:prstGeom>
          <a:solidFill>
            <a:srgbClr val="00cc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869000"/>
            <a:ext cx="2736720" cy="1296720"/>
          </a:xfrm>
          <a:prstGeom prst="irregularSeal2">
            <a:avLst/>
          </a:prstGeom>
          <a:solidFill>
            <a:srgbClr val="00cc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565360"/>
            <a:ext cx="2340000" cy="2519280"/>
          </a:xfrm>
          <a:prstGeom prst="irregularSeal2">
            <a:avLst/>
          </a:prstGeom>
          <a:solidFill>
            <a:srgbClr val="00cc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2 Capture and (Transport &amp;)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alphaModFix amt="85000"/>
          </a:blip>
          <a:srcRect l="0" t="0" r="7495" b="5713"/>
          <a:stretch/>
        </p:blipFill>
        <p:spPr>
          <a:xfrm>
            <a:off x="611280" y="1147680"/>
            <a:ext cx="7846920" cy="5202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2360" y="3249720"/>
            <a:ext cx="4824720" cy="466560"/>
          </a:xfrm>
          <a:prstGeom prst="rect">
            <a:avLst/>
          </a:prstGeom>
          <a:solidFill>
            <a:srgbClr val="00cc99">
              <a:alpha val="25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5013360"/>
            <a:ext cx="4824720" cy="287280"/>
          </a:xfrm>
          <a:prstGeom prst="rect">
            <a:avLst/>
          </a:prstGeom>
          <a:solidFill>
            <a:srgbClr val="00cc99">
              <a:alpha val="25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5573880"/>
            <a:ext cx="4824720" cy="360360"/>
          </a:xfrm>
          <a:prstGeom prst="rect">
            <a:avLst/>
          </a:prstGeom>
          <a:solidFill>
            <a:srgbClr val="00cc99">
              <a:alpha val="25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5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bandoned Coal Min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Closed, or abandoned, underground coal mines may continue to be a source of greenhouse gas emissions for some time;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ier 1 and Tier 2 methods, based on a database of abandoned mines are provided and default emisison factors are give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4:21:47Z</dcterms:created>
  <dc:creator>Tinus Pulles</dc:creator>
  <dc:description/>
  <dc:language>en-US</dc:language>
  <cp:lastModifiedBy>Tinus Pulles</cp:lastModifiedBy>
  <dcterms:modified xsi:type="dcterms:W3CDTF">2006-05-18T06:36:08Z</dcterms:modified>
  <cp:revision>12</cp:revision>
  <dc:subject/>
  <dc:title>What’s New in the Energy Volume</dc:title>
</cp:coreProperties>
</file>