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13A3-392E-477B-9926-3D00F19D4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8B81-D017-4BA6-B922-1BF70618F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BF03-E98E-4DD0-B84A-38A41CDEE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8BAA-9E8E-42B5-8191-C36156AD3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CC59-518B-415B-8A56-B2AC69163B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F9AB-AD67-4B43-BB05-990139B10D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4A7E-CFBB-40EB-8715-8530E8D16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A167-3312-4224-9B8F-718BFE18BD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C98F-FE10-4FF3-B37E-0846656D45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2A7E-C253-4F29-9516-C1BF4C5B03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B0D6-0C7B-4319-A76B-AF0D38B4A2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1A4F-E026-46E3-B6FE-C7EEEB26B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17EE-3595-403A-A31A-7AC8E7A5D2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D4D1-FCA2-426D-A2FB-4ADE9E8A01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6BF8-2E48-483D-B494-6420595914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9C35-BE09-47DC-BC57-41BAE8300E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BC05-8BB3-406A-80DE-1AE9FE9288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33D1-C337-4516-BD91-F6A1F22A0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6261-2C53-4DCA-9B3E-4ED6FB6A8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4420-48FB-4DDD-BC35-986D6B514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29FB-1EA1-4F9C-AEAB-3C571721F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8069-B429-49A4-B7B8-A496BDB3E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1390-3050-4D7A-AF3A-02F11BBE9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D93C-5B70-414A-93FD-C12E93810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Aft>
                <a:spcPts val="20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Aft>
                <a:spcPts val="2001"/>
              </a:spcAft>
              <a:buClr>
                <a:srgbClr val="ffff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Aft>
                <a:spcPts val="2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Aft>
                <a:spcPts val="2001"/>
              </a:spcAft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D208-D92F-4567-B5BF-7FFB1EDF15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5172840" y="-2759760"/>
            <a:ext cx="17640" cy="792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4217760" y="2323800"/>
            <a:ext cx="17640" cy="845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-360"/>
            <a:ext cx="903240" cy="6862680"/>
            <a:chOff x="0" y="-360"/>
            <a:chExt cx="903240" cy="6862680"/>
          </a:xfrm>
        </p:grpSpPr>
        <p:sp>
          <p:nvSpPr>
            <p:cNvPr id="6" name=""/>
            <p:cNvSpPr/>
            <p:nvPr/>
          </p:nvSpPr>
          <p:spPr>
            <a:xfrm rot="16200000">
              <a:off x="-2976480" y="2978640"/>
              <a:ext cx="6859080" cy="9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85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-3198960" y="319968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-2966760" y="3317760"/>
              <a:ext cx="6857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22960" y="-360"/>
              <a:ext cx="0" cy="68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36720" y="6187320"/>
              <a:ext cx="771120" cy="647640"/>
              <a:chOff x="36720" y="6187320"/>
              <a:chExt cx="771120" cy="647640"/>
            </a:xfrm>
          </p:grpSpPr>
          <p:pic>
            <p:nvPicPr>
              <p:cNvPr id="11" name="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47160" y="6226200"/>
                <a:ext cx="54072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"/>
              <p:cNvSpPr/>
              <p:nvPr/>
            </p:nvSpPr>
            <p:spPr>
              <a:xfrm rot="16200000">
                <a:off x="345600" y="637272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36720" y="84600"/>
              <a:ext cx="780120" cy="647640"/>
              <a:chOff x="36720" y="84600"/>
              <a:chExt cx="780120" cy="647640"/>
            </a:xfrm>
          </p:grpSpPr>
          <p:pic>
            <p:nvPicPr>
              <p:cNvPr id="14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9000" y="162720"/>
                <a:ext cx="540360" cy="48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" name=""/>
              <p:cNvSpPr/>
              <p:nvPr/>
            </p:nvSpPr>
            <p:spPr>
              <a:xfrm rot="16200000">
                <a:off x="354600" y="27000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5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85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6188-6092-40AF-9649-D80ED8C53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676520"/>
            <a:ext cx="769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1060200"/>
            <a:chOff x="0" y="0"/>
            <a:chExt cx="9144000" cy="10602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4460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6360" y="44280"/>
              <a:ext cx="863640" cy="1010880"/>
              <a:chOff x="36360" y="44280"/>
              <a:chExt cx="863640" cy="1010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640" y="44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36360" y="68688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172360" y="44280"/>
              <a:ext cx="863640" cy="1015920"/>
              <a:chOff x="8172360" y="44280"/>
              <a:chExt cx="863640" cy="101592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43640" y="44280"/>
                <a:ext cx="720720" cy="62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8172360" y="69192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Aft>
                <a:spcPts val="1250"/>
              </a:spcAft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Aft>
                <a:spcPts val="1250"/>
              </a:spcAft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322720"/>
            <a:ext cx="8172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2006 IPCC Guidelines - Overview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5640" y="3860280"/>
            <a:ext cx="78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im Penma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ering Group Member (UK Defra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ECD initiation (1992) =&gt; IPPC 1995 guidelines, updated 199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1996 Guidelines adopted at COP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pplemented by GPG in 2000 and 200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ystem adapted to actual needs - very widely us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asis for 2006 Guidelines requested by SBSTA17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tructure of 2006 Guidelin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im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ationalise structure by reducing number of volumes needed for cross referenc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mote consistency between sect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sulting structure agreed at IPCC 21 (Vienna 2003)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Volume structure 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l 1 -   General Guidance and Repor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l 2 -   Energ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l 3 -   Industrial Processes and Product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l 4 -   Agriculture, Forestry and Other Land u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l 5 - W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volution – users recognise familiar method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 with GPG basic principles for 2006 GL rem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1) estimates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neither under nor overestimates so far as can be judg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) uncertainties reduced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as far as practi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nce efficient use of resour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ver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s in IPCC 96 Guidelines, plus notably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ll GHG with available GWP val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dditional gases  that could be used as substitutes for which GWPs not yet calcula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arbon dioxide capture an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ethane from abandoned min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ther developm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neral guidance more prominent and new simple introduction to inventories introduc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naged land a proxy for anthropogen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ctual annual estimate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rect emissions estimation introduc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lationship between carbon pools clarifi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sistent approach to indirect N, not just agricultural sour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uld be relevant at project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licy Relev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006 Guidelines are IPCC’s best, most internally consistent assessment of inventory sci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y are an evolutionary development from the 96 Guidelines plus GPG and (personal view) could be used in a manner consistent with the existing Guid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iming of adoption clearly a matter for Part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4:20:59Z</dcterms:created>
  <dc:creator> IGES</dc:creator>
  <dc:description/>
  <dc:language>en-US</dc:language>
  <cp:lastModifiedBy>財団法人 地球環境戦略研究機関</cp:lastModifiedBy>
  <dcterms:modified xsi:type="dcterms:W3CDTF">2006-05-18T06:31:04Z</dcterms:modified>
  <cp:revision>19</cp:revision>
  <dc:subject/>
  <dc:title>IPCC 2006 Guidelines for National Greenhouse Gas Inventories</dc:title>
</cp:coreProperties>
</file>