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3B48-F4E4-40B9-AB8F-E17603C8CB51}" type="slidenum">
              <a:rPr b="0" lang="ja-JP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A6F9-D55F-4121-BC4D-68ED29A7483C}" type="slidenum">
              <a:rPr b="0" lang="ja-JP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31840" y="7034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3760" y="4361040"/>
            <a:ext cx="501048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D118B-05D1-4B06-8E52-4FB78E0DE0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402920" y="403992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61F48-B955-4DDC-9BBE-74BCDDBE7F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6860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402920" y="40399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68600" y="40399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6DC3C-6331-429C-899E-1B3F69F949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53520" y="141300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04480" y="141300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402920" y="40399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53520" y="40399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04480" y="40399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6E9F4-2D34-4394-A192-DC72F30744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F344C-B468-490E-8F6B-768EDBA206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59C57-86C9-4830-A7C0-A62D7C6C64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01F65-A2AB-4A4F-9EF6-C52F52A649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68600" y="141300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762E8-4681-4781-9174-011D787501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31C49-0514-4BB1-8AC4-DE6457660C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218960" y="-36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55A0A-9E7A-4B45-B6E1-5EF860C869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600" y="141300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02920" y="40399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26451-3B6C-423B-AED5-8D2201FE56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3CDA1-87AF-48A0-9FDD-9A1AA30154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60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68600" y="40399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AA303-9F1B-4E0C-8DC1-202604930C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6860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402920" y="403992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6EDD5-5DB6-4169-84CF-892E957575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402920" y="403992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6E6B0-0760-4C01-ADE8-9FC94A56CD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6860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402920" y="40399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68600" y="40399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E20A5-B375-4D33-B982-603FF5D7DA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53520" y="141300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4480" y="141300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402920" y="40399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53520" y="40399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04480" y="40399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8928C-CC2A-40E0-BB8B-A09A0BD00E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5C23F-0F76-4A15-BB61-35D253F946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68600" y="141300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3C470-975A-4199-839F-236CF6EEC3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0912E-0AA8-40EA-906E-66000E4F7B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18960" y="-36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25595-A7BF-4169-82D9-89F615BE3C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600" y="141300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02920" y="40399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93268-8A57-4E41-9C2E-0C9049A830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860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68600" y="40399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B9C52-F6C8-4CF2-AC3C-690D29256B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6860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2920" y="403992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6FCBB-B361-4CD3-8035-9EEA21B85D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02920" y="141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Aft>
                <a:spcPts val="20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Aft>
                <a:spcPts val="2001"/>
              </a:spcAft>
              <a:buClr>
                <a:srgbClr val="ffff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Aft>
                <a:spcPts val="2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Aft>
                <a:spcPts val="2001"/>
              </a:spcAft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F1AC-C07D-40B4-94A1-C9DF353B03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rot="16200000">
            <a:off x="5172840" y="-2759760"/>
            <a:ext cx="17640" cy="7924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rot="5400000">
            <a:off x="4217760" y="2323800"/>
            <a:ext cx="17640" cy="84535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-360"/>
            <a:ext cx="903240" cy="6862680"/>
            <a:chOff x="0" y="-360"/>
            <a:chExt cx="903240" cy="6862680"/>
          </a:xfrm>
        </p:grpSpPr>
        <p:sp>
          <p:nvSpPr>
            <p:cNvPr id="6" name=""/>
            <p:cNvSpPr/>
            <p:nvPr/>
          </p:nvSpPr>
          <p:spPr>
            <a:xfrm rot="16200000">
              <a:off x="-2976480" y="2978640"/>
              <a:ext cx="6859080" cy="90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f85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16200000">
              <a:off x="-3198960" y="3199680"/>
              <a:ext cx="685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Lucida Sans Unicode"/>
                  <a:ea typeface="MS PGothic"/>
                </a:rPr>
                <a:t>INTERGOVERNMENTAL PANEL ON CLIMATE CHANG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6200000">
              <a:off x="-2966760" y="3317760"/>
              <a:ext cx="6857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NATIONAL GREENHOUSE GAS INVENTORIES PROGRAMM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822960" y="-360"/>
              <a:ext cx="0" cy="685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" name=""/>
            <p:cNvGrpSpPr/>
            <p:nvPr/>
          </p:nvGrpSpPr>
          <p:grpSpPr>
            <a:xfrm>
              <a:off x="36720" y="6187320"/>
              <a:ext cx="771120" cy="647640"/>
              <a:chOff x="36720" y="6187320"/>
              <a:chExt cx="771120" cy="647640"/>
            </a:xfrm>
          </p:grpSpPr>
          <p:pic>
            <p:nvPicPr>
              <p:cNvPr id="11" name="" descr=""/>
              <p:cNvPicPr/>
              <p:nvPr/>
            </p:nvPicPr>
            <p:blipFill>
              <a:blip r:embed="rId4"/>
              <a:stretch/>
            </p:blipFill>
            <p:spPr>
              <a:xfrm rot="16200000">
                <a:off x="47160" y="6226200"/>
                <a:ext cx="54072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" name=""/>
              <p:cNvSpPr/>
              <p:nvPr/>
            </p:nvSpPr>
            <p:spPr>
              <a:xfrm rot="16200000">
                <a:off x="345600" y="6372720"/>
                <a:ext cx="647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spcBef>
                    <a:spcPts val="751"/>
                  </a:spcBef>
                  <a:spcAft>
                    <a:spcPts val="7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WM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36720" y="84600"/>
              <a:ext cx="780120" cy="647640"/>
              <a:chOff x="36720" y="84600"/>
              <a:chExt cx="780120" cy="647640"/>
            </a:xfrm>
          </p:grpSpPr>
          <p:pic>
            <p:nvPicPr>
              <p:cNvPr id="14" name="" descr=""/>
              <p:cNvPicPr/>
              <p:nvPr/>
            </p:nvPicPr>
            <p:blipFill>
              <a:blip r:embed="rId5"/>
              <a:stretch/>
            </p:blipFill>
            <p:spPr>
              <a:xfrm rot="16200000">
                <a:off x="9000" y="162720"/>
                <a:ext cx="540360" cy="48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" name=""/>
              <p:cNvSpPr/>
              <p:nvPr/>
            </p:nvSpPr>
            <p:spPr>
              <a:xfrm rot="16200000">
                <a:off x="354600" y="270000"/>
                <a:ext cx="647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spcBef>
                    <a:spcPts val="751"/>
                  </a:spcBef>
                  <a:spcAft>
                    <a:spcPts val="7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UNE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1155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f85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21333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2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CF20-E188-4E84-960A-38BB4CD71D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716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1676520"/>
            <a:ext cx="76960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164628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164628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0" y="0"/>
            <a:ext cx="9144000" cy="1060200"/>
            <a:chOff x="0" y="0"/>
            <a:chExt cx="9144000" cy="1060200"/>
          </a:xfrm>
        </p:grpSpPr>
        <p:sp>
          <p:nvSpPr>
            <p:cNvPr id="62" name=""/>
            <p:cNvSpPr/>
            <p:nvPr/>
          </p:nvSpPr>
          <p:spPr>
            <a:xfrm>
              <a:off x="0" y="0"/>
              <a:ext cx="91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Lucida Sans Unicode"/>
                  <a:ea typeface="MS PGothic"/>
                </a:rPr>
                <a:t>INTERGOVERNMENTAL PANEL ON CLIMATE CHANGE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444600"/>
              <a:ext cx="914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NATIONAL GREENHOUSE GAS INVENTORIES PROGRAM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105264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36360" y="44280"/>
              <a:ext cx="863640" cy="1010880"/>
              <a:chOff x="36360" y="44280"/>
              <a:chExt cx="863640" cy="1010880"/>
            </a:xfrm>
          </p:grpSpPr>
          <p:pic>
            <p:nvPicPr>
              <p:cNvPr id="6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07640" y="44280"/>
                <a:ext cx="72072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36360" y="686880"/>
                <a:ext cx="86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spcBef>
                    <a:spcPts val="1125"/>
                  </a:spcBef>
                  <a:spcAft>
                    <a:spcPts val="1125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WM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8172360" y="44280"/>
              <a:ext cx="863640" cy="1015920"/>
              <a:chOff x="8172360" y="44280"/>
              <a:chExt cx="863640" cy="1015920"/>
            </a:xfrm>
          </p:grpSpPr>
          <p:pic>
            <p:nvPicPr>
              <p:cNvPr id="6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243640" y="44280"/>
                <a:ext cx="720720" cy="62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"/>
              <p:cNvSpPr/>
              <p:nvPr/>
            </p:nvSpPr>
            <p:spPr>
              <a:xfrm>
                <a:off x="8172360" y="691920"/>
                <a:ext cx="86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spcBef>
                    <a:spcPts val="1125"/>
                  </a:spcBef>
                  <a:spcAft>
                    <a:spcPts val="1125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UNE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914400" algn="ctr">
              <a:spcAft>
                <a:spcPts val="1500"/>
              </a:spcAft>
              <a:buClr>
                <a:srgbClr val="ffff00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3" marL="1371600" algn="ctr">
              <a:spcAft>
                <a:spcPts val="1250"/>
              </a:spcAft>
              <a:buClr>
                <a:srgbClr val="ffff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4" marL="1828800" algn="ctr">
              <a:spcAft>
                <a:spcPts val="1250"/>
              </a:spcAft>
              <a:buClr>
                <a:srgbClr val="ffff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Harnisch@ecofys.de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19280" y="1484280"/>
            <a:ext cx="75247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2006 IPCC Guidelines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New Sector “Industrial Processes &amp; Product Use (IPPU)”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58720" y="3213000"/>
            <a:ext cx="76849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Bonn, 18 May 2006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Maritim Hotel 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Side-Event at SB24 on “2006 Guidelines”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Dr. Jochen Harnisch, Ecofys GmbH 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Coordinating Lead Author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hapter 7: Fluorinated Substitutes for OD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42560" y="1413000"/>
            <a:ext cx="8101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Tier 1 approach on “actual emissions” (“potential emissions” approach is no longer considered appropriate [see Annex 2])”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ference to regional/global data bases for activity data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Preparation of use of EFDB as depository also for activity dat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0C413-8DEB-4AB7-B4EF-67B12E0ECFE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hapter 8: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Other Product Manufacture and Us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6000" y="1484280"/>
            <a:ext cx="770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F</a:t>
            </a:r>
            <a:r>
              <a:rPr b="1" lang="en-GB" sz="3200" spc="-1" strike="noStrike" baseline="-25000">
                <a:solidFill>
                  <a:srgbClr val="ffff00"/>
                </a:solidFill>
                <a:latin typeface="Arial"/>
              </a:rPr>
              <a:t>6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 from electrical equipment: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-  Replacement of three parallel Tier 3 mass balance methods by one flexible metho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Aft>
                <a:spcPts val="2001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New tier 1 emission factors for regions and technologie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Addition of other sources: e.g. nuclear fuel cycle and military applica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13EAF-6A27-420F-A12A-F4D71D22B47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Questions and Answ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6000" y="1315800"/>
            <a:ext cx="770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mposing undue effort on countries in requesting reporting of new sources and new gases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2006 IPCC Guidelines provide methods for estimation of GHG emissions for as wide a range of gases and sources based on up-to-date knowledge available. COP to decide on reporting.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w boundary problems between Energy and IPPU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ffff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tentially yes, but discretion for countries remains and no other way to integrate bottom-up data e.g. from emission trading schemes &amp; corporate reporting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oo many industry experts with vested interests involved e.g. in CDM projects or emissions trading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PCC procedures including review &amp; strong co-chairs/SG/CLAs provided a counter-bal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ED3CC-A0B4-40B8-A1D1-CA488F1F4A75}" type="slidenum">
              <a:t>1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400" spc="-1" strike="noStrike">
                <a:solidFill>
                  <a:srgbClr val="ffff00"/>
                </a:solidFill>
                <a:latin typeface="Arial"/>
                <a:ea typeface="Times New Roman"/>
              </a:rPr>
              <a:t>Conclusions</a:t>
            </a: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34560" y="1268280"/>
            <a:ext cx="8209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ynamic sector with rapid technological change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trong participation from industry: good access to sector knowledge but safeguards against lobbying require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olicies and voluntary actions already show an impact on emissions from several sourc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Rapid expansion of knowledge about sources and gases since 1996/2000, including emission trading schemes and voluntary reporting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ealth of information on new sources of immeadiate benefit to inventory compil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Greatly improved user-friendliness – many simplifictations including new tier 1 method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B346B-1EF0-4921-9809-C36F99528DAF}" type="slidenum">
              <a:t>13</a:t>
            </a:fld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220968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cc99"/>
                </a:solidFill>
                <a:latin typeface="Verdana"/>
              </a:rPr>
              <a:t>Thank you for your attenti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00000" y="3716280"/>
            <a:ext cx="60199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Tahoma"/>
              </a:rPr>
              <a:t>Dr. Jochen Harnis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Tahoma"/>
              </a:rPr>
              <a:t>Ecofys German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J.Harnisch@ecofys.de</a:t>
            </a:r>
            <a:r>
              <a:rPr b="1" lang="de-DE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Tahoma"/>
              </a:rPr>
              <a:t>phone: +49 911-994358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Tahoma"/>
              </a:rPr>
              <a:t>fax: +49 911-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  <a:ea typeface="MS PGothic"/>
              </a:rPr>
              <a:t>994358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68B7B-D64E-4739-90CA-FDCF6DF7BEF1}" type="slidenum">
              <a:t>14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33560" y="1828800"/>
            <a:ext cx="78595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Aft>
                <a:spcPts val="1874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"/>
              </a:rPr>
              <a:t>Structure and new gas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Aft>
                <a:spcPts val="1874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"/>
              </a:rPr>
              <a:t>Highlights from the chapter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Aft>
                <a:spcPts val="1874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"/>
              </a:rPr>
              <a:t>Quest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Aft>
                <a:spcPts val="1874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571680"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571680"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D56BC-1F74-496B-B1AE-A1B92AF9300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IPPU Volume Structu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31640" y="1412640"/>
            <a:ext cx="7543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Aft>
                <a:spcPts val="125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hapter 1 Introducti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25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hapter 2 Mineral Industry Emission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25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hapter 3 Chemical Industry Emission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25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hapter 4 Metal Industry Emission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25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hapter 5 Non-Energy Products from Fuels &amp; Solvent Us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25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hapter 6 Electronics Industry Emission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25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hapter 7 Emissions of Fluorinated Substitutes for ODS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25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hapter 8 Other Product Manufacture and Us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25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nnex 1 Worksheet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25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nnex 2 Potential Emissions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25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nnex 3 Improvements since 1996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25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nnex 4 Glossary for IPPU Secto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B7051-1DE0-4A55-851D-872C157D405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List of Gases Covered by IPPU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Carbon Dioxide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Methane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Nitrous Oxide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ulphur Hexafluoride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Hydrofluorocarbons (TAR, non-TAR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Perfluorocarbons (TAR, non-TAR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Nitrogen Trifluoride (TAR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rifluoromethyl Sulfur Pentafluoride (TAR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Halogenated Ethers (TAR, non-TAR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Other Halocarbons (TAR, non-TAR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B7A18-712A-4241-8B0F-F6EF0445374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hapter 2: Mineral Industr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6920" y="1413000"/>
            <a:ext cx="7759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Consistent approach based on carbonate content of inputs for all source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Guidance to report emissions from carbonates where they occu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nclusion of new guidance for other carbonate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Guidance on clays in ceramics industr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D36CB-15A9-481E-8366-275416B5335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hapter 3: Chemical Industry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03280" y="1413000"/>
            <a:ext cx="774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Aft>
                <a:spcPts val="17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New sources: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- N</a:t>
            </a:r>
            <a:r>
              <a:rPr b="0" lang="en-GB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O emissions from production of caprolactam, glyoxal, and glyoxylic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- CO</a:t>
            </a:r>
            <a:r>
              <a:rPr b="0" lang="en-GB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 emission from production of titanium diox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- Separation of CO</a:t>
            </a:r>
            <a:r>
              <a:rPr b="0" lang="en-GB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 from urea use and production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- CO</a:t>
            </a:r>
            <a:r>
              <a:rPr b="0" lang="en-GB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 from various petrochemical process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- Expanded method for HFC-23 and consideration of other fluorinated by-products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DBCC4-2241-4DF3-8CA2-D7F752DD3AD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hapter 4: Metal Industr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Added guidance on emissions from zinc and lead produc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Greatly improved guidance on production of ferroalloy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Detailed treatment of different production routes for iron and steel including DRI and metallurgical coke </a:t>
            </a:r>
            <a:br>
              <a:rPr sz="3200"/>
            </a:b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(Emissions from metallurgical coke should be reported under Energy Sector.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0C9A0-4F0D-4D2C-97D9-25FFCBC07F0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hapter 5: Non-Energy Products from Fuels and Solvent Us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nclusion previously separate chapter on solvent us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Consideration of use of fuels as lubricants, paraffin waxes, bitumen/asphalt and solven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Focusses on direct CO</a:t>
            </a:r>
            <a:r>
              <a:rPr b="0" lang="en-GB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 emission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1B552-9AD0-4FB6-9760-AEACD20827B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hapter 6: Electronics Industr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Added guidance on production of PV cells, LCD and heat transfer fluid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nclusion of new gases applied in the industr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Update of emission factors – including treatment of abate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nclusion of a new tier 1 method providing emission factors &amp; activity data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2A6D3-25BA-4EEC-B15A-C64B51ED28A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07:51:39Z</dcterms:created>
  <dc:creator> IGES</dc:creator>
  <dc:description/>
  <dc:language>en-US</dc:language>
  <cp:lastModifiedBy>Harnisch, Ecofys </cp:lastModifiedBy>
  <dcterms:modified xsi:type="dcterms:W3CDTF">2006-05-16T18:41:28Z</dcterms:modified>
  <cp:revision>33</cp:revision>
  <dc:subject/>
  <dc:title>2006 IPCC Guidelines on National Greenhouse Gas Inventories</dc:title>
</cp:coreProperties>
</file>