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dt" idx="3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2"/>
                </a:solidFill>
                <a:latin typeface="Frutiger LT Pro 57 Condensed"/>
              </a:rPr>
              <a:t>Click to move the slide</a:t>
            </a: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 type="ftr" idx="3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 type="sldNum" idx="4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ED83-1339-491C-A22A-2D79E932BFE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2F0A-AE96-4E9D-B697-C02EC55693B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572FE-DC4B-4BDA-8560-F8949275C7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52640" y="396432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8244E-38A5-4D9F-AAFA-A274AAEE8D5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BC26D8-1948-4077-B4F5-AD77CA2A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3A5A01-4CE9-4582-9CE4-E9976E4B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1054080" y="163440"/>
            <a:ext cx="791856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567715-3A2C-4A02-9DAE-0A18FA4F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F8534A-6147-4372-98AD-B010B4B7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96440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46B0C7-A076-485B-AB17-6A24567B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4C3F38-A68D-4068-A7FE-4D2E63E9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1052640" y="396432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9F8BB7-139E-4CDB-8823-76D4EFEA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96440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37C200-E0A1-464E-A237-C752FFE5B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63384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21540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105264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63384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21540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BB3091-A5E9-4248-891A-94267B0A0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17C949-73F8-42B0-9002-7A7C67E62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6440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2F8E9-CEF1-4AAD-B82F-148187B6DAD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CE920A-80CF-4DAE-B9D6-BAE1685E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F7646F-336C-4F20-9F78-C1409F53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804E8E-1141-4E71-9F6E-E18C92F4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0DD916-0563-4D07-AFE2-6D23FD9F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054080" y="163440"/>
            <a:ext cx="791856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0AD87A-1F5A-4AAD-ADB8-241C8797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7F6D74-4BE2-4CA5-A157-9FDB0D20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96440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B5BD41-D9F5-406A-885D-BD0E82DB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88949D-AB7B-4D2D-A6AA-70D2C234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052640" y="396432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18327D-8102-4847-9C8E-A219BC5F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96440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6C9CEB-C81E-4E1E-B8D6-52222E25C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3384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1540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5264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3384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1540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D76CD-7B5D-4E65-B850-CD097CC8ADE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63384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1540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05264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63384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21540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E5357D-9F66-4C44-9E37-98C5D56F8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A89663-8C44-44B4-AD47-991A2F70C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B6AC47-AAE5-4337-B35C-4E0AE47A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166027-F26D-4AD2-897B-ADCF9815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8C8D78-6241-4BE1-A749-CE705DF5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C37DD5-5DD4-4EE6-B9AF-B3442FB9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1054080" y="163440"/>
            <a:ext cx="791856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40F53D-E1CF-4E41-8EA0-917F08D2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872447-A438-45F9-92D5-C629C796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96440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80811C-3A7B-4B2B-B0D1-1B8C1579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8A1F01-8AA8-4F43-957C-4C29C249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1052640" y="396432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057D9C-37E0-4088-B2DE-B926FB20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96440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6F0DFF-CF50-41B3-B8DE-FEA30FFB3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63384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21540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105264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63384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21540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62FB60-BDBA-4DBF-8F94-68EC67A23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6D554CB-6BA9-40AF-82BF-7F02F4F6A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BC1699C-5489-49C4-9BA5-3018C645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B4B53C5-8D76-4058-9E11-02B9ADE1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27DAE27-049F-4E94-94BB-9CC44B4D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C54BDCE-9600-410A-A4CE-FF0CC587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1054080" y="163440"/>
            <a:ext cx="791856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D04EDB3-3550-4750-BD63-1004ED5F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006B7D1-DAC9-4E7B-89A1-CCB442CD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96440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0F2D63E-2DEF-457C-AC89-6324C0DA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CDD1957-106B-4656-9790-3FB2129A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1052640" y="396432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EC33808-A744-4EF6-8F7C-8602AEC6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96440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5323BC9-082B-461C-9A2F-3AB750CEA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63384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21540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105264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63384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21540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4A608D6-D8A6-4F71-A915-15CD2E396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885581-293C-4BEA-907A-B08292FFF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DDB712-CA9D-4927-BB52-87224FB4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AE363C-294F-4C5F-A0CE-CF984093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0893E0-85F6-41DF-B79E-F7A3C057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20709E-A9D4-45B3-9C54-92256146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1054080" y="163440"/>
            <a:ext cx="791856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7CA12B-8101-4D95-A434-388DA707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BC4301-3D3D-4A35-8867-65002704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96440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7BDD99-230E-4B70-9EF0-E33D26AB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CA9A78-BCE8-4518-A598-EC42E5E0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1052640" y="396432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F1F0C7-119C-480F-81FA-1D6FF9E1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96440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195ABA-7F6B-4A64-B968-810FD2A6A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63384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21540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105264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63384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21540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71F069-3F13-49F5-B6BA-8C5EF2A0D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48B7955-0011-4CCD-9BE6-E1B2EA95A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3452945-D52A-487A-94B9-C50E2B9F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2EDFEA0-E4A9-4DB8-97F1-F4E0FEDB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084C3F6-9D45-4630-AE19-0F03C117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65A29A7-E91F-4F84-B504-8E45A309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054080" y="163440"/>
            <a:ext cx="791856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0F852B9-424D-4092-BB15-AB114504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48EB044-304F-4953-8EA3-56F49C45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96440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01EBF3C-D27B-4BE9-AA8C-3B82CAC4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E3856BD-4EF2-4AA8-88A9-856BC1A3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1052640" y="396432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46B6F36-D198-48FA-BA4C-88B2426D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96440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A40DB95-9253-42A2-A3B4-7DC8E2CD1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63384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21540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105264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63384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21540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5E1F3A2-16B9-469C-984C-CC6C1F06B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54080" y="163440"/>
            <a:ext cx="791856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1B168-65C3-4668-B528-D829281E58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6440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52640" y="396432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6440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3384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540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5264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3384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540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73EC61-65B7-4348-B130-ED98BE763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3165BD-034F-42CA-9C6C-37FC3B67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43A79A-5040-4F5C-9CF3-3C4AB54E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0077D6-B9DB-4906-BC02-EDC13B85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24886-2396-468D-9377-FFA25D31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12721-C470-449B-AD69-7A71734034C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054080" y="163440"/>
            <a:ext cx="791856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409A0C-3FF4-4B6E-B728-8D964C29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0FDDA-9893-4D2B-AA88-79BA56C0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6440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011517-9DC2-4ADA-9D46-E8BF442A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AA7107-9FA6-40E0-B8C5-8230658B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052640" y="396432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C4126E-66AB-4FED-AEDA-3CA8EAA6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96440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B4F73-1EFC-49D2-9EA1-4E74711A0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63384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21540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05264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63384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21540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48637-861B-4EED-9EEC-3EAF0CDA6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21E866-FDCE-428C-B941-FA41864DD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A242AF-DE7B-4837-A1BA-D25AB247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CB7776-D135-4F83-9626-D3B0DF60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7A882-EDCB-410B-A6CF-EC317A22350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565FAA-85DE-484A-8365-2316D865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5425C1-CDE7-48BE-BAF3-69B2394C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1054080" y="163440"/>
            <a:ext cx="791856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99BA43-DF7B-4287-911D-61085E21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A1DD6D-ED92-4D7B-8779-60CD22F6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6440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C3DA85-FDCD-4A77-8EAC-01E822E6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8D811F-6C11-4FEF-A4DD-0B71713C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1052640" y="396432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182F70-B612-4985-911F-907E798C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96440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1798F9-20D2-4E16-9F20-074CB89A4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63384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1540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105264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63384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21540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67283A-C4ED-42AB-B3E1-0A4DE7308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6BF266-AC1F-405C-9F8A-860EBF4D8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25153-2644-4313-AE31-FD723EA5B43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095414-FB1D-4FE3-95FA-610F8A5C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586C1A-3DDF-4256-97C9-5B72647F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935D15-5072-40E2-A06C-97A0AFD8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960260-EF2F-4781-9B98-4987CF18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1054080" y="163440"/>
            <a:ext cx="791856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EF31D7-0CFA-4190-8576-EA3CBD4E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CA1745-5842-4634-A4F5-E6A904CB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6440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9D02E5-1EC9-4509-8716-4570B98F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E713DA-0868-4571-B8B1-A8F2C42C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1052640" y="396432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1E3801-D020-4D5A-A70F-51A4AA29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6440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675A1F-AD3A-4FB1-B163-584DE757F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54080" y="163440"/>
            <a:ext cx="791856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56951-C39C-4D06-802A-D01435FE805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63384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21540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105264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63384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21540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E9426A-8EBB-46F0-A522-06C9A7169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468AF4-F479-4AB4-BD89-5DA910166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A04B53-5E6C-4B26-A299-FCDC8FB0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233F32-E3ED-49FA-AE10-41F0C8F0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18328C-F75E-4D92-9A09-6A0A4689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3CFBE7-0B87-49E3-A00E-70A5350B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1054080" y="163440"/>
            <a:ext cx="791856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A02A9E-0333-44F7-9A20-E1B2940F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0F8B75-FE77-4E70-94D4-D921A86E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96440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FB03E6-1659-4AED-A35C-480DA897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688530-9BCD-40DC-856D-42C1D5E1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58B44-666E-4ED4-AE1A-4414E4C575D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1052640" y="396432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4B5A57-B332-4CCE-87DB-D0ACE1F0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96440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44DF66-AE0B-40E7-86B4-2CB74DF60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63384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1540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105264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63384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21540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E86398-62BA-423C-B1AD-9ED70B41B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F3E21C-4A86-4503-8B7E-5A81FEA59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797933-0DEC-4DEA-899E-AEF80FB5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56BB41-1398-41F3-B2C5-A98EC82E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3305B4-38DE-433B-A94B-1DE0E853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C7931F-033C-4D44-AB5E-5B4793ED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054080" y="163440"/>
            <a:ext cx="791856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37655C-904B-4469-A1C6-F8A118E6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51EF18-D0EB-4FF5-B06A-E0E29AB4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6440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7C1F0-99F0-49E8-A616-6E35B2E8A97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96440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2B79A4-E98C-4159-BC62-BE9980C4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8D654F-A908-481A-A538-09C5E807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1052640" y="396432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45C9B4-B324-46A7-94DD-B1AE7474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96440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09D107-795C-423F-8088-A0312C819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63384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1540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105264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63384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21540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96D9C5-E067-47E4-96CD-FC91FF6E0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0FA343-F8C8-4BD4-91FD-07544004A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7C353B-6CF5-4464-9AD9-5C19F04F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CB6F49-0E77-4F20-8AA4-8E52C5CC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599DE8-EEC7-4EB6-A300-2E74C2C3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EDDD11-0D94-475E-B3EF-90C051CE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A751A-2FB2-4EFA-821F-90BA4A3FDE4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1054080" y="163440"/>
            <a:ext cx="791856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6DEC9C-3E16-499E-80ED-325869E3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21F2F2-A30C-4670-BA4D-6EE1BF12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96440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A4707F-9FD9-4110-B676-916C5B1C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8F8C4C-7D83-4570-A09C-31FB7958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1052640" y="396432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5A94D4-6A8A-41E8-A185-6FEA5D8D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96440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F6A5F4-0AF3-41B2-91BD-6064171E1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63384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21540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105264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63384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21540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39426A-A1F5-47C1-9258-884FE02A9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5315E7-C078-4C83-B28B-28CB0A83D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95C65B-271A-43AD-8274-DAC368BB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44403D-BB4F-4412-A980-65410632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09.xml"/><Relationship Id="rId9" Type="http://schemas.openxmlformats.org/officeDocument/2006/relationships/slideLayout" Target="../slideLayouts/slideLayout110.xml"/><Relationship Id="rId10" Type="http://schemas.openxmlformats.org/officeDocument/2006/relationships/slideLayout" Target="../slideLayouts/slideLayout111.xml"/><Relationship Id="rId11" Type="http://schemas.openxmlformats.org/officeDocument/2006/relationships/slideLayout" Target="../slideLayouts/slideLayout112.xml"/><Relationship Id="rId12" Type="http://schemas.openxmlformats.org/officeDocument/2006/relationships/slideLayout" Target="../slideLayouts/slideLayout113.xml"/><Relationship Id="rId13" Type="http://schemas.openxmlformats.org/officeDocument/2006/relationships/slideLayout" Target="../slideLayouts/slideLayout114.xml"/><Relationship Id="rId14" Type="http://schemas.openxmlformats.org/officeDocument/2006/relationships/slideLayout" Target="../slideLayouts/slideLayout115.xml"/><Relationship Id="rId15" Type="http://schemas.openxmlformats.org/officeDocument/2006/relationships/slideLayout" Target="../slideLayouts/slideLayout116.xml"/><Relationship Id="rId16" Type="http://schemas.openxmlformats.org/officeDocument/2006/relationships/slideLayout" Target="../slideLayouts/slideLayout117.xml"/><Relationship Id="rId17" Type="http://schemas.openxmlformats.org/officeDocument/2006/relationships/slideLayout" Target="../slideLayouts/slideLayout118.xml"/><Relationship Id="rId18" Type="http://schemas.openxmlformats.org/officeDocument/2006/relationships/slideLayout" Target="../slideLayouts/slideLayout119.xml"/><Relationship Id="rId19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21.xml"/><Relationship Id="rId9" Type="http://schemas.openxmlformats.org/officeDocument/2006/relationships/slideLayout" Target="../slideLayouts/slideLayout122.xml"/><Relationship Id="rId10" Type="http://schemas.openxmlformats.org/officeDocument/2006/relationships/slideLayout" Target="../slideLayouts/slideLayout123.xml"/><Relationship Id="rId11" Type="http://schemas.openxmlformats.org/officeDocument/2006/relationships/slideLayout" Target="../slideLayouts/slideLayout124.xml"/><Relationship Id="rId12" Type="http://schemas.openxmlformats.org/officeDocument/2006/relationships/slideLayout" Target="../slideLayouts/slideLayout125.xml"/><Relationship Id="rId13" Type="http://schemas.openxmlformats.org/officeDocument/2006/relationships/slideLayout" Target="../slideLayouts/slideLayout126.xml"/><Relationship Id="rId14" Type="http://schemas.openxmlformats.org/officeDocument/2006/relationships/slideLayout" Target="../slideLayouts/slideLayout127.xml"/><Relationship Id="rId15" Type="http://schemas.openxmlformats.org/officeDocument/2006/relationships/slideLayout" Target="../slideLayouts/slideLayout128.xml"/><Relationship Id="rId16" Type="http://schemas.openxmlformats.org/officeDocument/2006/relationships/slideLayout" Target="../slideLayouts/slideLayout129.xml"/><Relationship Id="rId17" Type="http://schemas.openxmlformats.org/officeDocument/2006/relationships/slideLayout" Target="../slideLayouts/slideLayout130.xml"/><Relationship Id="rId18" Type="http://schemas.openxmlformats.org/officeDocument/2006/relationships/slideLayout" Target="../slideLayouts/slideLayout131.xml"/><Relationship Id="rId19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33.xml"/><Relationship Id="rId9" Type="http://schemas.openxmlformats.org/officeDocument/2006/relationships/slideLayout" Target="../slideLayouts/slideLayout134.xml"/><Relationship Id="rId10" Type="http://schemas.openxmlformats.org/officeDocument/2006/relationships/slideLayout" Target="../slideLayouts/slideLayout135.xml"/><Relationship Id="rId11" Type="http://schemas.openxmlformats.org/officeDocument/2006/relationships/slideLayout" Target="../slideLayouts/slideLayout136.xml"/><Relationship Id="rId12" Type="http://schemas.openxmlformats.org/officeDocument/2006/relationships/slideLayout" Target="../slideLayouts/slideLayout137.xml"/><Relationship Id="rId13" Type="http://schemas.openxmlformats.org/officeDocument/2006/relationships/slideLayout" Target="../slideLayouts/slideLayout138.xml"/><Relationship Id="rId14" Type="http://schemas.openxmlformats.org/officeDocument/2006/relationships/slideLayout" Target="../slideLayouts/slideLayout139.xml"/><Relationship Id="rId15" Type="http://schemas.openxmlformats.org/officeDocument/2006/relationships/slideLayout" Target="../slideLayouts/slideLayout140.xml"/><Relationship Id="rId16" Type="http://schemas.openxmlformats.org/officeDocument/2006/relationships/slideLayout" Target="../slideLayouts/slideLayout141.xml"/><Relationship Id="rId17" Type="http://schemas.openxmlformats.org/officeDocument/2006/relationships/slideLayout" Target="../slideLayouts/slideLayout142.xml"/><Relationship Id="rId18" Type="http://schemas.openxmlformats.org/officeDocument/2006/relationships/slideLayout" Target="../slideLayouts/slideLayout143.xml"/><Relationship Id="rId19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45.xml"/><Relationship Id="rId9" Type="http://schemas.openxmlformats.org/officeDocument/2006/relationships/slideLayout" Target="../slideLayouts/slideLayout146.xml"/><Relationship Id="rId10" Type="http://schemas.openxmlformats.org/officeDocument/2006/relationships/slideLayout" Target="../slideLayouts/slideLayout147.xml"/><Relationship Id="rId11" Type="http://schemas.openxmlformats.org/officeDocument/2006/relationships/slideLayout" Target="../slideLayouts/slideLayout148.xml"/><Relationship Id="rId12" Type="http://schemas.openxmlformats.org/officeDocument/2006/relationships/slideLayout" Target="../slideLayouts/slideLayout149.xml"/><Relationship Id="rId13" Type="http://schemas.openxmlformats.org/officeDocument/2006/relationships/slideLayout" Target="../slideLayouts/slideLayout150.xml"/><Relationship Id="rId14" Type="http://schemas.openxmlformats.org/officeDocument/2006/relationships/slideLayout" Target="../slideLayouts/slideLayout151.xml"/><Relationship Id="rId15" Type="http://schemas.openxmlformats.org/officeDocument/2006/relationships/slideLayout" Target="../slideLayouts/slideLayout152.xml"/><Relationship Id="rId16" Type="http://schemas.openxmlformats.org/officeDocument/2006/relationships/slideLayout" Target="../slideLayouts/slideLayout153.xml"/><Relationship Id="rId17" Type="http://schemas.openxmlformats.org/officeDocument/2006/relationships/slideLayout" Target="../slideLayouts/slideLayout154.xml"/><Relationship Id="rId18" Type="http://schemas.openxmlformats.org/officeDocument/2006/relationships/slideLayout" Target="../slideLayouts/slideLayout155.xml"/><Relationship Id="rId19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57.xml"/><Relationship Id="rId9" Type="http://schemas.openxmlformats.org/officeDocument/2006/relationships/slideLayout" Target="../slideLayouts/slideLayout158.xml"/><Relationship Id="rId10" Type="http://schemas.openxmlformats.org/officeDocument/2006/relationships/slideLayout" Target="../slideLayouts/slideLayout159.xml"/><Relationship Id="rId11" Type="http://schemas.openxmlformats.org/officeDocument/2006/relationships/slideLayout" Target="../slideLayouts/slideLayout160.xml"/><Relationship Id="rId12" Type="http://schemas.openxmlformats.org/officeDocument/2006/relationships/slideLayout" Target="../slideLayouts/slideLayout161.xml"/><Relationship Id="rId13" Type="http://schemas.openxmlformats.org/officeDocument/2006/relationships/slideLayout" Target="../slideLayouts/slideLayout162.xml"/><Relationship Id="rId14" Type="http://schemas.openxmlformats.org/officeDocument/2006/relationships/slideLayout" Target="../slideLayouts/slideLayout163.xml"/><Relationship Id="rId15" Type="http://schemas.openxmlformats.org/officeDocument/2006/relationships/slideLayout" Target="../slideLayouts/slideLayout164.xml"/><Relationship Id="rId16" Type="http://schemas.openxmlformats.org/officeDocument/2006/relationships/slideLayout" Target="../slideLayouts/slideLayout165.xml"/><Relationship Id="rId17" Type="http://schemas.openxmlformats.org/officeDocument/2006/relationships/slideLayout" Target="../slideLayouts/slideLayout166.xml"/><Relationship Id="rId18" Type="http://schemas.openxmlformats.org/officeDocument/2006/relationships/slideLayout" Target="../slideLayouts/slideLayout167.xml"/><Relationship Id="rId19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61.xml"/><Relationship Id="rId9" Type="http://schemas.openxmlformats.org/officeDocument/2006/relationships/slideLayout" Target="../slideLayouts/slideLayout62.xml"/><Relationship Id="rId10" Type="http://schemas.openxmlformats.org/officeDocument/2006/relationships/slideLayout" Target="../slideLayouts/slideLayout63.xml"/><Relationship Id="rId11" Type="http://schemas.openxmlformats.org/officeDocument/2006/relationships/slideLayout" Target="../slideLayouts/slideLayout64.xml"/><Relationship Id="rId12" Type="http://schemas.openxmlformats.org/officeDocument/2006/relationships/slideLayout" Target="../slideLayouts/slideLayout65.xml"/><Relationship Id="rId13" Type="http://schemas.openxmlformats.org/officeDocument/2006/relationships/slideLayout" Target="../slideLayouts/slideLayout66.xml"/><Relationship Id="rId14" Type="http://schemas.openxmlformats.org/officeDocument/2006/relationships/slideLayout" Target="../slideLayouts/slideLayout67.xml"/><Relationship Id="rId15" Type="http://schemas.openxmlformats.org/officeDocument/2006/relationships/slideLayout" Target="../slideLayouts/slideLayout68.xml"/><Relationship Id="rId16" Type="http://schemas.openxmlformats.org/officeDocument/2006/relationships/slideLayout" Target="../slideLayouts/slideLayout69.xml"/><Relationship Id="rId17" Type="http://schemas.openxmlformats.org/officeDocument/2006/relationships/slideLayout" Target="../slideLayouts/slideLayout70.xml"/><Relationship Id="rId18" Type="http://schemas.openxmlformats.org/officeDocument/2006/relationships/slideLayout" Target="../slideLayouts/slideLayout71.xml"/><Relationship Id="rId19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73.xml"/><Relationship Id="rId9" Type="http://schemas.openxmlformats.org/officeDocument/2006/relationships/slideLayout" Target="../slideLayouts/slideLayout74.xml"/><Relationship Id="rId10" Type="http://schemas.openxmlformats.org/officeDocument/2006/relationships/slideLayout" Target="../slideLayouts/slideLayout75.xml"/><Relationship Id="rId11" Type="http://schemas.openxmlformats.org/officeDocument/2006/relationships/slideLayout" Target="../slideLayouts/slideLayout76.xml"/><Relationship Id="rId12" Type="http://schemas.openxmlformats.org/officeDocument/2006/relationships/slideLayout" Target="../slideLayouts/slideLayout77.xml"/><Relationship Id="rId13" Type="http://schemas.openxmlformats.org/officeDocument/2006/relationships/slideLayout" Target="../slideLayouts/slideLayout78.xml"/><Relationship Id="rId14" Type="http://schemas.openxmlformats.org/officeDocument/2006/relationships/slideLayout" Target="../slideLayouts/slideLayout79.xml"/><Relationship Id="rId15" Type="http://schemas.openxmlformats.org/officeDocument/2006/relationships/slideLayout" Target="../slideLayouts/slideLayout80.xml"/><Relationship Id="rId16" Type="http://schemas.openxmlformats.org/officeDocument/2006/relationships/slideLayout" Target="../slideLayouts/slideLayout81.xml"/><Relationship Id="rId17" Type="http://schemas.openxmlformats.org/officeDocument/2006/relationships/slideLayout" Target="../slideLayouts/slideLayout82.xml"/><Relationship Id="rId18" Type="http://schemas.openxmlformats.org/officeDocument/2006/relationships/slideLayout" Target="../slideLayouts/slideLayout83.xml"/><Relationship Id="rId19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85.xml"/><Relationship Id="rId9" Type="http://schemas.openxmlformats.org/officeDocument/2006/relationships/slideLayout" Target="../slideLayouts/slideLayout86.xml"/><Relationship Id="rId10" Type="http://schemas.openxmlformats.org/officeDocument/2006/relationships/slideLayout" Target="../slideLayouts/slideLayout87.xml"/><Relationship Id="rId11" Type="http://schemas.openxmlformats.org/officeDocument/2006/relationships/slideLayout" Target="../slideLayouts/slideLayout88.xml"/><Relationship Id="rId12" Type="http://schemas.openxmlformats.org/officeDocument/2006/relationships/slideLayout" Target="../slideLayouts/slideLayout89.xml"/><Relationship Id="rId13" Type="http://schemas.openxmlformats.org/officeDocument/2006/relationships/slideLayout" Target="../slideLayouts/slideLayout90.xml"/><Relationship Id="rId14" Type="http://schemas.openxmlformats.org/officeDocument/2006/relationships/slideLayout" Target="../slideLayouts/slideLayout91.xml"/><Relationship Id="rId15" Type="http://schemas.openxmlformats.org/officeDocument/2006/relationships/slideLayout" Target="../slideLayouts/slideLayout92.xml"/><Relationship Id="rId16" Type="http://schemas.openxmlformats.org/officeDocument/2006/relationships/slideLayout" Target="../slideLayouts/slideLayout93.xml"/><Relationship Id="rId17" Type="http://schemas.openxmlformats.org/officeDocument/2006/relationships/slideLayout" Target="../slideLayouts/slideLayout94.xml"/><Relationship Id="rId18" Type="http://schemas.openxmlformats.org/officeDocument/2006/relationships/slideLayout" Target="../slideLayouts/slideLayout95.xml"/><Relationship Id="rId19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97.xml"/><Relationship Id="rId9" Type="http://schemas.openxmlformats.org/officeDocument/2006/relationships/slideLayout" Target="../slideLayouts/slideLayout98.xml"/><Relationship Id="rId10" Type="http://schemas.openxmlformats.org/officeDocument/2006/relationships/slideLayout" Target="../slideLayouts/slideLayout99.xml"/><Relationship Id="rId11" Type="http://schemas.openxmlformats.org/officeDocument/2006/relationships/slideLayout" Target="../slideLayouts/slideLayout100.xml"/><Relationship Id="rId12" Type="http://schemas.openxmlformats.org/officeDocument/2006/relationships/slideLayout" Target="../slideLayouts/slideLayout101.xml"/><Relationship Id="rId13" Type="http://schemas.openxmlformats.org/officeDocument/2006/relationships/slideLayout" Target="../slideLayouts/slideLayout102.xml"/><Relationship Id="rId14" Type="http://schemas.openxmlformats.org/officeDocument/2006/relationships/slideLayout" Target="../slideLayouts/slideLayout103.xml"/><Relationship Id="rId15" Type="http://schemas.openxmlformats.org/officeDocument/2006/relationships/slideLayout" Target="../slideLayouts/slideLayout104.xml"/><Relationship Id="rId16" Type="http://schemas.openxmlformats.org/officeDocument/2006/relationships/slideLayout" Target="../slideLayouts/slideLayout105.xml"/><Relationship Id="rId17" Type="http://schemas.openxmlformats.org/officeDocument/2006/relationships/slideLayout" Target="../slideLayouts/slideLayout106.xml"/><Relationship Id="rId18" Type="http://schemas.openxmlformats.org/officeDocument/2006/relationships/slideLayout" Target="../slideLayouts/slideLayout107.xml"/><Relationship Id="rId19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IPCCLogoBlue_RGB_72PPI.jpg"/>
          <p:cNvPicPr/>
          <p:nvPr/>
        </p:nvPicPr>
        <p:blipFill>
          <a:blip r:embed="rId2"/>
          <a:stretch/>
        </p:blipFill>
        <p:spPr>
          <a:xfrm>
            <a:off x="5214960" y="6000840"/>
            <a:ext cx="3873600" cy="798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2"/>
                </a:solidFill>
                <a:latin typeface="Frutiger LT Pro 57 Condensed"/>
              </a:rPr>
              <a:t>Click to edit the title text format</a:t>
            </a: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92cd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Click to edit the outline text format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1" marL="743040" indent="-28584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econd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2" marL="11430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Third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3" marL="16002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Four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4" marL="20574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Fif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ix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even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285920" y="6572160"/>
            <a:ext cx="64296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D43F-24FD-4740-AFB2-1957EE6784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25"/>
          <p:cNvGrpSpPr/>
          <p:nvPr/>
        </p:nvGrpSpPr>
        <p:grpSpPr>
          <a:xfrm>
            <a:off x="71280" y="1635120"/>
            <a:ext cx="928800" cy="5151600"/>
            <a:chOff x="71280" y="1635120"/>
            <a:chExt cx="928800" cy="5151600"/>
          </a:xfrm>
        </p:grpSpPr>
        <p:pic>
          <p:nvPicPr>
            <p:cNvPr id="5" name="Picture 3" descr="MPj04004720000[1]"/>
            <p:cNvPicPr/>
            <p:nvPr/>
          </p:nvPicPr>
          <p:blipFill>
            <a:blip r:embed="rId3"/>
            <a:srcRect l="21937" t="0" r="21654" b="9530"/>
            <a:stretch/>
          </p:blipFill>
          <p:spPr>
            <a:xfrm>
              <a:off x="71280" y="374796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5" descr="MPj01787530000[1]"/>
            <p:cNvPicPr/>
            <p:nvPr/>
          </p:nvPicPr>
          <p:blipFill>
            <a:blip r:embed="rId4"/>
            <a:srcRect l="21937" t="15511" r="27921" b="12148"/>
            <a:stretch/>
          </p:blipFill>
          <p:spPr>
            <a:xfrm>
              <a:off x="71280" y="269136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6" descr="MPj04032910000[1]"/>
            <p:cNvPicPr/>
            <p:nvPr/>
          </p:nvPicPr>
          <p:blipFill>
            <a:blip r:embed="rId5"/>
            <a:srcRect l="37654" t="0" r="0" b="0"/>
            <a:stretch/>
          </p:blipFill>
          <p:spPr>
            <a:xfrm>
              <a:off x="71280" y="163512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8" descr="People"/>
            <p:cNvPicPr/>
            <p:nvPr/>
          </p:nvPicPr>
          <p:blipFill>
            <a:blip r:embed="rId6"/>
            <a:stretch/>
          </p:blipFill>
          <p:spPr>
            <a:xfrm>
              <a:off x="71280" y="586080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0" descr="MPj04019050000[1]"/>
            <p:cNvPicPr/>
            <p:nvPr/>
          </p:nvPicPr>
          <p:blipFill>
            <a:blip r:embed="rId7"/>
            <a:srcRect l="21937" t="15591" r="24787" b="6483"/>
            <a:stretch/>
          </p:blipFill>
          <p:spPr>
            <a:xfrm>
              <a:off x="71280" y="4804560"/>
              <a:ext cx="928800" cy="9259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15" descr="IPCCLogoBlue_RGB_72PPI.jpg"/>
          <p:cNvPicPr/>
          <p:nvPr/>
        </p:nvPicPr>
        <p:blipFill>
          <a:blip r:embed="rId2"/>
          <a:stretch/>
        </p:blipFill>
        <p:spPr>
          <a:xfrm>
            <a:off x="5214960" y="6000840"/>
            <a:ext cx="3873600" cy="798480"/>
          </a:xfrm>
          <a:prstGeom prst="rect">
            <a:avLst/>
          </a:prstGeom>
          <a:ln w="0">
            <a:noFill/>
          </a:ln>
        </p:spPr>
      </p:pic>
      <p:grpSp>
        <p:nvGrpSpPr>
          <p:cNvPr id="426" name="Group 25"/>
          <p:cNvGrpSpPr/>
          <p:nvPr/>
        </p:nvGrpSpPr>
        <p:grpSpPr>
          <a:xfrm>
            <a:off x="71280" y="1635120"/>
            <a:ext cx="928800" cy="5151600"/>
            <a:chOff x="71280" y="1635120"/>
            <a:chExt cx="928800" cy="5151600"/>
          </a:xfrm>
        </p:grpSpPr>
        <p:pic>
          <p:nvPicPr>
            <p:cNvPr id="427" name="Picture 3" descr="MPj04004720000[1]"/>
            <p:cNvPicPr/>
            <p:nvPr/>
          </p:nvPicPr>
          <p:blipFill>
            <a:blip r:embed="rId3"/>
            <a:srcRect l="21937" t="0" r="21654" b="9530"/>
            <a:stretch/>
          </p:blipFill>
          <p:spPr>
            <a:xfrm>
              <a:off x="71280" y="374796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Picture 5" descr="MPj01787530000[1]"/>
            <p:cNvPicPr/>
            <p:nvPr/>
          </p:nvPicPr>
          <p:blipFill>
            <a:blip r:embed="rId4"/>
            <a:srcRect l="21937" t="15511" r="27921" b="12148"/>
            <a:stretch/>
          </p:blipFill>
          <p:spPr>
            <a:xfrm>
              <a:off x="71280" y="269136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Picture 6" descr="MPj04032910000[1]"/>
            <p:cNvPicPr/>
            <p:nvPr/>
          </p:nvPicPr>
          <p:blipFill>
            <a:blip r:embed="rId5"/>
            <a:srcRect l="37654" t="0" r="0" b="0"/>
            <a:stretch/>
          </p:blipFill>
          <p:spPr>
            <a:xfrm>
              <a:off x="71280" y="163512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Picture 8" descr="People"/>
            <p:cNvPicPr/>
            <p:nvPr/>
          </p:nvPicPr>
          <p:blipFill>
            <a:blip r:embed="rId6"/>
            <a:stretch/>
          </p:blipFill>
          <p:spPr>
            <a:xfrm>
              <a:off x="71280" y="586080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Picture 10" descr="MPj04019050000[1]"/>
            <p:cNvPicPr/>
            <p:nvPr/>
          </p:nvPicPr>
          <p:blipFill>
            <a:blip r:embed="rId7"/>
            <a:srcRect l="21937" t="15591" r="24787" b="6483"/>
            <a:stretch/>
          </p:blipFill>
          <p:spPr>
            <a:xfrm>
              <a:off x="71280" y="4804560"/>
              <a:ext cx="928800" cy="92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2"/>
                </a:solidFill>
                <a:latin typeface="Frutiger LT Pro 57 Condensed"/>
              </a:rPr>
              <a:t>Click to edit the title text format</a:t>
            </a: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92cd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Click to edit the outline text format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1" marL="743040" indent="-28584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econd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2" marL="11430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Third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3" marL="16002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Four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4" marL="20574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Fif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ix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even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3"/>
          </p:nvPr>
        </p:nvSpPr>
        <p:spPr>
          <a:xfrm>
            <a:off x="969480" y="6227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4"/>
          </p:nvPr>
        </p:nvSpPr>
        <p:spPr>
          <a:xfrm>
            <a:off x="3425760" y="62272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5"/>
          </p:nvPr>
        </p:nvSpPr>
        <p:spPr>
          <a:xfrm>
            <a:off x="1285920" y="6572160"/>
            <a:ext cx="64296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247F-005B-4A3F-A90D-C5C950B122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8"/>
    <p:sldLayoutId id="2147483767" r:id="rId9"/>
    <p:sldLayoutId id="2147483768" r:id="rId10"/>
    <p:sldLayoutId id="2147483769" r:id="rId11"/>
    <p:sldLayoutId id="2147483770" r:id="rId12"/>
    <p:sldLayoutId id="2147483771" r:id="rId13"/>
    <p:sldLayoutId id="2147483772" r:id="rId14"/>
    <p:sldLayoutId id="2147483773" r:id="rId15"/>
    <p:sldLayoutId id="2147483774" r:id="rId16"/>
    <p:sldLayoutId id="2147483775" r:id="rId17"/>
    <p:sldLayoutId id="2147483776" r:id="rId18"/>
    <p:sldLayoutId id="2147483777" r:id="rId19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15" descr="IPCCLogoBlue_RGB_72PPI.jpg"/>
          <p:cNvPicPr/>
          <p:nvPr/>
        </p:nvPicPr>
        <p:blipFill>
          <a:blip r:embed="rId2"/>
          <a:stretch/>
        </p:blipFill>
        <p:spPr>
          <a:xfrm>
            <a:off x="5214960" y="6000840"/>
            <a:ext cx="3873600" cy="798480"/>
          </a:xfrm>
          <a:prstGeom prst="rect">
            <a:avLst/>
          </a:prstGeom>
          <a:ln w="0">
            <a:noFill/>
          </a:ln>
        </p:spPr>
      </p:pic>
      <p:grpSp>
        <p:nvGrpSpPr>
          <p:cNvPr id="474" name="Group 25"/>
          <p:cNvGrpSpPr/>
          <p:nvPr/>
        </p:nvGrpSpPr>
        <p:grpSpPr>
          <a:xfrm>
            <a:off x="71280" y="1635120"/>
            <a:ext cx="928800" cy="5151600"/>
            <a:chOff x="71280" y="1635120"/>
            <a:chExt cx="928800" cy="5151600"/>
          </a:xfrm>
        </p:grpSpPr>
        <p:pic>
          <p:nvPicPr>
            <p:cNvPr id="475" name="Picture 3" descr="MPj04004720000[1]"/>
            <p:cNvPicPr/>
            <p:nvPr/>
          </p:nvPicPr>
          <p:blipFill>
            <a:blip r:embed="rId3"/>
            <a:srcRect l="21937" t="0" r="21654" b="9530"/>
            <a:stretch/>
          </p:blipFill>
          <p:spPr>
            <a:xfrm>
              <a:off x="71280" y="374796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5" descr="MPj01787530000[1]"/>
            <p:cNvPicPr/>
            <p:nvPr/>
          </p:nvPicPr>
          <p:blipFill>
            <a:blip r:embed="rId4"/>
            <a:srcRect l="21937" t="15511" r="27921" b="12148"/>
            <a:stretch/>
          </p:blipFill>
          <p:spPr>
            <a:xfrm>
              <a:off x="71280" y="269136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Picture 6" descr="MPj04032910000[1]"/>
            <p:cNvPicPr/>
            <p:nvPr/>
          </p:nvPicPr>
          <p:blipFill>
            <a:blip r:embed="rId5"/>
            <a:srcRect l="37654" t="0" r="0" b="0"/>
            <a:stretch/>
          </p:blipFill>
          <p:spPr>
            <a:xfrm>
              <a:off x="71280" y="163512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Picture 8" descr="People"/>
            <p:cNvPicPr/>
            <p:nvPr/>
          </p:nvPicPr>
          <p:blipFill>
            <a:blip r:embed="rId6"/>
            <a:stretch/>
          </p:blipFill>
          <p:spPr>
            <a:xfrm>
              <a:off x="71280" y="586080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Picture 10" descr="MPj04019050000[1]"/>
            <p:cNvPicPr/>
            <p:nvPr/>
          </p:nvPicPr>
          <p:blipFill>
            <a:blip r:embed="rId7"/>
            <a:srcRect l="21937" t="15591" r="24787" b="6483"/>
            <a:stretch/>
          </p:blipFill>
          <p:spPr>
            <a:xfrm>
              <a:off x="71280" y="4804560"/>
              <a:ext cx="928800" cy="92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2"/>
                </a:solidFill>
                <a:latin typeface="Frutiger LT Pro 57 Condensed"/>
              </a:rPr>
              <a:t>Click to edit the title text format</a:t>
            </a: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92cd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Click to edit the outline text format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1" marL="743040" indent="-28584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econd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2" marL="11430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Third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3" marL="16002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Four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4" marL="20574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Fif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ix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even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26"/>
          </p:nvPr>
        </p:nvSpPr>
        <p:spPr>
          <a:xfrm>
            <a:off x="969480" y="6227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27"/>
          </p:nvPr>
        </p:nvSpPr>
        <p:spPr>
          <a:xfrm>
            <a:off x="3425760" y="62272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28"/>
          </p:nvPr>
        </p:nvSpPr>
        <p:spPr>
          <a:xfrm>
            <a:off x="1285920" y="6572160"/>
            <a:ext cx="64296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4D83-221C-4A9B-B1B3-CEE4F47C05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8"/>
    <p:sldLayoutId id="2147483780" r:id="rId9"/>
    <p:sldLayoutId id="2147483781" r:id="rId10"/>
    <p:sldLayoutId id="2147483782" r:id="rId11"/>
    <p:sldLayoutId id="2147483783" r:id="rId12"/>
    <p:sldLayoutId id="2147483784" r:id="rId13"/>
    <p:sldLayoutId id="2147483785" r:id="rId14"/>
    <p:sldLayoutId id="2147483786" r:id="rId15"/>
    <p:sldLayoutId id="2147483787" r:id="rId16"/>
    <p:sldLayoutId id="2147483788" r:id="rId17"/>
    <p:sldLayoutId id="2147483789" r:id="rId18"/>
    <p:sldLayoutId id="2147483790" r:id="rId19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15" descr="IPCCLogoBlue_RGB_72PPI.jpg"/>
          <p:cNvPicPr/>
          <p:nvPr/>
        </p:nvPicPr>
        <p:blipFill>
          <a:blip r:embed="rId2"/>
          <a:stretch/>
        </p:blipFill>
        <p:spPr>
          <a:xfrm>
            <a:off x="5214960" y="6000840"/>
            <a:ext cx="3873600" cy="798480"/>
          </a:xfrm>
          <a:prstGeom prst="rect">
            <a:avLst/>
          </a:prstGeom>
          <a:ln w="0">
            <a:noFill/>
          </a:ln>
        </p:spPr>
      </p:pic>
      <p:grpSp>
        <p:nvGrpSpPr>
          <p:cNvPr id="522" name="Group 25"/>
          <p:cNvGrpSpPr/>
          <p:nvPr/>
        </p:nvGrpSpPr>
        <p:grpSpPr>
          <a:xfrm>
            <a:off x="71280" y="1635120"/>
            <a:ext cx="928800" cy="5151600"/>
            <a:chOff x="71280" y="1635120"/>
            <a:chExt cx="928800" cy="5151600"/>
          </a:xfrm>
        </p:grpSpPr>
        <p:pic>
          <p:nvPicPr>
            <p:cNvPr id="523" name="Picture 3" descr="MPj04004720000[1]"/>
            <p:cNvPicPr/>
            <p:nvPr/>
          </p:nvPicPr>
          <p:blipFill>
            <a:blip r:embed="rId3"/>
            <a:srcRect l="21937" t="0" r="21654" b="9530"/>
            <a:stretch/>
          </p:blipFill>
          <p:spPr>
            <a:xfrm>
              <a:off x="71280" y="374796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5" descr="MPj01787530000[1]"/>
            <p:cNvPicPr/>
            <p:nvPr/>
          </p:nvPicPr>
          <p:blipFill>
            <a:blip r:embed="rId4"/>
            <a:srcRect l="21937" t="15511" r="27921" b="12148"/>
            <a:stretch/>
          </p:blipFill>
          <p:spPr>
            <a:xfrm>
              <a:off x="71280" y="269136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5" name="Picture 6" descr="MPj04032910000[1]"/>
            <p:cNvPicPr/>
            <p:nvPr/>
          </p:nvPicPr>
          <p:blipFill>
            <a:blip r:embed="rId5"/>
            <a:srcRect l="37654" t="0" r="0" b="0"/>
            <a:stretch/>
          </p:blipFill>
          <p:spPr>
            <a:xfrm>
              <a:off x="71280" y="163512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Picture 8" descr="People"/>
            <p:cNvPicPr/>
            <p:nvPr/>
          </p:nvPicPr>
          <p:blipFill>
            <a:blip r:embed="rId6"/>
            <a:stretch/>
          </p:blipFill>
          <p:spPr>
            <a:xfrm>
              <a:off x="71280" y="586080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7" name="Picture 10" descr="MPj04019050000[1]"/>
            <p:cNvPicPr/>
            <p:nvPr/>
          </p:nvPicPr>
          <p:blipFill>
            <a:blip r:embed="rId7"/>
            <a:srcRect l="21937" t="15591" r="24787" b="6483"/>
            <a:stretch/>
          </p:blipFill>
          <p:spPr>
            <a:xfrm>
              <a:off x="71280" y="4804560"/>
              <a:ext cx="928800" cy="92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2"/>
                </a:solidFill>
                <a:latin typeface="Frutiger LT Pro 57 Condensed"/>
              </a:rPr>
              <a:t>Click to edit the title text format</a:t>
            </a: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92cd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Click to edit the outline text format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1" marL="743040" indent="-28584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econd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2" marL="11430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Third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3" marL="16002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Four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4" marL="20574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Fif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ix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even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29"/>
          </p:nvPr>
        </p:nvSpPr>
        <p:spPr>
          <a:xfrm>
            <a:off x="969480" y="6227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30"/>
          </p:nvPr>
        </p:nvSpPr>
        <p:spPr>
          <a:xfrm>
            <a:off x="3425760" y="62272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31"/>
          </p:nvPr>
        </p:nvSpPr>
        <p:spPr>
          <a:xfrm>
            <a:off x="1285920" y="6572160"/>
            <a:ext cx="64296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8EA7-0522-43C8-836A-D4B4944035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8"/>
    <p:sldLayoutId id="2147483793" r:id="rId9"/>
    <p:sldLayoutId id="2147483794" r:id="rId10"/>
    <p:sldLayoutId id="2147483795" r:id="rId11"/>
    <p:sldLayoutId id="2147483796" r:id="rId12"/>
    <p:sldLayoutId id="2147483797" r:id="rId13"/>
    <p:sldLayoutId id="2147483798" r:id="rId14"/>
    <p:sldLayoutId id="2147483799" r:id="rId15"/>
    <p:sldLayoutId id="2147483800" r:id="rId16"/>
    <p:sldLayoutId id="2147483801" r:id="rId17"/>
    <p:sldLayoutId id="2147483802" r:id="rId18"/>
    <p:sldLayoutId id="2147483803" r:id="rId19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15" descr="IPCCLogoBlue_RGB_72PPI.jpg"/>
          <p:cNvPicPr/>
          <p:nvPr/>
        </p:nvPicPr>
        <p:blipFill>
          <a:blip r:embed="rId2"/>
          <a:stretch/>
        </p:blipFill>
        <p:spPr>
          <a:xfrm>
            <a:off x="5214960" y="6000840"/>
            <a:ext cx="3873600" cy="798480"/>
          </a:xfrm>
          <a:prstGeom prst="rect">
            <a:avLst/>
          </a:prstGeom>
          <a:ln w="0">
            <a:noFill/>
          </a:ln>
        </p:spPr>
      </p:pic>
      <p:grpSp>
        <p:nvGrpSpPr>
          <p:cNvPr id="570" name="Group 25"/>
          <p:cNvGrpSpPr/>
          <p:nvPr/>
        </p:nvGrpSpPr>
        <p:grpSpPr>
          <a:xfrm>
            <a:off x="71280" y="1635120"/>
            <a:ext cx="928800" cy="5151600"/>
            <a:chOff x="71280" y="1635120"/>
            <a:chExt cx="928800" cy="5151600"/>
          </a:xfrm>
        </p:grpSpPr>
        <p:pic>
          <p:nvPicPr>
            <p:cNvPr id="571" name="Picture 3" descr="MPj04004720000[1]"/>
            <p:cNvPicPr/>
            <p:nvPr/>
          </p:nvPicPr>
          <p:blipFill>
            <a:blip r:embed="rId3"/>
            <a:srcRect l="21937" t="0" r="21654" b="9530"/>
            <a:stretch/>
          </p:blipFill>
          <p:spPr>
            <a:xfrm>
              <a:off x="71280" y="374796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5" descr="MPj01787530000[1]"/>
            <p:cNvPicPr/>
            <p:nvPr/>
          </p:nvPicPr>
          <p:blipFill>
            <a:blip r:embed="rId4"/>
            <a:srcRect l="21937" t="15511" r="27921" b="12148"/>
            <a:stretch/>
          </p:blipFill>
          <p:spPr>
            <a:xfrm>
              <a:off x="71280" y="269136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Picture 6" descr="MPj04032910000[1]"/>
            <p:cNvPicPr/>
            <p:nvPr/>
          </p:nvPicPr>
          <p:blipFill>
            <a:blip r:embed="rId5"/>
            <a:srcRect l="37654" t="0" r="0" b="0"/>
            <a:stretch/>
          </p:blipFill>
          <p:spPr>
            <a:xfrm>
              <a:off x="71280" y="163512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Picture 8" descr="People"/>
            <p:cNvPicPr/>
            <p:nvPr/>
          </p:nvPicPr>
          <p:blipFill>
            <a:blip r:embed="rId6"/>
            <a:stretch/>
          </p:blipFill>
          <p:spPr>
            <a:xfrm>
              <a:off x="71280" y="586080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Picture 10" descr="MPj04019050000[1]"/>
            <p:cNvPicPr/>
            <p:nvPr/>
          </p:nvPicPr>
          <p:blipFill>
            <a:blip r:embed="rId7"/>
            <a:srcRect l="21937" t="15591" r="24787" b="6483"/>
            <a:stretch/>
          </p:blipFill>
          <p:spPr>
            <a:xfrm>
              <a:off x="71280" y="4804560"/>
              <a:ext cx="928800" cy="92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2"/>
                </a:solidFill>
                <a:latin typeface="Frutiger LT Pro 57 Condensed"/>
              </a:rPr>
              <a:t>Click to edit the title text format</a:t>
            </a: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92cd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Click to edit the outline text format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1" marL="743040" indent="-28584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econd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2" marL="11430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Third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3" marL="16002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Four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4" marL="20574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Fif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ix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even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2"/>
          </p:nvPr>
        </p:nvSpPr>
        <p:spPr>
          <a:xfrm>
            <a:off x="969480" y="6227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3"/>
          </p:nvPr>
        </p:nvSpPr>
        <p:spPr>
          <a:xfrm>
            <a:off x="3425760" y="62272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4"/>
          </p:nvPr>
        </p:nvSpPr>
        <p:spPr>
          <a:xfrm>
            <a:off x="1285920" y="6572160"/>
            <a:ext cx="64296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DC39-98F8-4319-ACAC-8FD4913091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8"/>
    <p:sldLayoutId id="2147483806" r:id="rId9"/>
    <p:sldLayoutId id="2147483807" r:id="rId10"/>
    <p:sldLayoutId id="2147483808" r:id="rId11"/>
    <p:sldLayoutId id="2147483809" r:id="rId12"/>
    <p:sldLayoutId id="2147483810" r:id="rId13"/>
    <p:sldLayoutId id="2147483811" r:id="rId14"/>
    <p:sldLayoutId id="2147483812" r:id="rId15"/>
    <p:sldLayoutId id="2147483813" r:id="rId16"/>
    <p:sldLayoutId id="2147483814" r:id="rId17"/>
    <p:sldLayoutId id="2147483815" r:id="rId18"/>
    <p:sldLayoutId id="2147483816" r:id="rId19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15" descr="IPCCLogoBlue_RGB_72PPI.jpg"/>
          <p:cNvPicPr/>
          <p:nvPr/>
        </p:nvPicPr>
        <p:blipFill>
          <a:blip r:embed="rId2"/>
          <a:stretch/>
        </p:blipFill>
        <p:spPr>
          <a:xfrm>
            <a:off x="5214960" y="6000840"/>
            <a:ext cx="3873600" cy="798480"/>
          </a:xfrm>
          <a:prstGeom prst="rect">
            <a:avLst/>
          </a:prstGeom>
          <a:ln w="0">
            <a:noFill/>
          </a:ln>
        </p:spPr>
      </p:pic>
      <p:grpSp>
        <p:nvGrpSpPr>
          <p:cNvPr id="618" name="Group 25"/>
          <p:cNvGrpSpPr/>
          <p:nvPr/>
        </p:nvGrpSpPr>
        <p:grpSpPr>
          <a:xfrm>
            <a:off x="71280" y="1635120"/>
            <a:ext cx="928800" cy="5151600"/>
            <a:chOff x="71280" y="1635120"/>
            <a:chExt cx="928800" cy="5151600"/>
          </a:xfrm>
        </p:grpSpPr>
        <p:pic>
          <p:nvPicPr>
            <p:cNvPr id="619" name="Picture 3" descr="MPj04004720000[1]"/>
            <p:cNvPicPr/>
            <p:nvPr/>
          </p:nvPicPr>
          <p:blipFill>
            <a:blip r:embed="rId3"/>
            <a:srcRect l="21937" t="0" r="21654" b="9530"/>
            <a:stretch/>
          </p:blipFill>
          <p:spPr>
            <a:xfrm>
              <a:off x="71280" y="374796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5" descr="MPj01787530000[1]"/>
            <p:cNvPicPr/>
            <p:nvPr/>
          </p:nvPicPr>
          <p:blipFill>
            <a:blip r:embed="rId4"/>
            <a:srcRect l="21937" t="15511" r="27921" b="12148"/>
            <a:stretch/>
          </p:blipFill>
          <p:spPr>
            <a:xfrm>
              <a:off x="71280" y="269136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Picture 6" descr="MPj04032910000[1]"/>
            <p:cNvPicPr/>
            <p:nvPr/>
          </p:nvPicPr>
          <p:blipFill>
            <a:blip r:embed="rId5"/>
            <a:srcRect l="37654" t="0" r="0" b="0"/>
            <a:stretch/>
          </p:blipFill>
          <p:spPr>
            <a:xfrm>
              <a:off x="71280" y="163512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8" descr="People"/>
            <p:cNvPicPr/>
            <p:nvPr/>
          </p:nvPicPr>
          <p:blipFill>
            <a:blip r:embed="rId6"/>
            <a:stretch/>
          </p:blipFill>
          <p:spPr>
            <a:xfrm>
              <a:off x="71280" y="586080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Picture 10" descr="MPj04019050000[1]"/>
            <p:cNvPicPr/>
            <p:nvPr/>
          </p:nvPicPr>
          <p:blipFill>
            <a:blip r:embed="rId7"/>
            <a:srcRect l="21937" t="15591" r="24787" b="6483"/>
            <a:stretch/>
          </p:blipFill>
          <p:spPr>
            <a:xfrm>
              <a:off x="71280" y="4804560"/>
              <a:ext cx="928800" cy="92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2"/>
                </a:solidFill>
                <a:latin typeface="Frutiger LT Pro 57 Condensed"/>
              </a:rPr>
              <a:t>Click to edit the title text format</a:t>
            </a: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92cd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Click to edit the outline text format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1" marL="743040" indent="-28584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econd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2" marL="11430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Third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3" marL="16002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Four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4" marL="20574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Fif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ix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even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5"/>
          </p:nvPr>
        </p:nvSpPr>
        <p:spPr>
          <a:xfrm>
            <a:off x="969480" y="6227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6"/>
          </p:nvPr>
        </p:nvSpPr>
        <p:spPr>
          <a:xfrm>
            <a:off x="3425760" y="62272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7"/>
          </p:nvPr>
        </p:nvSpPr>
        <p:spPr>
          <a:xfrm>
            <a:off x="1285920" y="6572160"/>
            <a:ext cx="64296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5646-CF3A-4ABD-87A5-71F3A7E5D7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8"/>
    <p:sldLayoutId id="2147483819" r:id="rId9"/>
    <p:sldLayoutId id="2147483820" r:id="rId10"/>
    <p:sldLayoutId id="2147483821" r:id="rId11"/>
    <p:sldLayoutId id="2147483822" r:id="rId12"/>
    <p:sldLayoutId id="2147483823" r:id="rId13"/>
    <p:sldLayoutId id="2147483824" r:id="rId14"/>
    <p:sldLayoutId id="2147483825" r:id="rId15"/>
    <p:sldLayoutId id="2147483826" r:id="rId16"/>
    <p:sldLayoutId id="2147483827" r:id="rId17"/>
    <p:sldLayoutId id="2147483828" r:id="rId18"/>
    <p:sldLayoutId id="2147483829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0"/>
          <p:cNvSpPr/>
          <p:nvPr/>
        </p:nvSpPr>
        <p:spPr>
          <a:xfrm>
            <a:off x="395280" y="260280"/>
            <a:ext cx="87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IPCCLogoBlue_RGB_72PPI.jpg"/>
          <p:cNvPicPr/>
          <p:nvPr/>
        </p:nvPicPr>
        <p:blipFill>
          <a:blip r:embed="rId2"/>
          <a:stretch/>
        </p:blipFill>
        <p:spPr>
          <a:xfrm>
            <a:off x="2913120" y="5516640"/>
            <a:ext cx="6159600" cy="1270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3"/>
          <a:srcRect l="14962" t="14264" r="14997" b="14464"/>
          <a:stretch/>
        </p:blipFill>
        <p:spPr>
          <a:xfrm>
            <a:off x="0" y="0"/>
            <a:ext cx="9144000" cy="1928880"/>
          </a:xfrm>
          <a:prstGeom prst="rect">
            <a:avLst/>
          </a:prstGeom>
          <a:ln w="0">
            <a:noFill/>
          </a:ln>
        </p:spPr>
      </p:pic>
      <p:sp>
        <p:nvSpPr>
          <p:cNvPr id="49" name="TextBox 14"/>
          <p:cNvSpPr/>
          <p:nvPr/>
        </p:nvSpPr>
        <p:spPr>
          <a:xfrm>
            <a:off x="1071720" y="0"/>
            <a:ext cx="80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utiger LT Pro 57 Condensed"/>
              </a:rPr>
              <a:t>Task Force on National Greenhouse Gas Inven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4"/>
          <a:stretch/>
        </p:blipFill>
        <p:spPr>
          <a:xfrm>
            <a:off x="0" y="6261120"/>
            <a:ext cx="928800" cy="5968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2"/>
                </a:solidFill>
                <a:latin typeface="Frutiger LT Pro 57 Condensed"/>
              </a:rPr>
              <a:t>Click to edit the title text format</a:t>
            </a: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92cd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Click to edit the outline text format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1" marL="743040" indent="-28584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econd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2" marL="11430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Third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3" marL="16002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Four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4" marL="20574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Fif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ix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even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5" descr="IPCCLogoBlue_RGB_72PPI.jpg"/>
          <p:cNvPicPr/>
          <p:nvPr/>
        </p:nvPicPr>
        <p:blipFill>
          <a:blip r:embed="rId2"/>
          <a:stretch/>
        </p:blipFill>
        <p:spPr>
          <a:xfrm>
            <a:off x="5214960" y="6000840"/>
            <a:ext cx="3873600" cy="79848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25"/>
          <p:cNvGrpSpPr/>
          <p:nvPr/>
        </p:nvGrpSpPr>
        <p:grpSpPr>
          <a:xfrm>
            <a:off x="71280" y="1635120"/>
            <a:ext cx="928800" cy="5151600"/>
            <a:chOff x="71280" y="1635120"/>
            <a:chExt cx="928800" cy="5151600"/>
          </a:xfrm>
        </p:grpSpPr>
        <p:pic>
          <p:nvPicPr>
            <p:cNvPr id="91" name="Picture 3" descr="MPj04004720000[1]"/>
            <p:cNvPicPr/>
            <p:nvPr/>
          </p:nvPicPr>
          <p:blipFill>
            <a:blip r:embed="rId3"/>
            <a:srcRect l="21937" t="0" r="21654" b="9530"/>
            <a:stretch/>
          </p:blipFill>
          <p:spPr>
            <a:xfrm>
              <a:off x="71280" y="374796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5" descr="MPj01787530000[1]"/>
            <p:cNvPicPr/>
            <p:nvPr/>
          </p:nvPicPr>
          <p:blipFill>
            <a:blip r:embed="rId4"/>
            <a:srcRect l="21937" t="15511" r="27921" b="12148"/>
            <a:stretch/>
          </p:blipFill>
          <p:spPr>
            <a:xfrm>
              <a:off x="71280" y="269136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6" descr="MPj04032910000[1]"/>
            <p:cNvPicPr/>
            <p:nvPr/>
          </p:nvPicPr>
          <p:blipFill>
            <a:blip r:embed="rId5"/>
            <a:srcRect l="37654" t="0" r="0" b="0"/>
            <a:stretch/>
          </p:blipFill>
          <p:spPr>
            <a:xfrm>
              <a:off x="71280" y="163512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8" descr="People"/>
            <p:cNvPicPr/>
            <p:nvPr/>
          </p:nvPicPr>
          <p:blipFill>
            <a:blip r:embed="rId6"/>
            <a:stretch/>
          </p:blipFill>
          <p:spPr>
            <a:xfrm>
              <a:off x="71280" y="586080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10" descr="MPj04019050000[1]"/>
            <p:cNvPicPr/>
            <p:nvPr/>
          </p:nvPicPr>
          <p:blipFill>
            <a:blip r:embed="rId7"/>
            <a:srcRect l="21937" t="15591" r="24787" b="6483"/>
            <a:stretch/>
          </p:blipFill>
          <p:spPr>
            <a:xfrm>
              <a:off x="71280" y="4804560"/>
              <a:ext cx="928800" cy="92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2"/>
                </a:solidFill>
                <a:latin typeface="Frutiger LT Pro 57 Condensed"/>
              </a:rPr>
              <a:t>Click to edit the title text format</a:t>
            </a: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92cd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Click to edit the outline text format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1" marL="743040" indent="-28584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econd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2" marL="11430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Third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3" marL="16002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Four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4" marL="20574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Fif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ix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even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2"/>
          </p:nvPr>
        </p:nvSpPr>
        <p:spPr>
          <a:xfrm>
            <a:off x="969480" y="6227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3"/>
          </p:nvPr>
        </p:nvSpPr>
        <p:spPr>
          <a:xfrm>
            <a:off x="3425760" y="62272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4"/>
          </p:nvPr>
        </p:nvSpPr>
        <p:spPr>
          <a:xfrm>
            <a:off x="1285920" y="6572160"/>
            <a:ext cx="64296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B210-0758-410C-B098-0637B974A9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5" descr="IPCCLogoBlue_RGB_72PPI.jpg"/>
          <p:cNvPicPr/>
          <p:nvPr/>
        </p:nvPicPr>
        <p:blipFill>
          <a:blip r:embed="rId2"/>
          <a:stretch/>
        </p:blipFill>
        <p:spPr>
          <a:xfrm>
            <a:off x="5214960" y="6000840"/>
            <a:ext cx="3873600" cy="79848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25"/>
          <p:cNvGrpSpPr/>
          <p:nvPr/>
        </p:nvGrpSpPr>
        <p:grpSpPr>
          <a:xfrm>
            <a:off x="71280" y="1635120"/>
            <a:ext cx="928800" cy="5151600"/>
            <a:chOff x="71280" y="1635120"/>
            <a:chExt cx="928800" cy="5151600"/>
          </a:xfrm>
        </p:grpSpPr>
        <p:pic>
          <p:nvPicPr>
            <p:cNvPr id="139" name="Picture 3" descr="MPj04004720000[1]"/>
            <p:cNvPicPr/>
            <p:nvPr/>
          </p:nvPicPr>
          <p:blipFill>
            <a:blip r:embed="rId3"/>
            <a:srcRect l="21937" t="0" r="21654" b="9530"/>
            <a:stretch/>
          </p:blipFill>
          <p:spPr>
            <a:xfrm>
              <a:off x="71280" y="374796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5" descr="MPj01787530000[1]"/>
            <p:cNvPicPr/>
            <p:nvPr/>
          </p:nvPicPr>
          <p:blipFill>
            <a:blip r:embed="rId4"/>
            <a:srcRect l="21937" t="15511" r="27921" b="12148"/>
            <a:stretch/>
          </p:blipFill>
          <p:spPr>
            <a:xfrm>
              <a:off x="71280" y="269136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6" descr="MPj04032910000[1]"/>
            <p:cNvPicPr/>
            <p:nvPr/>
          </p:nvPicPr>
          <p:blipFill>
            <a:blip r:embed="rId5"/>
            <a:srcRect l="37654" t="0" r="0" b="0"/>
            <a:stretch/>
          </p:blipFill>
          <p:spPr>
            <a:xfrm>
              <a:off x="71280" y="163512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8" descr="People"/>
            <p:cNvPicPr/>
            <p:nvPr/>
          </p:nvPicPr>
          <p:blipFill>
            <a:blip r:embed="rId6"/>
            <a:stretch/>
          </p:blipFill>
          <p:spPr>
            <a:xfrm>
              <a:off x="71280" y="586080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10" descr="MPj04019050000[1]"/>
            <p:cNvPicPr/>
            <p:nvPr/>
          </p:nvPicPr>
          <p:blipFill>
            <a:blip r:embed="rId7"/>
            <a:srcRect l="21937" t="15591" r="24787" b="6483"/>
            <a:stretch/>
          </p:blipFill>
          <p:spPr>
            <a:xfrm>
              <a:off x="71280" y="4804560"/>
              <a:ext cx="928800" cy="92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2"/>
                </a:solidFill>
                <a:latin typeface="Frutiger LT Pro 57 Condensed"/>
              </a:rPr>
              <a:t>Click to edit the title text format</a:t>
            </a: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92cd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Click to edit the outline text format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1" marL="743040" indent="-28584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econd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2" marL="11430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Third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3" marL="16002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Four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4" marL="20574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Fif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ix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even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5"/>
          </p:nvPr>
        </p:nvSpPr>
        <p:spPr>
          <a:xfrm>
            <a:off x="969480" y="6227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6"/>
          </p:nvPr>
        </p:nvSpPr>
        <p:spPr>
          <a:xfrm>
            <a:off x="3425760" y="62272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7"/>
          </p:nvPr>
        </p:nvSpPr>
        <p:spPr>
          <a:xfrm>
            <a:off x="1285920" y="6572160"/>
            <a:ext cx="64296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EF8F-682C-46FF-B779-27BEC1A6BF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5" descr="IPCCLogoBlue_RGB_72PPI.jpg"/>
          <p:cNvPicPr/>
          <p:nvPr/>
        </p:nvPicPr>
        <p:blipFill>
          <a:blip r:embed="rId2"/>
          <a:stretch/>
        </p:blipFill>
        <p:spPr>
          <a:xfrm>
            <a:off x="5214960" y="6000840"/>
            <a:ext cx="3873600" cy="79848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25"/>
          <p:cNvGrpSpPr/>
          <p:nvPr/>
        </p:nvGrpSpPr>
        <p:grpSpPr>
          <a:xfrm>
            <a:off x="71280" y="1635120"/>
            <a:ext cx="928800" cy="5151600"/>
            <a:chOff x="71280" y="1635120"/>
            <a:chExt cx="928800" cy="5151600"/>
          </a:xfrm>
        </p:grpSpPr>
        <p:pic>
          <p:nvPicPr>
            <p:cNvPr id="187" name="Picture 3" descr="MPj04004720000[1]"/>
            <p:cNvPicPr/>
            <p:nvPr/>
          </p:nvPicPr>
          <p:blipFill>
            <a:blip r:embed="rId3"/>
            <a:srcRect l="21937" t="0" r="21654" b="9530"/>
            <a:stretch/>
          </p:blipFill>
          <p:spPr>
            <a:xfrm>
              <a:off x="71280" y="374796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5" descr="MPj01787530000[1]"/>
            <p:cNvPicPr/>
            <p:nvPr/>
          </p:nvPicPr>
          <p:blipFill>
            <a:blip r:embed="rId4"/>
            <a:srcRect l="21937" t="15511" r="27921" b="12148"/>
            <a:stretch/>
          </p:blipFill>
          <p:spPr>
            <a:xfrm>
              <a:off x="71280" y="269136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6" descr="MPj04032910000[1]"/>
            <p:cNvPicPr/>
            <p:nvPr/>
          </p:nvPicPr>
          <p:blipFill>
            <a:blip r:embed="rId5"/>
            <a:srcRect l="37654" t="0" r="0" b="0"/>
            <a:stretch/>
          </p:blipFill>
          <p:spPr>
            <a:xfrm>
              <a:off x="71280" y="163512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8" descr="People"/>
            <p:cNvPicPr/>
            <p:nvPr/>
          </p:nvPicPr>
          <p:blipFill>
            <a:blip r:embed="rId6"/>
            <a:stretch/>
          </p:blipFill>
          <p:spPr>
            <a:xfrm>
              <a:off x="71280" y="586080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10" descr="MPj04019050000[1]"/>
            <p:cNvPicPr/>
            <p:nvPr/>
          </p:nvPicPr>
          <p:blipFill>
            <a:blip r:embed="rId7"/>
            <a:srcRect l="21937" t="15591" r="24787" b="6483"/>
            <a:stretch/>
          </p:blipFill>
          <p:spPr>
            <a:xfrm>
              <a:off x="71280" y="4804560"/>
              <a:ext cx="928800" cy="92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2"/>
                </a:solidFill>
                <a:latin typeface="Frutiger LT Pro 57 Condensed"/>
              </a:rPr>
              <a:t>Click to edit the title text format</a:t>
            </a: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92cd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Click to edit the outline text format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1" marL="743040" indent="-28584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econd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2" marL="11430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Third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3" marL="16002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Four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4" marL="20574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Fif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ix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even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8"/>
          </p:nvPr>
        </p:nvSpPr>
        <p:spPr>
          <a:xfrm>
            <a:off x="969480" y="6227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9"/>
          </p:nvPr>
        </p:nvSpPr>
        <p:spPr>
          <a:xfrm>
            <a:off x="3425760" y="62272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0"/>
          </p:nvPr>
        </p:nvSpPr>
        <p:spPr>
          <a:xfrm>
            <a:off x="1285920" y="6572160"/>
            <a:ext cx="64296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F2A7-7362-4D9A-B3A9-28E82DD5BC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15" descr="IPCCLogoBlue_RGB_72PPI.jpg"/>
          <p:cNvPicPr/>
          <p:nvPr/>
        </p:nvPicPr>
        <p:blipFill>
          <a:blip r:embed="rId2"/>
          <a:stretch/>
        </p:blipFill>
        <p:spPr>
          <a:xfrm>
            <a:off x="5214960" y="6000840"/>
            <a:ext cx="3873600" cy="798480"/>
          </a:xfrm>
          <a:prstGeom prst="rect">
            <a:avLst/>
          </a:prstGeom>
          <a:ln w="0">
            <a:noFill/>
          </a:ln>
        </p:spPr>
      </p:pic>
      <p:grpSp>
        <p:nvGrpSpPr>
          <p:cNvPr id="234" name="Group 25"/>
          <p:cNvGrpSpPr/>
          <p:nvPr/>
        </p:nvGrpSpPr>
        <p:grpSpPr>
          <a:xfrm>
            <a:off x="71280" y="1635120"/>
            <a:ext cx="928800" cy="5151600"/>
            <a:chOff x="71280" y="1635120"/>
            <a:chExt cx="928800" cy="5151600"/>
          </a:xfrm>
        </p:grpSpPr>
        <p:pic>
          <p:nvPicPr>
            <p:cNvPr id="235" name="Picture 3" descr="MPj04004720000[1]"/>
            <p:cNvPicPr/>
            <p:nvPr/>
          </p:nvPicPr>
          <p:blipFill>
            <a:blip r:embed="rId3"/>
            <a:srcRect l="21937" t="0" r="21654" b="9530"/>
            <a:stretch/>
          </p:blipFill>
          <p:spPr>
            <a:xfrm>
              <a:off x="71280" y="374796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5" descr="MPj01787530000[1]"/>
            <p:cNvPicPr/>
            <p:nvPr/>
          </p:nvPicPr>
          <p:blipFill>
            <a:blip r:embed="rId4"/>
            <a:srcRect l="21937" t="15511" r="27921" b="12148"/>
            <a:stretch/>
          </p:blipFill>
          <p:spPr>
            <a:xfrm>
              <a:off x="71280" y="269136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6" descr="MPj04032910000[1]"/>
            <p:cNvPicPr/>
            <p:nvPr/>
          </p:nvPicPr>
          <p:blipFill>
            <a:blip r:embed="rId5"/>
            <a:srcRect l="37654" t="0" r="0" b="0"/>
            <a:stretch/>
          </p:blipFill>
          <p:spPr>
            <a:xfrm>
              <a:off x="71280" y="163512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8" descr="People"/>
            <p:cNvPicPr/>
            <p:nvPr/>
          </p:nvPicPr>
          <p:blipFill>
            <a:blip r:embed="rId6"/>
            <a:stretch/>
          </p:blipFill>
          <p:spPr>
            <a:xfrm>
              <a:off x="71280" y="586080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0" descr="MPj04019050000[1]"/>
            <p:cNvPicPr/>
            <p:nvPr/>
          </p:nvPicPr>
          <p:blipFill>
            <a:blip r:embed="rId7"/>
            <a:srcRect l="21937" t="15591" r="24787" b="6483"/>
            <a:stretch/>
          </p:blipFill>
          <p:spPr>
            <a:xfrm>
              <a:off x="71280" y="4804560"/>
              <a:ext cx="928800" cy="92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2"/>
                </a:solidFill>
                <a:latin typeface="Frutiger LT Pro 57 Condensed"/>
              </a:rPr>
              <a:t>Click to edit the title text format</a:t>
            </a: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92cd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Click to edit the outline text format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1" marL="743040" indent="-28584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econd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2" marL="11430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Third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3" marL="16002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Four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4" marL="20574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Fif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ix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even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1"/>
          </p:nvPr>
        </p:nvSpPr>
        <p:spPr>
          <a:xfrm>
            <a:off x="969480" y="6227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2"/>
          </p:nvPr>
        </p:nvSpPr>
        <p:spPr>
          <a:xfrm>
            <a:off x="3425760" y="62272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3"/>
          </p:nvPr>
        </p:nvSpPr>
        <p:spPr>
          <a:xfrm>
            <a:off x="1285920" y="6572160"/>
            <a:ext cx="64296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C579-710F-405D-9E8A-C865D5DE05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8"/>
    <p:sldLayoutId id="2147483715" r:id="rId9"/>
    <p:sldLayoutId id="2147483716" r:id="rId10"/>
    <p:sldLayoutId id="2147483717" r:id="rId11"/>
    <p:sldLayoutId id="2147483718" r:id="rId12"/>
    <p:sldLayoutId id="2147483719" r:id="rId13"/>
    <p:sldLayoutId id="2147483720" r:id="rId14"/>
    <p:sldLayoutId id="2147483721" r:id="rId15"/>
    <p:sldLayoutId id="2147483722" r:id="rId16"/>
    <p:sldLayoutId id="2147483723" r:id="rId17"/>
    <p:sldLayoutId id="2147483724" r:id="rId18"/>
    <p:sldLayoutId id="2147483725" r:id="rId19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15" descr="IPCCLogoBlue_RGB_72PPI.jpg"/>
          <p:cNvPicPr/>
          <p:nvPr/>
        </p:nvPicPr>
        <p:blipFill>
          <a:blip r:embed="rId2"/>
          <a:stretch/>
        </p:blipFill>
        <p:spPr>
          <a:xfrm>
            <a:off x="5214960" y="6000840"/>
            <a:ext cx="3873600" cy="798480"/>
          </a:xfrm>
          <a:prstGeom prst="rect">
            <a:avLst/>
          </a:prstGeom>
          <a:ln w="0">
            <a:noFill/>
          </a:ln>
        </p:spPr>
      </p:pic>
      <p:grpSp>
        <p:nvGrpSpPr>
          <p:cNvPr id="282" name="Group 25"/>
          <p:cNvGrpSpPr/>
          <p:nvPr/>
        </p:nvGrpSpPr>
        <p:grpSpPr>
          <a:xfrm>
            <a:off x="71280" y="1635120"/>
            <a:ext cx="928800" cy="5151600"/>
            <a:chOff x="71280" y="1635120"/>
            <a:chExt cx="928800" cy="5151600"/>
          </a:xfrm>
        </p:grpSpPr>
        <p:pic>
          <p:nvPicPr>
            <p:cNvPr id="283" name="Picture 3" descr="MPj04004720000[1]"/>
            <p:cNvPicPr/>
            <p:nvPr/>
          </p:nvPicPr>
          <p:blipFill>
            <a:blip r:embed="rId3"/>
            <a:srcRect l="21937" t="0" r="21654" b="9530"/>
            <a:stretch/>
          </p:blipFill>
          <p:spPr>
            <a:xfrm>
              <a:off x="71280" y="374796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5" descr="MPj01787530000[1]"/>
            <p:cNvPicPr/>
            <p:nvPr/>
          </p:nvPicPr>
          <p:blipFill>
            <a:blip r:embed="rId4"/>
            <a:srcRect l="21937" t="15511" r="27921" b="12148"/>
            <a:stretch/>
          </p:blipFill>
          <p:spPr>
            <a:xfrm>
              <a:off x="71280" y="269136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" descr="MPj04032910000[1]"/>
            <p:cNvPicPr/>
            <p:nvPr/>
          </p:nvPicPr>
          <p:blipFill>
            <a:blip r:embed="rId5"/>
            <a:srcRect l="37654" t="0" r="0" b="0"/>
            <a:stretch/>
          </p:blipFill>
          <p:spPr>
            <a:xfrm>
              <a:off x="71280" y="163512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8" descr="People"/>
            <p:cNvPicPr/>
            <p:nvPr/>
          </p:nvPicPr>
          <p:blipFill>
            <a:blip r:embed="rId6"/>
            <a:stretch/>
          </p:blipFill>
          <p:spPr>
            <a:xfrm>
              <a:off x="71280" y="586080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10" descr="MPj04019050000[1]"/>
            <p:cNvPicPr/>
            <p:nvPr/>
          </p:nvPicPr>
          <p:blipFill>
            <a:blip r:embed="rId7"/>
            <a:srcRect l="21937" t="15591" r="24787" b="6483"/>
            <a:stretch/>
          </p:blipFill>
          <p:spPr>
            <a:xfrm>
              <a:off x="71280" y="4804560"/>
              <a:ext cx="928800" cy="92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2"/>
                </a:solidFill>
                <a:latin typeface="Frutiger LT Pro 57 Condensed"/>
              </a:rPr>
              <a:t>Click to edit the title text format</a:t>
            </a: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92cd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Click to edit the outline text format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1" marL="743040" indent="-28584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econd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2" marL="11430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Third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3" marL="16002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Four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4" marL="20574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Fif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ix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even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4"/>
          </p:nvPr>
        </p:nvSpPr>
        <p:spPr>
          <a:xfrm>
            <a:off x="969480" y="6227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5"/>
          </p:nvPr>
        </p:nvSpPr>
        <p:spPr>
          <a:xfrm>
            <a:off x="3425760" y="62272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16"/>
          </p:nvPr>
        </p:nvSpPr>
        <p:spPr>
          <a:xfrm>
            <a:off x="1285920" y="6572160"/>
            <a:ext cx="64296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B7DA-E9E9-4CA9-A148-E590952E1A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8"/>
    <p:sldLayoutId id="2147483728" r:id="rId9"/>
    <p:sldLayoutId id="2147483729" r:id="rId10"/>
    <p:sldLayoutId id="2147483730" r:id="rId11"/>
    <p:sldLayoutId id="2147483731" r:id="rId12"/>
    <p:sldLayoutId id="2147483732" r:id="rId13"/>
    <p:sldLayoutId id="2147483733" r:id="rId14"/>
    <p:sldLayoutId id="2147483734" r:id="rId15"/>
    <p:sldLayoutId id="2147483735" r:id="rId16"/>
    <p:sldLayoutId id="2147483736" r:id="rId17"/>
    <p:sldLayoutId id="2147483737" r:id="rId18"/>
    <p:sldLayoutId id="2147483738" r:id="rId19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15" descr="IPCCLogoBlue_RGB_72PPI.jpg"/>
          <p:cNvPicPr/>
          <p:nvPr/>
        </p:nvPicPr>
        <p:blipFill>
          <a:blip r:embed="rId2"/>
          <a:stretch/>
        </p:blipFill>
        <p:spPr>
          <a:xfrm>
            <a:off x="5214960" y="6000840"/>
            <a:ext cx="3873600" cy="798480"/>
          </a:xfrm>
          <a:prstGeom prst="rect">
            <a:avLst/>
          </a:prstGeom>
          <a:ln w="0">
            <a:noFill/>
          </a:ln>
        </p:spPr>
      </p:pic>
      <p:grpSp>
        <p:nvGrpSpPr>
          <p:cNvPr id="330" name="Group 25"/>
          <p:cNvGrpSpPr/>
          <p:nvPr/>
        </p:nvGrpSpPr>
        <p:grpSpPr>
          <a:xfrm>
            <a:off x="71280" y="1635120"/>
            <a:ext cx="928800" cy="5151600"/>
            <a:chOff x="71280" y="1635120"/>
            <a:chExt cx="928800" cy="5151600"/>
          </a:xfrm>
        </p:grpSpPr>
        <p:pic>
          <p:nvPicPr>
            <p:cNvPr id="331" name="Picture 3" descr="MPj04004720000[1]"/>
            <p:cNvPicPr/>
            <p:nvPr/>
          </p:nvPicPr>
          <p:blipFill>
            <a:blip r:embed="rId3"/>
            <a:srcRect l="21937" t="0" r="21654" b="9530"/>
            <a:stretch/>
          </p:blipFill>
          <p:spPr>
            <a:xfrm>
              <a:off x="71280" y="374796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5" descr="MPj01787530000[1]"/>
            <p:cNvPicPr/>
            <p:nvPr/>
          </p:nvPicPr>
          <p:blipFill>
            <a:blip r:embed="rId4"/>
            <a:srcRect l="21937" t="15511" r="27921" b="12148"/>
            <a:stretch/>
          </p:blipFill>
          <p:spPr>
            <a:xfrm>
              <a:off x="71280" y="269136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6" descr="MPj04032910000[1]"/>
            <p:cNvPicPr/>
            <p:nvPr/>
          </p:nvPicPr>
          <p:blipFill>
            <a:blip r:embed="rId5"/>
            <a:srcRect l="37654" t="0" r="0" b="0"/>
            <a:stretch/>
          </p:blipFill>
          <p:spPr>
            <a:xfrm>
              <a:off x="71280" y="163512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8" descr="People"/>
            <p:cNvPicPr/>
            <p:nvPr/>
          </p:nvPicPr>
          <p:blipFill>
            <a:blip r:embed="rId6"/>
            <a:stretch/>
          </p:blipFill>
          <p:spPr>
            <a:xfrm>
              <a:off x="71280" y="586080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10" descr="MPj04019050000[1]"/>
            <p:cNvPicPr/>
            <p:nvPr/>
          </p:nvPicPr>
          <p:blipFill>
            <a:blip r:embed="rId7"/>
            <a:srcRect l="21937" t="15591" r="24787" b="6483"/>
            <a:stretch/>
          </p:blipFill>
          <p:spPr>
            <a:xfrm>
              <a:off x="71280" y="4804560"/>
              <a:ext cx="928800" cy="92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2"/>
                </a:solidFill>
                <a:latin typeface="Frutiger LT Pro 57 Condensed"/>
              </a:rPr>
              <a:t>Click to edit the title text format</a:t>
            </a: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92cd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Click to edit the outline text format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1" marL="743040" indent="-28584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econd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2" marL="11430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Third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3" marL="16002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Four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4" marL="20574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Fif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ix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even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17"/>
          </p:nvPr>
        </p:nvSpPr>
        <p:spPr>
          <a:xfrm>
            <a:off x="969480" y="6227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18"/>
          </p:nvPr>
        </p:nvSpPr>
        <p:spPr>
          <a:xfrm>
            <a:off x="3425760" y="62272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19"/>
          </p:nvPr>
        </p:nvSpPr>
        <p:spPr>
          <a:xfrm>
            <a:off x="1285920" y="6572160"/>
            <a:ext cx="64296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477C-7842-4CD6-BDBE-1D7347C369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8"/>
    <p:sldLayoutId id="2147483741" r:id="rId9"/>
    <p:sldLayoutId id="2147483742" r:id="rId10"/>
    <p:sldLayoutId id="2147483743" r:id="rId11"/>
    <p:sldLayoutId id="2147483744" r:id="rId12"/>
    <p:sldLayoutId id="2147483745" r:id="rId13"/>
    <p:sldLayoutId id="2147483746" r:id="rId14"/>
    <p:sldLayoutId id="2147483747" r:id="rId15"/>
    <p:sldLayoutId id="2147483748" r:id="rId16"/>
    <p:sldLayoutId id="2147483749" r:id="rId17"/>
    <p:sldLayoutId id="2147483750" r:id="rId18"/>
    <p:sldLayoutId id="2147483751" r:id="rId19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5" descr="IPCCLogoBlue_RGB_72PPI.jpg"/>
          <p:cNvPicPr/>
          <p:nvPr/>
        </p:nvPicPr>
        <p:blipFill>
          <a:blip r:embed="rId2"/>
          <a:stretch/>
        </p:blipFill>
        <p:spPr>
          <a:xfrm>
            <a:off x="5214960" y="6000840"/>
            <a:ext cx="3873600" cy="798480"/>
          </a:xfrm>
          <a:prstGeom prst="rect">
            <a:avLst/>
          </a:prstGeom>
          <a:ln w="0">
            <a:noFill/>
          </a:ln>
        </p:spPr>
      </p:pic>
      <p:grpSp>
        <p:nvGrpSpPr>
          <p:cNvPr id="378" name="Group 25"/>
          <p:cNvGrpSpPr/>
          <p:nvPr/>
        </p:nvGrpSpPr>
        <p:grpSpPr>
          <a:xfrm>
            <a:off x="71280" y="1635120"/>
            <a:ext cx="928800" cy="5151600"/>
            <a:chOff x="71280" y="1635120"/>
            <a:chExt cx="928800" cy="5151600"/>
          </a:xfrm>
        </p:grpSpPr>
        <p:pic>
          <p:nvPicPr>
            <p:cNvPr id="379" name="Picture 3" descr="MPj04004720000[1]"/>
            <p:cNvPicPr/>
            <p:nvPr/>
          </p:nvPicPr>
          <p:blipFill>
            <a:blip r:embed="rId3"/>
            <a:srcRect l="21937" t="0" r="21654" b="9530"/>
            <a:stretch/>
          </p:blipFill>
          <p:spPr>
            <a:xfrm>
              <a:off x="71280" y="374796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5" descr="MPj01787530000[1]"/>
            <p:cNvPicPr/>
            <p:nvPr/>
          </p:nvPicPr>
          <p:blipFill>
            <a:blip r:embed="rId4"/>
            <a:srcRect l="21937" t="15511" r="27921" b="12148"/>
            <a:stretch/>
          </p:blipFill>
          <p:spPr>
            <a:xfrm>
              <a:off x="71280" y="269136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Picture 6" descr="MPj04032910000[1]"/>
            <p:cNvPicPr/>
            <p:nvPr/>
          </p:nvPicPr>
          <p:blipFill>
            <a:blip r:embed="rId5"/>
            <a:srcRect l="37654" t="0" r="0" b="0"/>
            <a:stretch/>
          </p:blipFill>
          <p:spPr>
            <a:xfrm>
              <a:off x="71280" y="163512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Picture 8" descr="People"/>
            <p:cNvPicPr/>
            <p:nvPr/>
          </p:nvPicPr>
          <p:blipFill>
            <a:blip r:embed="rId6"/>
            <a:stretch/>
          </p:blipFill>
          <p:spPr>
            <a:xfrm>
              <a:off x="71280" y="586080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Picture 10" descr="MPj04019050000[1]"/>
            <p:cNvPicPr/>
            <p:nvPr/>
          </p:nvPicPr>
          <p:blipFill>
            <a:blip r:embed="rId7"/>
            <a:srcRect l="21937" t="15591" r="24787" b="6483"/>
            <a:stretch/>
          </p:blipFill>
          <p:spPr>
            <a:xfrm>
              <a:off x="71280" y="4804560"/>
              <a:ext cx="928800" cy="92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2"/>
                </a:solidFill>
                <a:latin typeface="Frutiger LT Pro 57 Condensed"/>
              </a:rPr>
              <a:t>Click to edit the title text format</a:t>
            </a: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92cd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Click to edit the outline text format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1" marL="743040" indent="-28584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econd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2" marL="11430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Third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3" marL="16002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Four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4" marL="20574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Fif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ix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even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0"/>
          </p:nvPr>
        </p:nvSpPr>
        <p:spPr>
          <a:xfrm>
            <a:off x="969480" y="6227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1"/>
          </p:nvPr>
        </p:nvSpPr>
        <p:spPr>
          <a:xfrm>
            <a:off x="3425760" y="62272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22"/>
          </p:nvPr>
        </p:nvSpPr>
        <p:spPr>
          <a:xfrm>
            <a:off x="1285920" y="6572160"/>
            <a:ext cx="64296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EFC1-5351-42F6-829F-5090F46ECD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8"/>
    <p:sldLayoutId id="2147483754" r:id="rId9"/>
    <p:sldLayoutId id="2147483755" r:id="rId10"/>
    <p:sldLayoutId id="2147483756" r:id="rId11"/>
    <p:sldLayoutId id="2147483757" r:id="rId12"/>
    <p:sldLayoutId id="2147483758" r:id="rId13"/>
    <p:sldLayoutId id="2147483759" r:id="rId14"/>
    <p:sldLayoutId id="2147483760" r:id="rId15"/>
    <p:sldLayoutId id="2147483761" r:id="rId16"/>
    <p:sldLayoutId id="2147483762" r:id="rId17"/>
    <p:sldLayoutId id="2147483763" r:id="rId18"/>
    <p:sldLayoutId id="2147483764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071360" y="2130120"/>
            <a:ext cx="8072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2"/>
                </a:solidFill>
                <a:latin typeface="Frutiger LT Pro 57 Condensed"/>
              </a:rPr>
              <a:t>Introduction</a:t>
            </a:r>
            <a:endParaRPr b="1" lang="en-US" sz="44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0" y="34999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92cd"/>
                </a:solidFill>
                <a:latin typeface="Frutiger LT Pro 57 Condensed"/>
              </a:rPr>
              <a:t>Simon Eggleston</a:t>
            </a:r>
            <a:endParaRPr b="0" lang="en-US" sz="2000" spc="-1" strike="noStrike">
              <a:solidFill>
                <a:srgbClr val="5492cd"/>
              </a:solidFill>
              <a:latin typeface="Frutiger LT Pro 57 Condensed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92cd"/>
              </a:solidFill>
              <a:latin typeface="Frutiger LT Pro 57 Condensed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92cd"/>
                </a:solidFill>
                <a:latin typeface="Frutiger LT Pro 57 Condensed"/>
              </a:rPr>
              <a:t>Revisiting the use of Managed Land as a Proxy for Anthropogenic Emissions and Removals</a:t>
            </a:r>
            <a:endParaRPr b="0" lang="en-US" sz="2000" spc="-1" strike="noStrike">
              <a:solidFill>
                <a:srgbClr val="5492cd"/>
              </a:solidFill>
              <a:latin typeface="Frutiger LT Pro 57 Condensed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5492cd"/>
                </a:solidFill>
                <a:latin typeface="Frutiger LT Pro 57 Condensed"/>
              </a:rPr>
              <a:t>5 -7 May, 2009 INPE, São José dos Campos, Sao Paulo, Brazil</a:t>
            </a:r>
            <a:endParaRPr b="0" lang="en-US" sz="1400" spc="-1" strike="noStrike">
              <a:solidFill>
                <a:srgbClr val="5492cd"/>
              </a:solidFill>
              <a:latin typeface="Frutiger LT Pro 57 Condensed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92cd"/>
              </a:solidFill>
              <a:latin typeface="Frutiger LT Pro 57 Condensed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2"/>
                </a:solidFill>
                <a:latin typeface="Frutiger LT Pro 57 Condensed"/>
              </a:rPr>
              <a:t>Background</a:t>
            </a: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492cd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92cd"/>
                </a:solidFill>
                <a:latin typeface="Frutiger LT Pro 57 Condensed"/>
              </a:rPr>
              <a:t>IPCC Guidelines are used by parties to the UNFCCC to report their anthropogenic GHG emissions by sources and removals by sinks.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1" marL="743040" indent="-285840">
              <a:spcBef>
                <a:spcPts val="601"/>
              </a:spcBef>
              <a:buClr>
                <a:srgbClr val="5492cd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492cd"/>
                </a:solidFill>
                <a:latin typeface="Frutiger LT Pro 57 Condensed"/>
              </a:rPr>
              <a:t>The Revised 1996 Guidelines and the subsequent Good Practice Guidance (2000, 2003) are currently adopted by the UNFCCC for reporting (mandatory for Annex I Parties). </a:t>
            </a:r>
            <a:endParaRPr b="0" lang="en-US" sz="2400" spc="-1" strike="noStrike">
              <a:solidFill>
                <a:srgbClr val="5b92e5"/>
              </a:solidFill>
              <a:latin typeface="Frutiger LT Pro 57 Condensed"/>
            </a:endParaRPr>
          </a:p>
          <a:p>
            <a:pPr lvl="1" marL="743040" indent="-285840">
              <a:spcBef>
                <a:spcPts val="601"/>
              </a:spcBef>
              <a:buClr>
                <a:srgbClr val="5492cd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492cd"/>
                </a:solidFill>
                <a:latin typeface="Frutiger LT Pro 57 Condensed"/>
              </a:rPr>
              <a:t>The 2006 IPCC Guidelines are being considered by the UNFCCC.</a:t>
            </a:r>
            <a:endParaRPr b="0" lang="en-US" sz="2400" spc="-1" strike="noStrike">
              <a:solidFill>
                <a:srgbClr val="5b92e5"/>
              </a:solidFill>
              <a:latin typeface="Frutiger LT Pro 57 Condensed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2"/>
                </a:solidFill>
                <a:latin typeface="Frutiger LT Pro 57 Condensed"/>
              </a:rPr>
              <a:t>Why Anthropogenic?</a:t>
            </a: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5492cd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92cd"/>
                </a:solidFill>
                <a:latin typeface="Frutiger LT Pro 57 Condensed"/>
              </a:rPr>
              <a:t>The UNFCCC concerns only anthropogenic emissions and removals. 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marL="318960" indent="-318960">
              <a:spcBef>
                <a:spcPts val="700"/>
              </a:spcBef>
              <a:buClr>
                <a:srgbClr val="5492cd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92cd"/>
                </a:solidFill>
                <a:latin typeface="Frutiger LT Pro 57 Condensed"/>
              </a:rPr>
              <a:t>Generally the definition of anthropogenic emissions is clear. 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marL="318960" indent="-318960">
              <a:spcBef>
                <a:spcPts val="700"/>
              </a:spcBef>
              <a:buClr>
                <a:srgbClr val="5492cd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92cd"/>
                </a:solidFill>
                <a:latin typeface="Frutiger LT Pro 57 Condensed"/>
              </a:rPr>
              <a:t>However, for land use activities (LUCF - LULUCF and/or AFOLU) it is not clear how to do this. 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marL="318960" indent="-318960">
              <a:spcBef>
                <a:spcPts val="700"/>
              </a:spcBef>
              <a:buClr>
                <a:srgbClr val="5492cd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92cd"/>
                </a:solidFill>
                <a:latin typeface="Frutiger LT Pro 57 Condensed"/>
              </a:rPr>
              <a:t>The IPCC Guidelines used “managed land” as a proxy for anthropogenic 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2" marL="1062720" indent="-212400">
              <a:spcBef>
                <a:spcPts val="499"/>
              </a:spcBef>
              <a:buClr>
                <a:srgbClr val="5492cd"/>
              </a:buClr>
              <a:buFont typeface="Frutiger LT Pro 57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492cd"/>
                </a:solidFill>
                <a:latin typeface="Frutiger LT Pro 57 Condensed"/>
              </a:rPr>
              <a:t>(implicitly in the Revised 1996  Guidelines and explicitly in later documents). </a:t>
            </a:r>
            <a:endParaRPr b="0" lang="en-US" sz="2000" spc="-1" strike="noStrike">
              <a:solidFill>
                <a:srgbClr val="5b92e5"/>
              </a:solidFill>
              <a:latin typeface="Frutiger LT Pro 57 Condensed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2"/>
                </a:solidFill>
                <a:latin typeface="Frutiger LT Pro 57 Condensed"/>
              </a:rPr>
              <a:t>Managed Land</a:t>
            </a: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5492cd"/>
              </a:buClr>
              <a:buFont typeface="Frutiger LT Pro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5492cd"/>
                </a:solidFill>
                <a:latin typeface="Frutiger LT Pro 55 Roman"/>
              </a:rPr>
              <a:t>“</a:t>
            </a:r>
            <a:r>
              <a:rPr b="0" i="1" lang="en-GB" sz="2800" spc="-1" strike="noStrike">
                <a:solidFill>
                  <a:srgbClr val="5492cd"/>
                </a:solidFill>
                <a:latin typeface="Frutiger LT Pro 55 Roman"/>
              </a:rPr>
              <a:t>Land where human interventions and practices have been applied to perform production, ecological or social functions.”</a:t>
            </a:r>
            <a:r>
              <a:rPr b="0" lang="en-GB" sz="2800" spc="-1" strike="noStrike">
                <a:solidFill>
                  <a:srgbClr val="5492cd"/>
                </a:solidFill>
                <a:latin typeface="Frutiger LT Pro 55 Roman"/>
              </a:rPr>
              <a:t> 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marL="339480" indent="-339480">
              <a:spcBef>
                <a:spcPts val="700"/>
              </a:spcBef>
              <a:buClr>
                <a:srgbClr val="5492cd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92cd"/>
                </a:solidFill>
                <a:latin typeface="Frutiger LT Pro 57 Condensed"/>
              </a:rPr>
              <a:t>All land definitions and classifications should be specified at the national level, described in a transparent manner, and be applied consistently over time. 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marL="339480" indent="-339480">
              <a:spcBef>
                <a:spcPts val="700"/>
              </a:spcBef>
              <a:buClr>
                <a:srgbClr val="5492cd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92cd"/>
                </a:solidFill>
                <a:latin typeface="Frutiger LT Pro 57 Condensed"/>
              </a:rPr>
              <a:t>Emissions/removals of greenhouse gases do not need to be reported for unmanaged land. 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2"/>
                </a:solidFill>
                <a:latin typeface="Frutiger LT Pro 57 Condensed"/>
              </a:rPr>
              <a:t>The Issue</a:t>
            </a: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5492cd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92cd"/>
                </a:solidFill>
                <a:latin typeface="Frutiger LT Pro 57 Condensed"/>
              </a:rPr>
              <a:t>The use of managed land as a proxy is increasingly being discussed, 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1" marL="690840" indent="-265680">
              <a:spcBef>
                <a:spcPts val="601"/>
              </a:spcBef>
              <a:buClr>
                <a:srgbClr val="5492cd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92cd"/>
                </a:solidFill>
                <a:latin typeface="Frutiger LT Pro 57 Condensed"/>
              </a:rPr>
              <a:t>Concern that the current methods do not always correctly capture anthropogenic emissions</a:t>
            </a:r>
            <a:endParaRPr b="0" lang="en-US" sz="2400" spc="-1" strike="noStrike">
              <a:solidFill>
                <a:srgbClr val="5b92e5"/>
              </a:solidFill>
              <a:latin typeface="Frutiger LT Pro 57 Condensed"/>
            </a:endParaRPr>
          </a:p>
          <a:p>
            <a:pPr lvl="1" marL="690840" indent="-265680">
              <a:spcBef>
                <a:spcPts val="601"/>
              </a:spcBef>
              <a:buClr>
                <a:srgbClr val="5492cd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492cd"/>
                </a:solidFill>
                <a:latin typeface="Frutiger LT Pro 57 Condensed"/>
              </a:rPr>
              <a:t>With the increasing understanding of the causal drivers of changes in carbon stocks. </a:t>
            </a:r>
            <a:endParaRPr b="0" lang="en-US" sz="2400" spc="-1" strike="noStrike">
              <a:solidFill>
                <a:srgbClr val="5b92e5"/>
              </a:solidFill>
              <a:latin typeface="Frutiger LT Pro 57 Condensed"/>
            </a:endParaRPr>
          </a:p>
          <a:p>
            <a:pPr marL="318960" indent="-318960">
              <a:spcBef>
                <a:spcPts val="700"/>
              </a:spcBef>
              <a:buClr>
                <a:srgbClr val="5492cd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92cd"/>
                </a:solidFill>
                <a:latin typeface="Frutiger LT Pro 57 Condensed"/>
              </a:rPr>
              <a:t>Estimating all C stock changes will capture management, disturbances and natural processes. However, it is less clear if it is possible to apportion the total carbon stock change to individual drivers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0002"/>
                </a:solidFill>
                <a:latin typeface="Frutiger LT Pro 57 Condensed"/>
              </a:rPr>
              <a:t>This Meeting</a:t>
            </a: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5492cd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92cd"/>
                </a:solidFill>
                <a:latin typeface="Frutiger LT Pro 57 Condensed"/>
              </a:rPr>
              <a:t>The meeting will start with some invited papers reviewing some of the background and current scientific causal understanding of these effects and practical approaches to estimating them. 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marL="308520" indent="-308520">
              <a:spcBef>
                <a:spcPts val="700"/>
              </a:spcBef>
              <a:buClr>
                <a:srgbClr val="5492cd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92cd"/>
                </a:solidFill>
                <a:latin typeface="Frutiger LT Pro 57 Condensed"/>
              </a:rPr>
              <a:t>The meeting may also discuss inter-annual variability of emissions. 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marL="308520" indent="-308520">
              <a:spcBef>
                <a:spcPts val="700"/>
              </a:spcBef>
              <a:buClr>
                <a:srgbClr val="5492cd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92cd"/>
                </a:solidFill>
                <a:latin typeface="Frutiger LT Pro 57 Condensed"/>
              </a:rPr>
              <a:t>We will then split into two groups for more detailed discussions: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1" marL="668520" indent="-257040">
              <a:spcBef>
                <a:spcPts val="601"/>
              </a:spcBef>
              <a:buClr>
                <a:srgbClr val="5492cd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492cd"/>
                </a:solidFill>
                <a:latin typeface="Frutiger LT Pro 57 Condensed"/>
              </a:rPr>
              <a:t>Forest Lands</a:t>
            </a:r>
            <a:endParaRPr b="0" lang="en-US" sz="2400" spc="-1" strike="noStrike">
              <a:solidFill>
                <a:srgbClr val="5b92e5"/>
              </a:solidFill>
              <a:latin typeface="Frutiger LT Pro 57 Condensed"/>
            </a:endParaRPr>
          </a:p>
          <a:p>
            <a:pPr lvl="1" marL="668520" indent="-257040">
              <a:spcBef>
                <a:spcPts val="601"/>
              </a:spcBef>
              <a:buClr>
                <a:srgbClr val="5492cd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492cd"/>
                </a:solidFill>
                <a:latin typeface="Frutiger LT Pro 57 Condensed"/>
              </a:rPr>
              <a:t>All Other Lands</a:t>
            </a:r>
            <a:endParaRPr b="0" lang="en-US" sz="2400" spc="-1" strike="noStrike">
              <a:solidFill>
                <a:srgbClr val="5b92e5"/>
              </a:solidFill>
              <a:latin typeface="Frutiger LT Pro 57 Condensed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2"/>
                </a:solidFill>
                <a:latin typeface="Frutiger LT Pro 57 Condensed"/>
              </a:rPr>
              <a:t>Scope of Meeting</a:t>
            </a: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492cd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92cd"/>
                </a:solidFill>
                <a:latin typeface="Frutiger LT Pro 57 Condensed"/>
              </a:rPr>
              <a:t>We are discussing this in the context of annual emission/removal estimates so that we are interested in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1" marL="743040" indent="-285840">
              <a:spcBef>
                <a:spcPts val="601"/>
              </a:spcBef>
              <a:buClr>
                <a:srgbClr val="5492cd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492cd"/>
                </a:solidFill>
                <a:latin typeface="Frutiger LT Pro 57 Condensed"/>
              </a:rPr>
              <a:t> </a:t>
            </a:r>
            <a:r>
              <a:rPr b="0" lang="en-GB" sz="2400" spc="-1" strike="noStrike">
                <a:solidFill>
                  <a:srgbClr val="5492cd"/>
                </a:solidFill>
                <a:latin typeface="Frutiger LT Pro 57 Condensed"/>
              </a:rPr>
              <a:t>annual timescales</a:t>
            </a:r>
            <a:endParaRPr b="0" lang="en-US" sz="2400" spc="-1" strike="noStrike">
              <a:solidFill>
                <a:srgbClr val="5b92e5"/>
              </a:solidFill>
              <a:latin typeface="Frutiger LT Pro 57 Condensed"/>
            </a:endParaRPr>
          </a:p>
          <a:p>
            <a:pPr lvl="1" marL="743040" indent="-285840">
              <a:spcBef>
                <a:spcPts val="601"/>
              </a:spcBef>
              <a:buClr>
                <a:srgbClr val="5492cd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492cd"/>
                </a:solidFill>
                <a:latin typeface="Frutiger LT Pro 57 Condensed"/>
              </a:rPr>
              <a:t>spatial scales of regions within a country. </a:t>
            </a:r>
            <a:endParaRPr b="0" lang="en-US" sz="2400" spc="-1" strike="noStrike">
              <a:solidFill>
                <a:srgbClr val="5b92e5"/>
              </a:solidFill>
              <a:latin typeface="Frutiger LT Pro 57 Condensed"/>
            </a:endParaRPr>
          </a:p>
          <a:p>
            <a:pPr marL="343080" indent="-343080">
              <a:spcBef>
                <a:spcPts val="700"/>
              </a:spcBef>
              <a:buClr>
                <a:srgbClr val="5492cd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92cd"/>
                </a:solidFill>
                <a:latin typeface="Frutiger LT Pro 57 Condensed"/>
              </a:rPr>
              <a:t>Practicality has to be considered, the guidelines are for all countries 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1" marL="743040" indent="-285840">
              <a:spcBef>
                <a:spcPts val="601"/>
              </a:spcBef>
              <a:buClr>
                <a:srgbClr val="5492cd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492cd"/>
                </a:solidFill>
                <a:latin typeface="Frutiger LT Pro 57 Condensed"/>
              </a:rPr>
              <a:t>detailed Tier 3 models are not possible in many places. </a:t>
            </a:r>
            <a:endParaRPr b="0" lang="en-US" sz="2400" spc="-1" strike="noStrike">
              <a:solidFill>
                <a:srgbClr val="5b92e5"/>
              </a:solidFill>
              <a:latin typeface="Frutiger LT Pro 57 Condensed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2"/>
                </a:solidFill>
                <a:latin typeface="Frutiger LT Pro 57 Condensed"/>
              </a:rPr>
              <a:t>Warning</a:t>
            </a: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492cd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This is a technical meeting – it is </a:t>
            </a:r>
            <a:r>
              <a:rPr b="0" lang="en-US" sz="2800" spc="-1" strike="noStrike">
                <a:solidFill>
                  <a:srgbClr val="990002"/>
                </a:solidFill>
                <a:latin typeface="Frutiger LT Pro 57 Condensed"/>
              </a:rPr>
              <a:t>not</a:t>
            </a: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 a political debate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marL="343080" indent="-343080">
              <a:spcBef>
                <a:spcPts val="700"/>
              </a:spcBef>
              <a:buClr>
                <a:srgbClr val="5492cd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We are </a:t>
            </a:r>
            <a:r>
              <a:rPr b="0" lang="en-US" sz="2800" spc="-1" strike="noStrike">
                <a:solidFill>
                  <a:srgbClr val="990002"/>
                </a:solidFill>
                <a:latin typeface="Frutiger LT Pro 57 Condensed"/>
              </a:rPr>
              <a:t>not</a:t>
            </a: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 discussing this in terms of the accounting needs of the Kyoto Protocol or the UNFCCC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marL="343080" indent="-343080">
              <a:spcBef>
                <a:spcPts val="700"/>
              </a:spcBef>
              <a:buClr>
                <a:srgbClr val="5492cd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This is </a:t>
            </a:r>
            <a:r>
              <a:rPr b="0" lang="en-US" sz="2800" spc="-1" strike="noStrike">
                <a:solidFill>
                  <a:srgbClr val="990002"/>
                </a:solidFill>
                <a:latin typeface="Frutiger LT Pro 57 Condensed"/>
              </a:rPr>
              <a:t>not</a:t>
            </a: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 a discussion about REDD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marL="343080" indent="-343080">
              <a:spcBef>
                <a:spcPts val="700"/>
              </a:spcBef>
              <a:buClr>
                <a:srgbClr val="5492cd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We are looking to see if it is now possible to make a better demarcation between “anthropogenic” and “natural” emissions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marL="343080" indent="-343080">
              <a:spcBef>
                <a:spcPts val="700"/>
              </a:spcBef>
              <a:buClr>
                <a:srgbClr val="5492cd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2"/>
                </a:solidFill>
                <a:latin typeface="Frutiger LT Pro 57 Condensed"/>
              </a:rPr>
              <a:t>Output</a:t>
            </a: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492cd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92cd"/>
                </a:solidFill>
                <a:latin typeface="Frutiger LT Pro 57 Condensed"/>
              </a:rPr>
              <a:t>A report that will assess the use of managed land as a proxy for anthropogenic effects in different contexts and identify specific cases where additional information can be given. It will also identify and evaluate other options for anthropogenic effects.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marL="343080" indent="-343080">
              <a:spcBef>
                <a:spcPts val="700"/>
              </a:spcBef>
              <a:buClr>
                <a:srgbClr val="5492cd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uggestions for future actions by the IPCC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marL="343080" indent="-343080">
              <a:spcBef>
                <a:spcPts val="700"/>
              </a:spcBef>
              <a:buClr>
                <a:srgbClr val="5492cd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Needs for further research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08:53:17Z</dcterms:created>
  <dc:creator>Eggleston</dc:creator>
  <dc:description/>
  <dc:language>en-US</dc:language>
  <cp:lastModifiedBy>Thelma Krug</cp:lastModifiedBy>
  <dcterms:modified xsi:type="dcterms:W3CDTF">2009-04-30T19:10:43Z</dcterms:modified>
  <cp:revision>28</cp:revision>
  <dc:subject/>
  <dc:title>Slide 1</dc:title>
</cp:coreProperties>
</file>