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.jpeg" ContentType="image/jpeg"/>
  <Override PartName="/ppt/media/image30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12.png" ContentType="image/png"/>
  <Override PartName="/ppt/media/image23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2.png" ContentType="image/png"/>
  <Override PartName="/ppt/media/image24.png" ContentType="image/png"/>
  <Override PartName="/ppt/media/image26.png" ContentType="image/png"/>
  <Override PartName="/ppt/media/image27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dt" idx="4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move the slide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ftr" idx="4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 type="sldNum" idx="4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25B2-5628-4CD7-9253-381BBD4ADE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10E2-CA79-4F43-A7D4-273585C239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1E33-4F77-4BDC-ADBC-6A9F30CC308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E0D2-42B9-4FAC-B3BE-E8BE070C8F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CD21-7D7C-402A-BEF2-10A342E8D3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9107-1A15-4688-8F26-6BCD3DD32D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7199-661B-4049-921B-6B9A6F62F0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32C8-7264-49FF-BC5B-CB139F8541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3C8C-F00B-4AD7-ADA3-5355E8DFA3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3516-BE0F-4867-9830-5CFEB97870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4B6B-EDCD-427B-89EF-2E5720CBC4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0AD7-150B-47D0-B706-1529BA1F8F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CB0F-8401-4868-B325-96720DA2E7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7EC3-26EE-494D-A07A-1A256E2B7B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11E8-367A-44D5-B459-8D73C7E6BA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699C-6E49-4CE4-B523-B19A157B1E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243E-0F7F-4D31-9657-6CDB978E944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3F18-4EE9-4FA5-AF2B-E6B26C459D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66CE-A1F3-40C0-8F1F-569F8E0CC1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7966-5237-449C-A6F3-93075D4BEA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66E8-B879-4FEA-BBC0-38EC274B0F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DBE5-1D93-4853-98CF-3D3BC7CCA4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CCA0-2B0C-48F3-813E-7E15F92170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BF49-AB80-4D4B-A2A0-D2B907DA72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26B5-D73F-48C5-96B1-C8954E1492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ADBF-9D4A-4B4B-B33F-6CD03F19A7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A5FF-6B30-46A7-A8E3-7E2600D224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3419-C00C-4FD7-9ECA-1240AF377A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1ED3-CC00-406B-B96F-26D9093B8A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7B44-68AA-4A9E-88A2-3D00454B20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76E7-7D4C-4C4A-A485-E3E3D329C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00BE-271B-43D3-95CC-652E187551E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EEEC4F-B7AC-47AB-9266-2D482C22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A0574C-4ED2-4E18-926E-98543FFC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0225B5-C108-4FB3-8B6D-1725CEB0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85BB9B-E6C4-439B-9DE6-38C9BB30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8B32C4-D1F2-4E1A-A9B9-C6D7EC7D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FECFE9-8CA9-491D-B439-F8C1BA97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6D1D80-4C42-46FA-A92D-862BFD14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6D7BE0-2F60-454C-9816-1384F958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86B96C-40B6-4F4E-AA49-20B71B60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C8402-EAA6-499A-B06B-0CA7F46A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14BE-FD5F-4DD2-9A7F-6E11CB245D6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BA4FD-779D-463F-B5DC-3675D0B2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2D25E-906B-44C8-BEF0-2D6502A3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9D2BC-8271-4DA2-96A1-31CA6E78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35CB8-7AF4-4F47-99F6-BE69B52E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63331-B33C-4985-B6EB-E85A8987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296B3-70C1-4CA6-9885-135E0F30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1AEB69-CDE3-4BD3-ABE3-BEDD78D2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89853-BEE3-4D2A-BD1D-194B54F8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067AE-6967-47F7-93D4-F243F963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1DE9D-A029-4F09-8835-CF07C74C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F8264-413A-48CE-B3DB-A24931F4B42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E9953-0AF9-4877-BA69-645EF266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A994E-43D2-470A-B6CB-7E89354F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CFE91B-1874-426C-A5A9-28BB803B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1F1B93-F193-4D99-B22C-16FF3CF1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7069B-4221-42A8-B043-B6F7BCF1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5AE66-C3AE-42F6-8DBA-AC372C13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E2C413-E5CE-4DD8-9F3E-F6A09588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F659C5-F20E-4C39-BBDC-85D71C78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3E8762-8457-4697-B6DA-0A69C4C4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FB51A6-FCDA-48FE-8E9E-0FE0A638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77412-5965-4CC4-9977-A9B23146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219D08-62D1-49F9-9277-AF18FF4B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12E21-D6E3-4D08-9868-A0A690A3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F3433F-6DAB-4DFA-BB79-6AD1DB72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9714A8-EB8B-46CA-91AB-F68B606E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3E8A27-A86C-4978-AC58-148DC37B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F318C1-52AE-4EC9-93B3-990FFE6F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2BC1E5-9538-428C-B70E-5DC213BD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170BB1-3E93-4509-B475-47639CAA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F5EDE2-AE3C-4158-AB18-A9601167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62F6BF-13BF-4E68-BB5D-85296483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AD7099-9ADD-406A-8267-85B6A882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AF8816-F06F-4B39-8B01-79151E37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27E0B9-0BE7-4E60-A0A2-EC1E8BD3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DB16BF-1C5E-4967-91A2-4B61CB23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A9914B-6416-46C1-9F4D-4AE1B788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D34EED-9888-400A-8201-1AE0060F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1B0E5-5D61-4C53-9136-9AD96A77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A6721-9397-4115-A97A-85125239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CB5D3D-1E74-48A0-A0C7-5CCED7B2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ACA5B1-4A17-4D68-A08C-8D0CDCDF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FF5712-91C5-4846-9619-2FFBCF9A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3374FC-7B7B-4CE5-A345-D421E935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D754EC-200B-4E55-B862-E8957208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CCABA-B5FC-4C9F-A77A-839E9FDA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B858D2-9E19-4A1A-8EDF-A2781D74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431342-3D22-4675-8F2E-C04B69FF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2CEE89-31BA-4EB8-9ADD-792EA1A2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015B3E-FCD2-42E0-9982-572384AD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7B1AB8-5DB2-4118-B433-99FF1E16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8838B7-09AD-4910-B834-9D629DC9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F72B1E-C2E5-407F-AAB3-F011570E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0EF56F-D8E4-4AFB-AE67-591948AB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64B798-DFCE-4809-8730-341F425F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F78609-6288-47A7-8B11-789B4DD3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59439E-9DDA-4BCB-8E28-B7E47B3A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D73C0D3-74CE-4C7A-A26B-7290BF1C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1E5038-DC30-4A87-A9DD-5A542754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38744F-B1CA-4092-8DD6-A5F3E6C1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BE4424F-4E3A-46DE-BBB5-1DA0B314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81D8FA1-4B94-4838-83E7-5B6D13D1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EC10428-4025-418F-9B3F-09239508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0179F7C-C8FF-4266-8737-255F0F4C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B1522A1-683B-4BF5-8927-707D9768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CC7E191-5AC3-44EC-BD7B-3FF0AA33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9A901E-C2DA-4FD6-A209-5E5B5EA0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E05287E-4F80-4571-A4EE-83529B78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59D15B6-A842-484D-A6B5-84932223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395C63B-7CB3-4E10-8CA2-D7AC11A9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41069AD-B7C3-43C9-977A-9EBC4084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5347D22-4B86-4826-A87E-20C7D45C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E2B6-BB2D-4019-B1A3-95A688A59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B5FEF-96C4-4A2A-A3FF-5D12AD85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C9689-F0F7-42CC-9CF5-E2C25FEE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680A3-68C2-4E30-9FEA-2FE0F6EB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2097D-67E2-4A0F-9EED-6A47760B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281B7-FFE6-4259-88AF-34DC22E3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A7AA-9ED8-445F-8F98-D874024D77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6BA72-1367-48F0-9919-E7352CA7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1A1F7-A994-4806-A1C2-2C82384D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D892C-5C09-4151-9C31-4FDFA95C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95D97-80E6-42AF-9AD3-15DE9E1C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74B25-8E44-4A41-BDEE-0A1E0735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2BED8-595D-4D69-AF58-59599082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A9096-776D-4D64-AE4A-BF9D45EC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9CD843-21D4-44CE-830E-81CE9070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9C743F-EABE-4B2E-B5DF-E284807A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AEB127-8B09-4F96-A428-6D530A13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936E-620F-4116-8BB6-87BDA8343C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3E0754-596F-40D1-B4DE-A916F75C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EEA4D7-BB8F-499F-AD2F-EADBAF40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12DFFD-BF57-4927-B86F-7D87F6B5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B021D8-F76E-4009-B5C7-D54F48D5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AF8BCC-5064-4386-AFB1-5736E6A9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590756-9D56-4DF3-B162-20D2A6DD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1363B8-3969-4EF1-8A5D-B9BD9D8F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C0F4EC-2506-4C7C-8685-56F8027B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5D7CD6-A2CC-4496-85B8-92B27C55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3B2AD9-51DF-4C92-8CBE-FE261CC8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C812-EF5A-47A4-8D4C-EADFF05AFE6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3BBEE6-7321-4040-8D8D-FEC8FB8F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98003E-3ABE-4298-A3F1-F69ED0DA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A66B56-88FE-411F-86A1-C75C3D57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96FFA8-535B-4BCC-A684-3D2EEBCF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1B82F8-5516-43C9-A77D-4968691B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76633B-61EA-4D27-84EC-3FFA33C9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1CE8A8-9297-4457-B666-E7A56FB0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57E865-171D-484F-B4F8-C6EC34BC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EB6900-10BF-4F04-9750-8A6530C1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683CFA-F80C-4B44-A626-1B612EE4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BDB5-A665-4508-88B3-36F54E25BFB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B8ACF6-4FFE-4C22-90F5-34D0DAFD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832BDA-419D-4500-9019-BD4CE346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22FFE4-3C23-408B-9E4E-27312AA2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6E221F-7D83-44EF-BA0E-6122ED86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F12AB8-ECA0-4B4E-A6A8-06A2F6D7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3514A6-BB17-44E7-A91A-5922AE55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1B6091-42CB-4FBF-9D12-1C34FA5B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F30826-0B22-4338-8497-577F4AE6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58F500-08D8-44BF-90C7-A15A612D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7ECE20-9F15-4D7F-94FF-8DBC69EF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0463-323E-486D-BA3E-55055477C27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071851-C798-410D-B407-ED86FBEB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10AFC0-BC31-47A3-B575-344E3BF2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D93386-C194-4F80-BFD0-B3A394C5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1A2A40-0DC1-4F2C-BB09-8BF27FC8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862826-8805-4F14-826C-A27FDD91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712A34-20AF-449F-8395-D3B8B6CE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1A85B4-EF10-4832-86A9-CB94DDB1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3DD89F-403D-4CAA-AC49-2983A489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1359AD-2078-42C4-A972-14F50A39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B33B17-5261-421F-81B2-6A86EE55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7B76-030A-4E7F-8C29-44E9EF14DF5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FDBC0A-8B0C-4ADA-B04B-5E7D0AEE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478895-38B8-40A6-B5CD-5A1E67A9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BCD8F8-1FA5-40B1-A66D-630F50D4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4AAAE6-69A4-4154-9E19-EB6C118B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936930-8739-42F7-853E-B15693F2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98328A-8DE7-463B-9EDE-AEDF3F29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917A06-FA96-4B10-AD0C-ED27226C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61C00D-C528-48A0-BBFC-734A7267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F12544-CDC4-4232-9F43-A9822AC9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D811CE-C020-4ED7-AED9-3F355586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C33D-7FE9-4EE4-8643-6EF87D9F5C7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054080" y="163440"/>
            <a:ext cx="79185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E66F5C-DE2C-4AE3-9CF9-294057AE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5C04D1-F5A2-4B23-B5D5-2C414CE3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42510C-2FA9-4D50-9F7D-AA0A179F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EDDF39-5BEA-40A0-AA94-CFF201A9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89DC15-5A7C-4453-AF5F-619D76E3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599ABC-D5F6-4B38-B335-3B73C83E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82E225-6BB8-44C3-A946-C84E99F0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CBBDC9-C075-45E1-AA25-28CD0AE1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3BFEEB-0916-4B92-A460-0E84D007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1E69D8-814F-481E-977E-7D5E4171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45.xml"/><Relationship Id="rId9" Type="http://schemas.openxmlformats.org/officeDocument/2006/relationships/slideLayout" Target="../slideLayouts/slideLayout146.xml"/><Relationship Id="rId10" Type="http://schemas.openxmlformats.org/officeDocument/2006/relationships/slideLayout" Target="../slideLayouts/slideLayout147.xml"/><Relationship Id="rId11" Type="http://schemas.openxmlformats.org/officeDocument/2006/relationships/slideLayout" Target="../slideLayouts/slideLayout148.xml"/><Relationship Id="rId12" Type="http://schemas.openxmlformats.org/officeDocument/2006/relationships/slideLayout" Target="../slideLayouts/slideLayout149.xml"/><Relationship Id="rId13" Type="http://schemas.openxmlformats.org/officeDocument/2006/relationships/slideLayout" Target="../slideLayouts/slideLayout150.xml"/><Relationship Id="rId14" Type="http://schemas.openxmlformats.org/officeDocument/2006/relationships/slideLayout" Target="../slideLayouts/slideLayout151.xml"/><Relationship Id="rId15" Type="http://schemas.openxmlformats.org/officeDocument/2006/relationships/slideLayout" Target="../slideLayouts/slideLayout152.xml"/><Relationship Id="rId16" Type="http://schemas.openxmlformats.org/officeDocument/2006/relationships/slideLayout" Target="../slideLayouts/slideLayout153.xml"/><Relationship Id="rId17" Type="http://schemas.openxmlformats.org/officeDocument/2006/relationships/slideLayout" Target="../slideLayouts/slideLayout154.xml"/><Relationship Id="rId18" Type="http://schemas.openxmlformats.org/officeDocument/2006/relationships/slideLayout" Target="../slideLayouts/slideLayout155.xml"/><Relationship Id="rId19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57.xml"/><Relationship Id="rId9" Type="http://schemas.openxmlformats.org/officeDocument/2006/relationships/slideLayout" Target="../slideLayouts/slideLayout158.xml"/><Relationship Id="rId10" Type="http://schemas.openxmlformats.org/officeDocument/2006/relationships/slideLayout" Target="../slideLayouts/slideLayout159.xml"/><Relationship Id="rId11" Type="http://schemas.openxmlformats.org/officeDocument/2006/relationships/slideLayout" Target="../slideLayouts/slideLayout160.xml"/><Relationship Id="rId12" Type="http://schemas.openxmlformats.org/officeDocument/2006/relationships/slideLayout" Target="../slideLayouts/slideLayout161.xml"/><Relationship Id="rId13" Type="http://schemas.openxmlformats.org/officeDocument/2006/relationships/slideLayout" Target="../slideLayouts/slideLayout162.xml"/><Relationship Id="rId14" Type="http://schemas.openxmlformats.org/officeDocument/2006/relationships/slideLayout" Target="../slideLayouts/slideLayout163.xml"/><Relationship Id="rId15" Type="http://schemas.openxmlformats.org/officeDocument/2006/relationships/slideLayout" Target="../slideLayouts/slideLayout164.xml"/><Relationship Id="rId16" Type="http://schemas.openxmlformats.org/officeDocument/2006/relationships/slideLayout" Target="../slideLayouts/slideLayout165.xml"/><Relationship Id="rId17" Type="http://schemas.openxmlformats.org/officeDocument/2006/relationships/slideLayout" Target="../slideLayouts/slideLayout166.xml"/><Relationship Id="rId18" Type="http://schemas.openxmlformats.org/officeDocument/2006/relationships/slideLayout" Target="../slideLayouts/slideLayout167.xml"/><Relationship Id="rId19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69.xml"/><Relationship Id="rId9" Type="http://schemas.openxmlformats.org/officeDocument/2006/relationships/slideLayout" Target="../slideLayouts/slideLayout170.xml"/><Relationship Id="rId10" Type="http://schemas.openxmlformats.org/officeDocument/2006/relationships/slideLayout" Target="../slideLayouts/slideLayout171.xml"/><Relationship Id="rId11" Type="http://schemas.openxmlformats.org/officeDocument/2006/relationships/slideLayout" Target="../slideLayouts/slideLayout172.xml"/><Relationship Id="rId12" Type="http://schemas.openxmlformats.org/officeDocument/2006/relationships/slideLayout" Target="../slideLayouts/slideLayout173.xml"/><Relationship Id="rId13" Type="http://schemas.openxmlformats.org/officeDocument/2006/relationships/slideLayout" Target="../slideLayouts/slideLayout174.xml"/><Relationship Id="rId14" Type="http://schemas.openxmlformats.org/officeDocument/2006/relationships/slideLayout" Target="../slideLayouts/slideLayout175.xml"/><Relationship Id="rId15" Type="http://schemas.openxmlformats.org/officeDocument/2006/relationships/slideLayout" Target="../slideLayouts/slideLayout176.xml"/><Relationship Id="rId16" Type="http://schemas.openxmlformats.org/officeDocument/2006/relationships/slideLayout" Target="../slideLayouts/slideLayout177.xml"/><Relationship Id="rId17" Type="http://schemas.openxmlformats.org/officeDocument/2006/relationships/slideLayout" Target="../slideLayouts/slideLayout178.xml"/><Relationship Id="rId18" Type="http://schemas.openxmlformats.org/officeDocument/2006/relationships/slideLayout" Target="../slideLayouts/slideLayout179.xml"/><Relationship Id="rId19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802E-F4BC-43AD-920F-7EFCB227B2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5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426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427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3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4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5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4829-AA69-4B94-9C0B-C9EDA1A5C5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474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475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26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27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28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18BF-0684-4FAB-8624-DEA9A446D9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522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523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9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0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1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3D06-959F-4A35-A636-EA30DB72AE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570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571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2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3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4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3C9A-CA05-4E16-A29A-96C1341F6E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8"/>
    <p:sldLayoutId id="2147483806" r:id="rId9"/>
    <p:sldLayoutId id="2147483807" r:id="rId10"/>
    <p:sldLayoutId id="2147483808" r:id="rId11"/>
    <p:sldLayoutId id="2147483809" r:id="rId12"/>
    <p:sldLayoutId id="2147483810" r:id="rId13"/>
    <p:sldLayoutId id="2147483811" r:id="rId14"/>
    <p:sldLayoutId id="2147483812" r:id="rId15"/>
    <p:sldLayoutId id="2147483813" r:id="rId16"/>
    <p:sldLayoutId id="2147483814" r:id="rId17"/>
    <p:sldLayoutId id="2147483815" r:id="rId18"/>
    <p:sldLayoutId id="2147483816" r:id="rId19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618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619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5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6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7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83A1-D8C0-467A-8841-6133FDA00B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8"/>
    <p:sldLayoutId id="2147483819" r:id="rId9"/>
    <p:sldLayoutId id="2147483820" r:id="rId10"/>
    <p:sldLayoutId id="2147483821" r:id="rId11"/>
    <p:sldLayoutId id="2147483822" r:id="rId12"/>
    <p:sldLayoutId id="2147483823" r:id="rId13"/>
    <p:sldLayoutId id="2147483824" r:id="rId14"/>
    <p:sldLayoutId id="2147483825" r:id="rId15"/>
    <p:sldLayoutId id="2147483826" r:id="rId16"/>
    <p:sldLayoutId id="2147483827" r:id="rId17"/>
    <p:sldLayoutId id="2147483828" r:id="rId18"/>
    <p:sldLayoutId id="2147483829" r:id="rId19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666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667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38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39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D3BF-66BA-483F-A9D3-D3949B7D4E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8"/>
    <p:sldLayoutId id="2147483832" r:id="rId9"/>
    <p:sldLayoutId id="2147483833" r:id="rId10"/>
    <p:sldLayoutId id="2147483834" r:id="rId11"/>
    <p:sldLayoutId id="2147483835" r:id="rId12"/>
    <p:sldLayoutId id="2147483836" r:id="rId13"/>
    <p:sldLayoutId id="2147483837" r:id="rId14"/>
    <p:sldLayoutId id="2147483838" r:id="rId15"/>
    <p:sldLayoutId id="2147483839" r:id="rId16"/>
    <p:sldLayoutId id="2147483840" r:id="rId17"/>
    <p:sldLayoutId id="2147483841" r:id="rId18"/>
    <p:sldLayoutId id="2147483842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"/>
          <p:cNvSpPr/>
          <p:nvPr/>
        </p:nvSpPr>
        <p:spPr>
          <a:xfrm>
            <a:off x="395280" y="26028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IPCCLogoBlue_RGB_72PPI.jpg"/>
          <p:cNvPicPr/>
          <p:nvPr/>
        </p:nvPicPr>
        <p:blipFill>
          <a:blip r:embed="rId2"/>
          <a:stretch/>
        </p:blipFill>
        <p:spPr>
          <a:xfrm>
            <a:off x="2913120" y="5516640"/>
            <a:ext cx="6159600" cy="127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14962" t="14264" r="14997" b="14464"/>
          <a:stretch/>
        </p:blipFill>
        <p:spPr>
          <a:xfrm>
            <a:off x="0" y="0"/>
            <a:ext cx="9144000" cy="1928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14"/>
          <p:cNvSpPr/>
          <p:nvPr/>
        </p:nvSpPr>
        <p:spPr>
          <a:xfrm>
            <a:off x="1071720" y="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utiger LT Pro 57 Condensed"/>
              </a:rPr>
              <a:t>Task Force on National Greenhouse Gas Inven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4"/>
          <a:stretch/>
        </p:blipFill>
        <p:spPr>
          <a:xfrm>
            <a:off x="0" y="6261120"/>
            <a:ext cx="928800" cy="596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91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2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3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4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A398-DC32-4C85-BE5F-06F6B95FE2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139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5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6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7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F6B7-E5AD-4161-8D03-DDAC6DDAFD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187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8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9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0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388E-1333-45F2-A09A-55B8BC464B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235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1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2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3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64AB-E5E9-46FD-A8A5-0406F996C5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282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283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4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5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6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AF4B-DCBE-4320-9CBD-3B119A7D60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331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7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8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19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6587-6AD4-4911-89E4-97789BDE7B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5" descr="IPCCLogoBlue_RGB_72PPI.jpg"/>
          <p:cNvPicPr/>
          <p:nvPr/>
        </p:nvPicPr>
        <p:blipFill>
          <a:blip r:embed="rId2"/>
          <a:stretch/>
        </p:blipFill>
        <p:spPr>
          <a:xfrm>
            <a:off x="5214960" y="6000840"/>
            <a:ext cx="3873600" cy="798480"/>
          </a:xfrm>
          <a:prstGeom prst="rect">
            <a:avLst/>
          </a:prstGeom>
          <a:ln w="0">
            <a:noFill/>
          </a:ln>
        </p:spPr>
      </p:pic>
      <p:grpSp>
        <p:nvGrpSpPr>
          <p:cNvPr id="378" name="Group 25"/>
          <p:cNvGrpSpPr/>
          <p:nvPr/>
        </p:nvGrpSpPr>
        <p:grpSpPr>
          <a:xfrm>
            <a:off x="71280" y="1635120"/>
            <a:ext cx="928800" cy="5151600"/>
            <a:chOff x="71280" y="1635120"/>
            <a:chExt cx="928800" cy="5151600"/>
          </a:xfrm>
        </p:grpSpPr>
        <p:pic>
          <p:nvPicPr>
            <p:cNvPr id="379" name="Picture 3" descr="MPj04004720000[1]"/>
            <p:cNvPicPr/>
            <p:nvPr/>
          </p:nvPicPr>
          <p:blipFill>
            <a:blip r:embed="rId3"/>
            <a:srcRect l="21937" t="0" r="21654" b="9530"/>
            <a:stretch/>
          </p:blipFill>
          <p:spPr>
            <a:xfrm>
              <a:off x="71280" y="37479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5" descr="MPj01787530000[1]"/>
            <p:cNvPicPr/>
            <p:nvPr/>
          </p:nvPicPr>
          <p:blipFill>
            <a:blip r:embed="rId4"/>
            <a:srcRect l="21937" t="15511" r="27921" b="12148"/>
            <a:stretch/>
          </p:blipFill>
          <p:spPr>
            <a:xfrm>
              <a:off x="71280" y="269136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6" descr="MPj04032910000[1]"/>
            <p:cNvPicPr/>
            <p:nvPr/>
          </p:nvPicPr>
          <p:blipFill>
            <a:blip r:embed="rId5"/>
            <a:srcRect l="37654" t="0" r="0" b="0"/>
            <a:stretch/>
          </p:blipFill>
          <p:spPr>
            <a:xfrm>
              <a:off x="71280" y="163512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8" descr="People"/>
            <p:cNvPicPr/>
            <p:nvPr/>
          </p:nvPicPr>
          <p:blipFill>
            <a:blip r:embed="rId6"/>
            <a:stretch/>
          </p:blipFill>
          <p:spPr>
            <a:xfrm>
              <a:off x="71280" y="5860800"/>
              <a:ext cx="9288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10" descr="MPj04019050000[1]"/>
            <p:cNvPicPr/>
            <p:nvPr/>
          </p:nvPicPr>
          <p:blipFill>
            <a:blip r:embed="rId7"/>
            <a:srcRect l="21937" t="15591" r="24787" b="6483"/>
            <a:stretch/>
          </p:blipFill>
          <p:spPr>
            <a:xfrm>
              <a:off x="71280" y="4804560"/>
              <a:ext cx="928800" cy="92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2"/>
                </a:solidFill>
                <a:latin typeface="Frutiger LT Pro 57 Condensed"/>
              </a:rPr>
              <a:t>Click to edit the title text format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Click to edit the outline text forma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con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Third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our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5b92e5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Fif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ix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utiger LT Pro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Seventh Outline Level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0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1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2"/>
          </p:nvPr>
        </p:nvSpPr>
        <p:spPr>
          <a:xfrm>
            <a:off x="1285920" y="6572160"/>
            <a:ext cx="642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D395-84EB-45D2-ABDC-DB5F6AB71D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8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69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20714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3200" spc="-1" strike="noStrike">
                <a:solidFill>
                  <a:srgbClr val="990002"/>
                </a:solidFill>
                <a:latin typeface="Frutiger LT Pro 57 Condensed"/>
              </a:rPr>
              <a:t>Treatment of “Anthropogenic” Emissions/ Removals in IPCC GHG Inventory Guidelin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0" y="3499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92cd"/>
                </a:solidFill>
                <a:latin typeface="Frutiger LT Pro 57 Condensed"/>
              </a:rPr>
              <a:t>Nalin Srivastava</a:t>
            </a:r>
            <a:endParaRPr b="0" lang="en-US" sz="2000" spc="-1" strike="noStrike">
              <a:solidFill>
                <a:srgbClr val="5492cd"/>
              </a:solidFill>
              <a:latin typeface="Frutiger LT Pro 57 Condense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92cd"/>
              </a:solidFill>
              <a:latin typeface="Frutiger LT Pro 57 Condense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92cd"/>
                </a:solidFill>
                <a:latin typeface="Frutiger LT Pro 57 Condensed"/>
              </a:rPr>
              <a:t> </a:t>
            </a:r>
            <a:r>
              <a:rPr b="1" lang="en-US" sz="2000" spc="-1" strike="noStrike">
                <a:solidFill>
                  <a:srgbClr val="5492cd"/>
                </a:solidFill>
                <a:latin typeface="Frutiger LT Pro 57 Condensed"/>
              </a:rPr>
              <a:t>Expert Meeting on Revisiting the use of Managed Land as a Proxy for Anthropogenic Emissions and Removals</a:t>
            </a:r>
            <a:endParaRPr b="0" lang="en-US" sz="2000" spc="-1" strike="noStrike">
              <a:solidFill>
                <a:srgbClr val="5492cd"/>
              </a:solidFill>
              <a:latin typeface="Frutiger LT Pro 57 Condensed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5492cd"/>
                </a:solidFill>
                <a:latin typeface="Frutiger LT Pro 57 Condensed"/>
              </a:rPr>
              <a:t>5 -7 May, 2009 INPE, São José dos Campos, Sao Paulo, Brazil</a:t>
            </a:r>
            <a:endParaRPr b="0" lang="en-US" sz="1400" spc="-1" strike="noStrike">
              <a:solidFill>
                <a:srgbClr val="5492cd"/>
              </a:solidFill>
              <a:latin typeface="Frutiger LT Pro 57 Condensed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990002"/>
                </a:solidFill>
                <a:latin typeface="Frutiger LT Pro 57 Condensed"/>
              </a:rPr>
              <a:t>IPCC Guidelines for National Greenhouse Gas Inventories</a:t>
            </a:r>
            <a:endParaRPr b="1" lang="en-US" sz="36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969480" y="1362240"/>
            <a:ext cx="485964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70c0"/>
                </a:solidFill>
                <a:latin typeface="Frutiger LT Pro 57 Condensed"/>
              </a:rPr>
              <a:t>Revised 1996 IPCC Guidelines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70c0"/>
                </a:solidFill>
                <a:latin typeface="Frutiger LT Pro 57 Condensed"/>
              </a:rPr>
              <a:t>2000 Good Practice Guidance and Uncertainty Management(GPG2000)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70c0"/>
                </a:solidFill>
                <a:latin typeface="Frutiger LT Pro 57 Condensed"/>
              </a:rPr>
              <a:t>Good Practice Guidance for Land Use, Land-Use Change and Forestry (GPG-LULUCF)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70c0"/>
                </a:solidFill>
                <a:latin typeface="Frutiger LT Pro 57 Condensed"/>
              </a:rPr>
              <a:t>2006 IPCC Guidelines for National Greenhouse Gas Inventories(2006 IPCC Guidelines)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5979960" y="2481120"/>
            <a:ext cx="1822680" cy="1966680"/>
            <a:chOff x="5979960" y="2481120"/>
            <a:chExt cx="1822680" cy="1966680"/>
          </a:xfrm>
        </p:grpSpPr>
        <p:pic>
          <p:nvPicPr>
            <p:cNvPr id="761" name="Picture 5" descr=""/>
            <p:cNvPicPr/>
            <p:nvPr/>
          </p:nvPicPr>
          <p:blipFill>
            <a:blip r:embed="rId1"/>
            <a:stretch/>
          </p:blipFill>
          <p:spPr>
            <a:xfrm>
              <a:off x="5979960" y="2481120"/>
              <a:ext cx="1115640" cy="145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Picture 6" descr=""/>
            <p:cNvPicPr/>
            <p:nvPr/>
          </p:nvPicPr>
          <p:blipFill>
            <a:blip r:embed="rId2"/>
            <a:stretch/>
          </p:blipFill>
          <p:spPr>
            <a:xfrm>
              <a:off x="6333840" y="2714400"/>
              <a:ext cx="1115640" cy="145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Picture 7" descr=""/>
            <p:cNvPicPr/>
            <p:nvPr/>
          </p:nvPicPr>
          <p:blipFill>
            <a:blip r:embed="rId3"/>
            <a:stretch/>
          </p:blipFill>
          <p:spPr>
            <a:xfrm>
              <a:off x="6687000" y="2994480"/>
              <a:ext cx="1115640" cy="145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4" name="Picture 8" descr=""/>
          <p:cNvPicPr/>
          <p:nvPr/>
        </p:nvPicPr>
        <p:blipFill>
          <a:blip r:embed="rId4"/>
          <a:stretch/>
        </p:blipFill>
        <p:spPr>
          <a:xfrm>
            <a:off x="6900840" y="3292560"/>
            <a:ext cx="1449360" cy="153972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9" descr="gpgimg"/>
          <p:cNvPicPr/>
          <p:nvPr/>
        </p:nvPicPr>
        <p:blipFill>
          <a:blip r:embed="rId5"/>
          <a:stretch/>
        </p:blipFill>
        <p:spPr>
          <a:xfrm>
            <a:off x="7693200" y="3726000"/>
            <a:ext cx="1450800" cy="1709640"/>
          </a:xfrm>
          <a:prstGeom prst="rect">
            <a:avLst/>
          </a:prstGeom>
          <a:ln w="0">
            <a:noFill/>
          </a:ln>
        </p:spPr>
      </p:pic>
      <p:grpSp>
        <p:nvGrpSpPr>
          <p:cNvPr id="766" name="Group 10"/>
          <p:cNvGrpSpPr/>
          <p:nvPr/>
        </p:nvGrpSpPr>
        <p:grpSpPr>
          <a:xfrm>
            <a:off x="6272280" y="1306440"/>
            <a:ext cx="2289240" cy="5551200"/>
            <a:chOff x="6272280" y="1306440"/>
            <a:chExt cx="2289240" cy="5551200"/>
          </a:xfrm>
        </p:grpSpPr>
        <p:pic>
          <p:nvPicPr>
            <p:cNvPr id="767" name="Picture 11" descr="vol5"/>
            <p:cNvPicPr/>
            <p:nvPr/>
          </p:nvPicPr>
          <p:blipFill>
            <a:blip r:embed="rId6"/>
            <a:stretch/>
          </p:blipFill>
          <p:spPr>
            <a:xfrm>
              <a:off x="7415280" y="1306440"/>
              <a:ext cx="1146240" cy="13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Picture 12" descr="vol4_2"/>
            <p:cNvPicPr/>
            <p:nvPr/>
          </p:nvPicPr>
          <p:blipFill>
            <a:blip r:embed="rId7"/>
            <a:stretch/>
          </p:blipFill>
          <p:spPr>
            <a:xfrm>
              <a:off x="6272280" y="2066760"/>
              <a:ext cx="1146240" cy="13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Picture 13" descr="vol4_1"/>
            <p:cNvPicPr/>
            <p:nvPr/>
          </p:nvPicPr>
          <p:blipFill>
            <a:blip r:embed="rId8"/>
            <a:stretch/>
          </p:blipFill>
          <p:spPr>
            <a:xfrm>
              <a:off x="7415280" y="2690640"/>
              <a:ext cx="1146240" cy="13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14" descr="vol3_2"/>
            <p:cNvPicPr/>
            <p:nvPr/>
          </p:nvPicPr>
          <p:blipFill>
            <a:blip r:embed="rId9"/>
            <a:stretch/>
          </p:blipFill>
          <p:spPr>
            <a:xfrm>
              <a:off x="6272280" y="3449520"/>
              <a:ext cx="1146240" cy="13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Picture 15" descr="vol3_1"/>
            <p:cNvPicPr/>
            <p:nvPr/>
          </p:nvPicPr>
          <p:blipFill>
            <a:blip r:embed="rId10"/>
            <a:stretch/>
          </p:blipFill>
          <p:spPr>
            <a:xfrm>
              <a:off x="7415280" y="4084560"/>
              <a:ext cx="1146240" cy="13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Picture 16" descr="vol2"/>
            <p:cNvPicPr/>
            <p:nvPr/>
          </p:nvPicPr>
          <p:blipFill>
            <a:blip r:embed="rId11"/>
            <a:stretch/>
          </p:blipFill>
          <p:spPr>
            <a:xfrm>
              <a:off x="6272280" y="4838400"/>
              <a:ext cx="1146240" cy="13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Picture 17" descr="vol1"/>
            <p:cNvPicPr/>
            <p:nvPr/>
          </p:nvPicPr>
          <p:blipFill>
            <a:blip r:embed="rId12"/>
            <a:stretch/>
          </p:blipFill>
          <p:spPr>
            <a:xfrm>
              <a:off x="7415280" y="5465520"/>
              <a:ext cx="1146240" cy="1392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2"/>
                </a:solidFill>
                <a:latin typeface="Frutiger LT Pro 57 Condensed"/>
              </a:rPr>
              <a:t>IPCC Guidelines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Provide the methodological basis for reporting of national GHG inventories by the Parties to the UNFCCC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1996 IPCC Guidelines 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along with 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GPG2000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 and 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GPG-LULUCF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 are mandatory for Annex-I countries for reporting under UNFCCC and encouraged for other Parties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Contained guidance only on the main terrestrial activities and processes responsible for significant GHG fluxes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Divided terrestrial sources/sinks into two sectors, viz. 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Agriculture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 and 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Land Use Change and Forestry (LUCF)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Agriculture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 and 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LUCF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 consisted of 7 and 5 categories respectively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2"/>
                </a:solidFill>
                <a:latin typeface="Frutiger LT Pro 57 Condensed"/>
              </a:rPr>
              <a:t>Revised 1996 IPCC Guidelines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grpSp>
        <p:nvGrpSpPr>
          <p:cNvPr id="778" name="Group 4"/>
          <p:cNvGrpSpPr/>
          <p:nvPr/>
        </p:nvGrpSpPr>
        <p:grpSpPr>
          <a:xfrm>
            <a:off x="7858080" y="1285920"/>
            <a:ext cx="944640" cy="1233360"/>
            <a:chOff x="7858080" y="1285920"/>
            <a:chExt cx="944640" cy="1233360"/>
          </a:xfrm>
        </p:grpSpPr>
        <p:pic>
          <p:nvPicPr>
            <p:cNvPr id="779" name="Picture 5" descr=""/>
            <p:cNvPicPr/>
            <p:nvPr/>
          </p:nvPicPr>
          <p:blipFill>
            <a:blip r:embed="rId1"/>
            <a:stretch/>
          </p:blipFill>
          <p:spPr>
            <a:xfrm>
              <a:off x="7858080" y="1285920"/>
              <a:ext cx="578160" cy="9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Picture 6" descr=""/>
            <p:cNvPicPr/>
            <p:nvPr/>
          </p:nvPicPr>
          <p:blipFill>
            <a:blip r:embed="rId2"/>
            <a:stretch/>
          </p:blipFill>
          <p:spPr>
            <a:xfrm>
              <a:off x="8041320" y="1432080"/>
              <a:ext cx="578160" cy="9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Picture 7" descr=""/>
            <p:cNvPicPr/>
            <p:nvPr/>
          </p:nvPicPr>
          <p:blipFill>
            <a:blip r:embed="rId3"/>
            <a:stretch/>
          </p:blipFill>
          <p:spPr>
            <a:xfrm>
              <a:off x="8224560" y="1607760"/>
              <a:ext cx="578160" cy="911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Box 5"/>
          <p:cNvSpPr/>
          <p:nvPr/>
        </p:nvSpPr>
        <p:spPr>
          <a:xfrm>
            <a:off x="1428840" y="1285920"/>
            <a:ext cx="3143160" cy="642600"/>
          </a:xfrm>
          <a:prstGeom prst="rect">
            <a:avLst/>
          </a:prstGeom>
          <a:solidFill>
            <a:srgbClr val="5492cd"/>
          </a:solidFill>
          <a:ln w="0">
            <a:noFill/>
          </a:ln>
          <a:effectLst>
            <a:outerShdw dist="152474" dir="1983133" blurRad="0" rotWithShape="0">
              <a:srgbClr val="76b6ca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A. Enteric Fer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16"/>
          <p:cNvSpPr/>
          <p:nvPr/>
        </p:nvSpPr>
        <p:spPr>
          <a:xfrm>
            <a:off x="1428840" y="2071800"/>
            <a:ext cx="3143160" cy="642600"/>
          </a:xfrm>
          <a:prstGeom prst="rect">
            <a:avLst/>
          </a:prstGeom>
          <a:solidFill>
            <a:srgbClr val="5492cd"/>
          </a:solidFill>
          <a:ln w="0">
            <a:noFill/>
          </a:ln>
          <a:effectLst>
            <a:outerShdw dist="152474" dir="1983133" blurRad="0" rotWithShape="0">
              <a:srgbClr val="76b6ca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B. Manur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17"/>
          <p:cNvSpPr/>
          <p:nvPr/>
        </p:nvSpPr>
        <p:spPr>
          <a:xfrm>
            <a:off x="1428840" y="2857680"/>
            <a:ext cx="3143160" cy="642600"/>
          </a:xfrm>
          <a:prstGeom prst="rect">
            <a:avLst/>
          </a:prstGeom>
          <a:solidFill>
            <a:srgbClr val="5492cd"/>
          </a:solidFill>
          <a:ln w="0">
            <a:noFill/>
          </a:ln>
          <a:effectLst>
            <a:outerShdw dist="152474" dir="1983133" blurRad="0" rotWithShape="0">
              <a:srgbClr val="76b6ca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C. Rice Cul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18"/>
          <p:cNvSpPr/>
          <p:nvPr/>
        </p:nvSpPr>
        <p:spPr>
          <a:xfrm>
            <a:off x="1428840" y="3643200"/>
            <a:ext cx="3143160" cy="642600"/>
          </a:xfrm>
          <a:prstGeom prst="rect">
            <a:avLst/>
          </a:prstGeom>
          <a:solidFill>
            <a:srgbClr val="5492cd"/>
          </a:solidFill>
          <a:ln w="0">
            <a:noFill/>
          </a:ln>
          <a:effectLst>
            <a:outerShdw dist="152474" dir="1983133" blurRad="0" rotWithShape="0">
              <a:srgbClr val="76b6ca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D. Agricultural So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9"/>
          <p:cNvSpPr/>
          <p:nvPr/>
        </p:nvSpPr>
        <p:spPr>
          <a:xfrm>
            <a:off x="1428840" y="4429080"/>
            <a:ext cx="3143160" cy="642600"/>
          </a:xfrm>
          <a:prstGeom prst="rect">
            <a:avLst/>
          </a:prstGeom>
          <a:solidFill>
            <a:srgbClr val="5492cd"/>
          </a:solidFill>
          <a:ln w="0">
            <a:noFill/>
          </a:ln>
          <a:effectLst>
            <a:outerShdw dist="152474" dir="1983133" blurRad="0" rotWithShape="0">
              <a:srgbClr val="76b6ca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E. Burning of Savan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20"/>
          <p:cNvSpPr/>
          <p:nvPr/>
        </p:nvSpPr>
        <p:spPr>
          <a:xfrm>
            <a:off x="1428840" y="5214960"/>
            <a:ext cx="3143160" cy="642600"/>
          </a:xfrm>
          <a:prstGeom prst="rect">
            <a:avLst/>
          </a:prstGeom>
          <a:solidFill>
            <a:srgbClr val="5492cd"/>
          </a:solidFill>
          <a:ln w="0">
            <a:noFill/>
          </a:ln>
          <a:effectLst>
            <a:outerShdw dist="152474" dir="1983133" blurRad="0" rotWithShape="0">
              <a:srgbClr val="76b6ca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F. Field Burning of   Agricultural 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21"/>
          <p:cNvSpPr/>
          <p:nvPr/>
        </p:nvSpPr>
        <p:spPr>
          <a:xfrm>
            <a:off x="1428840" y="6000840"/>
            <a:ext cx="3143160" cy="368280"/>
          </a:xfrm>
          <a:prstGeom prst="rect">
            <a:avLst/>
          </a:prstGeom>
          <a:solidFill>
            <a:srgbClr val="5492cd"/>
          </a:solidFill>
          <a:ln w="0">
            <a:noFill/>
          </a:ln>
          <a:effectLst>
            <a:outerShdw dist="152474" dir="1983133" blurRad="0" rotWithShape="0">
              <a:srgbClr val="76b6ca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G.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22"/>
          <p:cNvSpPr/>
          <p:nvPr/>
        </p:nvSpPr>
        <p:spPr>
          <a:xfrm>
            <a:off x="5000760" y="1357200"/>
            <a:ext cx="3143160" cy="91692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52474" dir="1983133" blurRad="0" rotWithShape="0">
              <a:srgbClr val="cc6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5A. Changes in Forest &amp; Other woody biomass 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28"/>
          <p:cNvSpPr/>
          <p:nvPr/>
        </p:nvSpPr>
        <p:spPr>
          <a:xfrm>
            <a:off x="5000760" y="2357280"/>
            <a:ext cx="3143160" cy="91692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52474" dir="1983133" blurRad="0" rotWithShape="0">
              <a:srgbClr val="cc6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5B. Forest and Grassland 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29"/>
          <p:cNvSpPr/>
          <p:nvPr/>
        </p:nvSpPr>
        <p:spPr>
          <a:xfrm>
            <a:off x="5000760" y="3357720"/>
            <a:ext cx="3143160" cy="91692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52474" dir="1983133" blurRad="0" rotWithShape="0">
              <a:srgbClr val="cc6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5C. Abandonment of Managed 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30"/>
          <p:cNvSpPr/>
          <p:nvPr/>
        </p:nvSpPr>
        <p:spPr>
          <a:xfrm flipV="1" rot="10800000">
            <a:off x="5000400" y="4357440"/>
            <a:ext cx="3143160" cy="91692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52474" dir="1983133" blurRad="0" rotWithShape="0">
              <a:srgbClr val="cc6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5D. CO2 Emissions and Removals from 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31"/>
          <p:cNvSpPr/>
          <p:nvPr/>
        </p:nvSpPr>
        <p:spPr>
          <a:xfrm>
            <a:off x="5000760" y="5357880"/>
            <a:ext cx="3143160" cy="64260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52474" dir="1983133" blurRad="0" rotWithShape="0">
              <a:srgbClr val="cc6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5E.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"/>
          <p:cNvSpPr/>
          <p:nvPr/>
        </p:nvSpPr>
        <p:spPr>
          <a:xfrm flipV="1" rot="10800000">
            <a:off x="1571400" y="361440"/>
            <a:ext cx="2428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                     </a:t>
            </a:r>
            <a:r>
              <a:rPr b="1" i="1" lang="en-US" sz="2800" spc="-1" strike="noStrike">
                <a:solidFill>
                  <a:srgbClr val="5492cd"/>
                </a:solidFill>
                <a:latin typeface="Frutiger LT Pro 57 Condensed"/>
                <a:ea typeface="SimSun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"/>
          <p:cNvSpPr/>
          <p:nvPr/>
        </p:nvSpPr>
        <p:spPr>
          <a:xfrm flipV="1" rot="10800000">
            <a:off x="5357520" y="5929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             </a:t>
            </a:r>
            <a:r>
              <a:rPr b="1" i="1" lang="en-US" sz="2800" spc="-1" strike="noStrike">
                <a:solidFill>
                  <a:srgbClr val="c00000"/>
                </a:solidFill>
                <a:latin typeface="Frutiger LT Pro 57 Condensed"/>
                <a:ea typeface="SimSun"/>
              </a:rPr>
              <a:t>LU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3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3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3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2"/>
                </a:solidFill>
                <a:latin typeface="Frutiger LT Pro 57 Condensed"/>
              </a:rPr>
              <a:t>1996 Guidelines: managed land proxy</a:t>
            </a:r>
            <a:endParaRPr b="1" lang="en-US" sz="36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As the 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1996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 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IPCC Guidelines 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only include the processes occurring on lands subject to human intervention, they </a:t>
            </a:r>
            <a:r>
              <a:rPr b="1" lang="en-US" sz="2800" spc="-1" strike="noStrike">
                <a:solidFill>
                  <a:srgbClr val="0070c0"/>
                </a:solidFill>
                <a:latin typeface="Frutiger LT Pro 57 Condensed"/>
              </a:rPr>
              <a:t>implicitly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 assume managed land as a proxy for anthropogenic emissions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35480" indent="-28296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0c0"/>
                </a:solidFill>
                <a:latin typeface="Frutiger LT Pro 57 Condensed"/>
              </a:rPr>
              <a:t>Changes in Forest and Other Woody Biomass</a:t>
            </a: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 category excludes natural unmanaged forests. </a:t>
            </a:r>
            <a:endParaRPr b="0" lang="en-US" sz="2400" spc="-1" strike="noStrike">
              <a:solidFill>
                <a:srgbClr val="5b92e5"/>
              </a:solidFill>
              <a:latin typeface="Frutiger LT Pro 57 Condensed"/>
            </a:endParaRPr>
          </a:p>
          <a:p>
            <a:pPr lvl="1" marL="735480" indent="-28296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Forests re-growing naturally on abandoned lands included in the category </a:t>
            </a:r>
            <a:r>
              <a:rPr b="0" i="1" lang="en-US" sz="2400" spc="-1" strike="noStrike">
                <a:solidFill>
                  <a:srgbClr val="0070c0"/>
                </a:solidFill>
                <a:latin typeface="Frutiger LT Pro 57 Condensed"/>
              </a:rPr>
              <a:t>Abandonment of Managed lands</a:t>
            </a: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 only if carbon uptake attributable to past human activities</a:t>
            </a:r>
            <a:endParaRPr b="0" lang="en-US" sz="2400" spc="-1" strike="noStrike">
              <a:solidFill>
                <a:srgbClr val="5b92e5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2"/>
                </a:solidFill>
                <a:latin typeface="Frutiger LT Pro 57 Condensed"/>
              </a:rPr>
              <a:t>1996 Guidelines: indirect anthropogenic effects</a:t>
            </a:r>
            <a:endParaRPr b="1" lang="en-US" sz="36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Indirect anthropogenic effects not explicitly addressed, though estimation methods can capture indirect effects on managed land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Acknowledge but do not address the effect of indirect anthropogenic effects on unmanaged land due to a lack of scientific understanding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499"/>
              </a:spcBef>
              <a:buClr>
                <a:srgbClr val="0070c0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Frutiger LT Pro 57 Condensed"/>
              </a:rPr>
              <a:t>1996 Guidelines </a:t>
            </a:r>
            <a:r>
              <a:rPr b="0" lang="en-US" sz="2000" spc="-1" strike="noStrike">
                <a:solidFill>
                  <a:srgbClr val="0070c0"/>
                </a:solidFill>
                <a:latin typeface="Frutiger LT Pro 57 Condensed"/>
              </a:rPr>
              <a:t>state  that  natural un-managed forests may indeed be sinks and recommend that tropical countries need to establish permanent forest inventories to determine whether undisturbed forest are sinks or not</a:t>
            </a:r>
            <a:endParaRPr b="0" lang="en-US" sz="2000" spc="-1" strike="noStrike">
              <a:solidFill>
                <a:srgbClr val="5b92e5"/>
              </a:solidFill>
              <a:latin typeface="Frutiger LT Pro 57 Condensed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2"/>
                </a:solidFill>
                <a:latin typeface="Frutiger LT Pro 57 Condensed"/>
              </a:rPr>
              <a:t>1996 Guidelines: fires and natural disturbances</a:t>
            </a:r>
            <a:endParaRPr b="1" lang="en-US" sz="36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Address  burning in management of forests and woody biomass and conversion of forest and  grasslands respectively as well as prescribed burning of savannas and agriculture residues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The effects of wildfires and natural disturbances on managed land not explicitly dealt with but can be considered implicit in </a:t>
            </a:r>
            <a:r>
              <a:rPr b="1" i="1" lang="en-US" sz="2400" spc="-1" strike="noStrike">
                <a:solidFill>
                  <a:srgbClr val="0070c0"/>
                </a:solidFill>
                <a:latin typeface="Frutiger LT Pro 57 Condensed"/>
              </a:rPr>
              <a:t>Changes in Forest and Other Woody Biomass </a:t>
            </a: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estimations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Include some discussion of the natural background emissions or removals (e.g. CH</a:t>
            </a:r>
            <a:r>
              <a:rPr b="0" lang="en-US" sz="2800" spc="-1" strike="noStrike" baseline="-25000">
                <a:solidFill>
                  <a:srgbClr val="0070c0"/>
                </a:solidFill>
                <a:latin typeface="Frutiger LT Pro 57 Condensed"/>
              </a:rPr>
              <a:t>4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, N</a:t>
            </a:r>
            <a:r>
              <a:rPr b="0" lang="en-US" sz="2800" spc="-1" strike="noStrike" baseline="-25000">
                <a:solidFill>
                  <a:srgbClr val="0070c0"/>
                </a:solidFill>
                <a:latin typeface="Frutiger LT Pro 57 Condensed"/>
              </a:rPr>
              <a:t>2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O, CO etc.) from unmanaged land but only in the context of their conversion to managed land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But guidance left for the future</a:t>
            </a:r>
            <a:endParaRPr b="0" lang="en-US" sz="2400" spc="-1" strike="noStrike">
              <a:solidFill>
                <a:srgbClr val="5b92e5"/>
              </a:solidFill>
              <a:latin typeface="Frutiger LT Pro 57 Condensed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2"/>
                </a:solidFill>
                <a:latin typeface="Frutiger LT Pro 57 Condensed"/>
              </a:rPr>
              <a:t>1996 Guidelines: natural emissions and removals on unmanaged lands </a:t>
            </a:r>
            <a:endParaRPr b="1" lang="en-US" sz="3600" spc="-1" strike="noStrike">
              <a:solidFill>
                <a:srgbClr val="990002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2"/>
                </a:solidFill>
                <a:latin typeface="Frutiger LT Pro 57 Condensed"/>
              </a:rPr>
              <a:t>1996 Guidelines: inter-annual variability </a:t>
            </a:r>
            <a:endParaRPr b="1" lang="en-US" sz="36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Inter-annual variability of GHG fluxes has not been explicitly addressed 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990002"/>
                </a:solidFill>
                <a:latin typeface="Frutiger LT Pro 57 Condensed"/>
              </a:rPr>
              <a:t>GPG2000 </a:t>
            </a:r>
            <a:br>
              <a:rPr sz="3600"/>
            </a:b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Provided supplementary information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to help develop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 good practice 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inventories 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that 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“…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contain neither over nor under-estimates as far as can be judged, and in which uncertainties are reduced as far as practicable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”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39480" indent="-3394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Contained guidance on only the 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Agriculture 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sector 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39480" indent="-3394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Retained the structure and source/sink categories of the 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1996 IPCC Guidelines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39480" indent="-3394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pic>
        <p:nvPicPr>
          <p:cNvPr id="808" name="Picture 8" descr=""/>
          <p:cNvPicPr/>
          <p:nvPr/>
        </p:nvPicPr>
        <p:blipFill>
          <a:blip r:embed="rId1"/>
          <a:stretch/>
        </p:blipFill>
        <p:spPr>
          <a:xfrm>
            <a:off x="7358040" y="142920"/>
            <a:ext cx="1209600" cy="1285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2"/>
                </a:solidFill>
                <a:latin typeface="Frutiger LT Pro 57 Condensed"/>
              </a:rPr>
              <a:t>Outline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Frutiger LT Pro 57 Condensed"/>
              </a:rPr>
              <a:t>Introduction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IPCC approach toward estimating terrestrial anthropogenic emissions and removals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Treatment of anthropogenic emissions and removals in the IPCC Guidelines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400"/>
              </a:spcBef>
              <a:buClr>
                <a:srgbClr val="0070c0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70c0"/>
                </a:solidFill>
                <a:latin typeface="Frutiger LT Pro 57 Condensed"/>
              </a:rPr>
              <a:t>The Revised 1996 IPCC Guidelines</a:t>
            </a:r>
            <a:endParaRPr b="0" lang="en-US" sz="1600" spc="-1" strike="noStrike">
              <a:solidFill>
                <a:srgbClr val="5b92e5"/>
              </a:solidFill>
              <a:latin typeface="Frutiger LT Pro 57 Condensed"/>
            </a:endParaRPr>
          </a:p>
          <a:p>
            <a:pPr lvl="1" marL="743040" indent="-285840">
              <a:spcBef>
                <a:spcPts val="400"/>
              </a:spcBef>
              <a:buClr>
                <a:srgbClr val="0070c0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70c0"/>
                </a:solidFill>
                <a:latin typeface="Frutiger LT Pro 57 Condensed"/>
              </a:rPr>
              <a:t>GPG-LULUCF</a:t>
            </a:r>
            <a:endParaRPr b="0" lang="en-US" sz="1600" spc="-1" strike="noStrike">
              <a:solidFill>
                <a:srgbClr val="5b92e5"/>
              </a:solidFill>
              <a:latin typeface="Frutiger LT Pro 57 Condensed"/>
            </a:endParaRPr>
          </a:p>
          <a:p>
            <a:pPr lvl="1" marL="743040" indent="-285840">
              <a:spcBef>
                <a:spcPts val="400"/>
              </a:spcBef>
              <a:buClr>
                <a:srgbClr val="0070c0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70c0"/>
                </a:solidFill>
                <a:latin typeface="Frutiger LT Pro 57 Condensed"/>
              </a:rPr>
              <a:t>2006 IPCC Guidelines</a:t>
            </a:r>
            <a:endParaRPr b="0" lang="en-US" sz="1600" spc="-1" strike="noStrike">
              <a:solidFill>
                <a:srgbClr val="5b92e5"/>
              </a:solidFill>
              <a:latin typeface="Frutiger LT Pro 57 Condensed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Conclusion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2"/>
                </a:solidFill>
                <a:latin typeface="Frutiger LT Pro 57 Condensed"/>
              </a:rPr>
              <a:t>GPG-LULUCF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Extended the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 good practice 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guidance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to entire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 LULUCF sector and 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reorganized all emissions and removals from all land use activities into six broad land-use categories, namely: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499"/>
              </a:spcBef>
              <a:buClr>
                <a:srgbClr val="0070c0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Frutiger LT Pro 57 Condensed"/>
              </a:rPr>
              <a:t>Forest Land</a:t>
            </a:r>
            <a:endParaRPr b="0" lang="en-US" sz="2000" spc="-1" strike="noStrike">
              <a:solidFill>
                <a:srgbClr val="5b92e5"/>
              </a:solidFill>
              <a:latin typeface="Frutiger LT Pro 57 Condensed"/>
            </a:endParaRPr>
          </a:p>
          <a:p>
            <a:pPr lvl="1" marL="743040" indent="-285840">
              <a:spcBef>
                <a:spcPts val="499"/>
              </a:spcBef>
              <a:buClr>
                <a:srgbClr val="0070c0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Frutiger LT Pro 57 Condensed"/>
              </a:rPr>
              <a:t>Cropland</a:t>
            </a:r>
            <a:endParaRPr b="0" lang="en-US" sz="2000" spc="-1" strike="noStrike">
              <a:solidFill>
                <a:srgbClr val="5b92e5"/>
              </a:solidFill>
              <a:latin typeface="Frutiger LT Pro 57 Condensed"/>
            </a:endParaRPr>
          </a:p>
          <a:p>
            <a:pPr lvl="1" marL="743040" indent="-285840">
              <a:spcBef>
                <a:spcPts val="499"/>
              </a:spcBef>
              <a:buClr>
                <a:srgbClr val="0070c0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Frutiger LT Pro 57 Condensed"/>
              </a:rPr>
              <a:t>Grassland</a:t>
            </a:r>
            <a:endParaRPr b="0" lang="en-US" sz="2000" spc="-1" strike="noStrike">
              <a:solidFill>
                <a:srgbClr val="5b92e5"/>
              </a:solidFill>
              <a:latin typeface="Frutiger LT Pro 57 Condensed"/>
            </a:endParaRPr>
          </a:p>
          <a:p>
            <a:pPr lvl="1" marL="743040" indent="-285840">
              <a:spcBef>
                <a:spcPts val="499"/>
              </a:spcBef>
              <a:buClr>
                <a:srgbClr val="0070c0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Frutiger LT Pro 57 Condensed"/>
              </a:rPr>
              <a:t>Wetlands</a:t>
            </a:r>
            <a:endParaRPr b="0" lang="en-US" sz="2000" spc="-1" strike="noStrike">
              <a:solidFill>
                <a:srgbClr val="5b92e5"/>
              </a:solidFill>
              <a:latin typeface="Frutiger LT Pro 57 Condensed"/>
            </a:endParaRPr>
          </a:p>
          <a:p>
            <a:pPr lvl="1" marL="743040" indent="-285840">
              <a:spcBef>
                <a:spcPts val="499"/>
              </a:spcBef>
              <a:buClr>
                <a:srgbClr val="0070c0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Frutiger LT Pro 57 Condensed"/>
              </a:rPr>
              <a:t>Settlements</a:t>
            </a:r>
            <a:endParaRPr b="0" lang="en-US" sz="2000" spc="-1" strike="noStrike">
              <a:solidFill>
                <a:srgbClr val="5b92e5"/>
              </a:solidFill>
              <a:latin typeface="Frutiger LT Pro 57 Condensed"/>
            </a:endParaRPr>
          </a:p>
          <a:p>
            <a:pPr lvl="1" marL="743040" indent="-285840">
              <a:spcBef>
                <a:spcPts val="499"/>
              </a:spcBef>
              <a:buClr>
                <a:srgbClr val="0070c0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Frutiger LT Pro 57 Condensed"/>
              </a:rPr>
              <a:t>Other lands</a:t>
            </a:r>
            <a:endParaRPr b="0" lang="en-US" sz="2000" spc="-1" strike="noStrike">
              <a:solidFill>
                <a:srgbClr val="5b92e5"/>
              </a:solidFill>
              <a:latin typeface="Frutiger LT Pro 57 Condensed"/>
            </a:endParaRPr>
          </a:p>
        </p:txBody>
      </p:sp>
      <p:pic>
        <p:nvPicPr>
          <p:cNvPr id="811" name="Picture 9" descr="gpgimg"/>
          <p:cNvPicPr/>
          <p:nvPr/>
        </p:nvPicPr>
        <p:blipFill>
          <a:blip r:embed="rId1"/>
          <a:stretch/>
        </p:blipFill>
        <p:spPr>
          <a:xfrm>
            <a:off x="7358040" y="214200"/>
            <a:ext cx="1152720" cy="1357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2"/>
                </a:solidFill>
                <a:latin typeface="Frutiger LT Pro 57 Condensed"/>
              </a:rPr>
              <a:t>2006 IPCC Guidelines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Integrated 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Agriculture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 and 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LUCF 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sectors in the 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1996 IPCC Guidelines 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in to one sector called 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Agriculture Forestry and Other Land Use (AFOLU) 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to improve the general consistency and completeness of the national inventories 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Retained the structure of six land use categories of 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GPG-LULUCF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  <p:grpSp>
        <p:nvGrpSpPr>
          <p:cNvPr id="814" name="Group 6"/>
          <p:cNvGrpSpPr/>
          <p:nvPr/>
        </p:nvGrpSpPr>
        <p:grpSpPr>
          <a:xfrm>
            <a:off x="8072280" y="142920"/>
            <a:ext cx="857160" cy="1856880"/>
            <a:chOff x="8072280" y="142920"/>
            <a:chExt cx="857160" cy="1856880"/>
          </a:xfrm>
        </p:grpSpPr>
        <p:pic>
          <p:nvPicPr>
            <p:cNvPr id="815" name="Picture 7" descr="vol5"/>
            <p:cNvPicPr/>
            <p:nvPr/>
          </p:nvPicPr>
          <p:blipFill>
            <a:blip r:embed="rId1"/>
            <a:stretch/>
          </p:blipFill>
          <p:spPr>
            <a:xfrm>
              <a:off x="8500320" y="142920"/>
              <a:ext cx="429120" cy="4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Picture 8" descr="vol4_2"/>
            <p:cNvPicPr/>
            <p:nvPr/>
          </p:nvPicPr>
          <p:blipFill>
            <a:blip r:embed="rId2"/>
            <a:stretch/>
          </p:blipFill>
          <p:spPr>
            <a:xfrm>
              <a:off x="8072280" y="397080"/>
              <a:ext cx="429120" cy="4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Picture 9" descr="vol4_1"/>
            <p:cNvPicPr/>
            <p:nvPr/>
          </p:nvPicPr>
          <p:blipFill>
            <a:blip r:embed="rId3"/>
            <a:stretch/>
          </p:blipFill>
          <p:spPr>
            <a:xfrm>
              <a:off x="8500320" y="605880"/>
              <a:ext cx="429120" cy="4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10" descr="vol3_2"/>
            <p:cNvPicPr/>
            <p:nvPr/>
          </p:nvPicPr>
          <p:blipFill>
            <a:blip r:embed="rId4"/>
            <a:stretch/>
          </p:blipFill>
          <p:spPr>
            <a:xfrm>
              <a:off x="8072280" y="859680"/>
              <a:ext cx="429120" cy="4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Picture 11" descr="vol3_1"/>
            <p:cNvPicPr/>
            <p:nvPr/>
          </p:nvPicPr>
          <p:blipFill>
            <a:blip r:embed="rId5"/>
            <a:stretch/>
          </p:blipFill>
          <p:spPr>
            <a:xfrm>
              <a:off x="8500320" y="1072440"/>
              <a:ext cx="429120" cy="4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Picture 12" descr="vol2"/>
            <p:cNvPicPr/>
            <p:nvPr/>
          </p:nvPicPr>
          <p:blipFill>
            <a:blip r:embed="rId6"/>
            <a:stretch/>
          </p:blipFill>
          <p:spPr>
            <a:xfrm>
              <a:off x="8072280" y="1324440"/>
              <a:ext cx="429120" cy="46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Picture 13" descr="vol1"/>
            <p:cNvPicPr/>
            <p:nvPr/>
          </p:nvPicPr>
          <p:blipFill>
            <a:blip r:embed="rId7"/>
            <a:stretch/>
          </p:blipFill>
          <p:spPr>
            <a:xfrm>
              <a:off x="8500320" y="1534320"/>
              <a:ext cx="429120" cy="465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42960" y="163440"/>
            <a:ext cx="8329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2"/>
                </a:solidFill>
                <a:latin typeface="Frutiger LT Pro 57 Condensed"/>
              </a:rPr>
              <a:t>GPG-LULUCF &amp; 2006 IPCC Guidelines: managed land proxy</a:t>
            </a:r>
            <a:endParaRPr b="1" lang="en-US" sz="36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GPG-LULUCF</a:t>
            </a:r>
            <a:r>
              <a:rPr b="1" lang="en-US" sz="2800" spc="-1" strike="noStrike">
                <a:solidFill>
                  <a:srgbClr val="0070c0"/>
                </a:solidFill>
                <a:latin typeface="Frutiger LT Pro 57 Condensed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explicitly adopted the approach of using managed land as a proxy for anthropogenic emissions and removals for the first time 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35880" indent="-3358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Reporting of emission and removals confined to managed lands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35880" indent="-3358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Emissions and removals on unmanaged land not to be reported …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35880" indent="-3358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Retained and made more explicit by 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2006 Guidelines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2"/>
                </a:solidFill>
                <a:latin typeface="Frutiger LT Pro 57 Condensed"/>
              </a:rPr>
              <a:t>GPG-LULUCF &amp; 2006 Guidelines:</a:t>
            </a:r>
            <a:r>
              <a:rPr b="1" i="1" lang="en-US" sz="3600" spc="-1" strike="noStrike">
                <a:solidFill>
                  <a:srgbClr val="990002"/>
                </a:solidFill>
                <a:latin typeface="Frutiger LT Pro 57 Condensed"/>
              </a:rPr>
              <a:t> </a:t>
            </a:r>
            <a:r>
              <a:rPr b="1" i="1" lang="en-US" sz="3600" spc="-1" strike="noStrike">
                <a:solidFill>
                  <a:srgbClr val="990002"/>
                </a:solidFill>
                <a:latin typeface="Frutiger LT Pro 57 Condensed"/>
              </a:rPr>
              <a:t>indirect anthropogenic emissions</a:t>
            </a:r>
            <a:endParaRPr b="1" lang="en-US" sz="36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Both in 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GPG-LULUCF &amp; 2006 IPCC Guidelines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, estimation methods capture the indirect anthropogenic effects such as CO2 fertilization and N-deposition on managed lands only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Indirect anthropogenic effects on unmanaged lands not included in the reporting framework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2"/>
                </a:solidFill>
                <a:latin typeface="Frutiger LT Pro 57 Condensed"/>
              </a:rPr>
              <a:t>GPG-LULUCF &amp; 2006 Guidelines: fires and natural disturbances</a:t>
            </a:r>
            <a:endParaRPr b="1" lang="en-US" sz="36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071360" y="1571400"/>
            <a:ext cx="76150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In both </a:t>
            </a:r>
            <a:r>
              <a:rPr b="0" i="1" lang="en-US" sz="2400" spc="-1" strike="noStrike">
                <a:solidFill>
                  <a:srgbClr val="0070c0"/>
                </a:solidFill>
                <a:latin typeface="Frutiger LT Pro 57 Condensed"/>
              </a:rPr>
              <a:t>GPG-LULUCF</a:t>
            </a: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 and </a:t>
            </a:r>
            <a:r>
              <a:rPr b="0" i="1" lang="en-US" sz="2400" spc="-1" strike="noStrike">
                <a:solidFill>
                  <a:srgbClr val="0070c0"/>
                </a:solidFill>
                <a:latin typeface="Frutiger LT Pro 57 Condensed"/>
              </a:rPr>
              <a:t>2006 Guidelines</a:t>
            </a: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, GHG effects from all natural disturbances (wild fires, insect, storms etc.) to be reported only on managed lands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GHG effects from all natural disturbances to be reported for unmanaged lands only if followed by land use change to managed land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Effects of both wildfires and prescribed burning on managed lands should be included (CO</a:t>
            </a:r>
            <a:r>
              <a:rPr b="0" lang="en-US" sz="2400" spc="-1" strike="noStrike" baseline="-25000">
                <a:solidFill>
                  <a:srgbClr val="0070c0"/>
                </a:solidFill>
                <a:latin typeface="Frutiger LT Pro 57 Condensed"/>
              </a:rPr>
              <a:t>2</a:t>
            </a: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 &amp; non-CO</a:t>
            </a:r>
            <a:r>
              <a:rPr b="0" lang="en-US" sz="2400" spc="-1" strike="noStrike" baseline="-25000">
                <a:solidFill>
                  <a:srgbClr val="0070c0"/>
                </a:solidFill>
                <a:latin typeface="Frutiger LT Pro 57 Condensed"/>
              </a:rPr>
              <a:t>2</a:t>
            </a: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 for Forestland and only non-CO</a:t>
            </a:r>
            <a:r>
              <a:rPr b="0" lang="en-US" sz="2400" spc="-1" strike="noStrike" baseline="-25000">
                <a:solidFill>
                  <a:srgbClr val="0070c0"/>
                </a:solidFill>
                <a:latin typeface="Frutiger LT Pro 57 Condensed"/>
              </a:rPr>
              <a:t>2</a:t>
            </a: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 for Grassland etc.)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2"/>
                </a:solidFill>
                <a:latin typeface="Frutiger LT Pro 57 Condensed"/>
              </a:rPr>
              <a:t>GPG-LULUCF &amp; 2006 Guidelines: fires and natural disturbances(2)</a:t>
            </a:r>
            <a:endParaRPr b="1" lang="en-US" sz="36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Frutiger LT Pro 57 Condensed"/>
              </a:rPr>
              <a:t>In </a:t>
            </a:r>
            <a:r>
              <a:rPr b="0" i="1" lang="en-US" sz="2400" spc="-1" strike="noStrike">
                <a:solidFill>
                  <a:srgbClr val="ff0000"/>
                </a:solidFill>
                <a:latin typeface="Frutiger LT Pro 57 Condensed"/>
              </a:rPr>
              <a:t>GPG-LULUCF</a:t>
            </a:r>
            <a:r>
              <a:rPr b="0" lang="en-US" sz="2400" spc="-1" strike="noStrike">
                <a:solidFill>
                  <a:srgbClr val="ff0000"/>
                </a:solidFill>
                <a:latin typeface="Frutiger LT Pro 57 Condensed"/>
              </a:rPr>
              <a:t>,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Frutiger LT Pro 57 Condensed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Frutiger LT Pro 57 Condensed"/>
              </a:rPr>
              <a:t> emissions from wildfires and prescribed burnings on managed forests </a:t>
            </a:r>
            <a:r>
              <a:rPr b="1" lang="en-US" sz="2400" spc="-1" strike="noStrike">
                <a:solidFill>
                  <a:srgbClr val="ff0000"/>
                </a:solidFill>
                <a:latin typeface="Frutiger LT Pro 57 Condensed"/>
              </a:rPr>
              <a:t>need not </a:t>
            </a:r>
            <a:r>
              <a:rPr b="0" lang="en-US" sz="2400" spc="-1" strike="noStrike">
                <a:solidFill>
                  <a:srgbClr val="ff0000"/>
                </a:solidFill>
                <a:latin typeface="Frutiger LT Pro 57 Condensed"/>
              </a:rPr>
              <a:t>be reported if the removals due to subsequent re-growth not captured in the estimation methods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Frutiger LT Pro 57 Condensed"/>
              </a:rPr>
              <a:t>In </a:t>
            </a:r>
            <a:r>
              <a:rPr b="0" i="1" lang="en-US" sz="2400" spc="-1" strike="noStrike">
                <a:solidFill>
                  <a:srgbClr val="ff0000"/>
                </a:solidFill>
                <a:latin typeface="Frutiger LT Pro 57 Condensed"/>
              </a:rPr>
              <a:t>2006 Guidelines</a:t>
            </a:r>
            <a:r>
              <a:rPr b="0" lang="en-US" sz="2400" spc="-1" strike="noStrike">
                <a:solidFill>
                  <a:srgbClr val="ff0000"/>
                </a:solidFill>
                <a:latin typeface="Frutiger LT Pro 57 Condensed"/>
              </a:rPr>
              <a:t>,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Frutiger LT Pro 57 Condensed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Frutiger LT Pro 57 Condensed"/>
              </a:rPr>
              <a:t> fluxes from wildfires and prescribed burnings have to be </a:t>
            </a:r>
            <a:r>
              <a:rPr b="1" lang="en-US" sz="2400" spc="-1" strike="noStrike">
                <a:solidFill>
                  <a:srgbClr val="ff0000"/>
                </a:solidFill>
                <a:latin typeface="Frutiger LT Pro 57 Condensed"/>
              </a:rPr>
              <a:t>mandatorily</a:t>
            </a:r>
            <a:r>
              <a:rPr b="0" lang="en-US" sz="2400" spc="-1" strike="noStrike">
                <a:solidFill>
                  <a:srgbClr val="ff0000"/>
                </a:solidFill>
                <a:latin typeface="Frutiger LT Pro 57 Condensed"/>
              </a:rPr>
              <a:t> reported together with the subsequent re-growth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32640" indent="-33264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This approach in </a:t>
            </a:r>
            <a:r>
              <a:rPr b="0" i="1" lang="en-US" sz="2400" spc="-1" strike="noStrike">
                <a:solidFill>
                  <a:srgbClr val="0070c0"/>
                </a:solidFill>
                <a:latin typeface="Frutiger LT Pro 57 Condensed"/>
              </a:rPr>
              <a:t>2006 Guidelines </a:t>
            </a: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addresses the issue of non-equivalence of re-growth due to non-maintenance of  soil fertility etc. and captures the actual annual emissions more accurately 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32640" indent="-33264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600" spc="-1" strike="noStrike">
                <a:solidFill>
                  <a:srgbClr val="990002"/>
                </a:solidFill>
                <a:latin typeface="Frutiger LT Pro 57 Condensed"/>
              </a:rPr>
              <a:t>GPG-LULUCF &amp; 2006 Guidelines: natural emissions and removals on unmanaged lands</a:t>
            </a:r>
            <a:endParaRPr b="1" lang="en-US" sz="36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1071720" y="178596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Both mention increase/decrease of background fluxes of non-CO</a:t>
            </a:r>
            <a:r>
              <a:rPr b="0" lang="en-US" sz="2800" spc="-1" strike="noStrike" baseline="-25000">
                <a:solidFill>
                  <a:srgbClr val="0070c0"/>
                </a:solidFill>
                <a:latin typeface="Frutiger LT Pro 57 Condensed"/>
              </a:rPr>
              <a:t>2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 gases (CH</a:t>
            </a:r>
            <a:r>
              <a:rPr b="0" lang="en-US" sz="2800" spc="-1" strike="noStrike" baseline="-25000">
                <a:solidFill>
                  <a:srgbClr val="0070c0"/>
                </a:solidFill>
                <a:latin typeface="Frutiger LT Pro 57 Condensed"/>
              </a:rPr>
              <a:t>4 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&amp;N</a:t>
            </a:r>
            <a:r>
              <a:rPr b="0" lang="en-US" sz="2800" spc="-1" strike="noStrike" baseline="-25000">
                <a:solidFill>
                  <a:srgbClr val="0070c0"/>
                </a:solidFill>
                <a:latin typeface="Frutiger LT Pro 57 Condensed"/>
              </a:rPr>
              <a:t>2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O) from unmanaged lands such as undisturbed forest and wetlands but only in the context of conversion to managed lands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Guidance on these fluxes absent due to lack of scientific information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85520" y="163440"/>
            <a:ext cx="81867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2"/>
                </a:solidFill>
                <a:latin typeface="Frutiger LT Pro 57 Condensed"/>
              </a:rPr>
              <a:t>GPG-LULUCF &amp; 2006 Guidelines: inter-annual variability</a:t>
            </a:r>
            <a:endParaRPr b="1" lang="en-US" sz="36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1052640" y="1428840"/>
            <a:ext cx="76341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92cd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Both 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GPG-LULUCF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 and </a:t>
            </a:r>
            <a:r>
              <a:rPr b="0" i="1" lang="en-US" sz="2800" spc="-1" strike="noStrike">
                <a:solidFill>
                  <a:srgbClr val="0070c0"/>
                </a:solidFill>
                <a:latin typeface="Frutiger LT Pro 57 Condensed"/>
              </a:rPr>
              <a:t>2006 Guidelines 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aim to estimate the actual annual emissions including inter-annual variability.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lvl="1" marL="743040" indent="-28584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They note that use of gain-loss method will some smooth out some annual variability.</a:t>
            </a:r>
            <a:endParaRPr b="0" lang="en-US" sz="2400" spc="-1" strike="noStrike">
              <a:solidFill>
                <a:srgbClr val="5b92e5"/>
              </a:solidFill>
              <a:latin typeface="Frutiger LT Pro 57 Condensed"/>
            </a:endParaRPr>
          </a:p>
          <a:p>
            <a:pPr lvl="1" marL="743040" indent="-28584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However, impacts of actual  disturbances should be included.</a:t>
            </a:r>
            <a:endParaRPr b="0" lang="en-US" sz="2400" spc="-1" strike="noStrike">
              <a:solidFill>
                <a:srgbClr val="5b92e5"/>
              </a:solidFill>
              <a:latin typeface="Frutiger LT Pro 57 Condensed"/>
            </a:endParaRPr>
          </a:p>
          <a:p>
            <a:pPr lvl="1" marL="743040" indent="-28584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Tier 3 models should better estimate annual variability due to disturbances through model parameterization and validation using empirical research</a:t>
            </a:r>
            <a:endParaRPr b="0" lang="en-US" sz="2400" spc="-1" strike="noStrike">
              <a:solidFill>
                <a:srgbClr val="5b92e5"/>
              </a:solidFill>
              <a:latin typeface="Frutiger LT Pro 57 Condensed"/>
            </a:endParaRPr>
          </a:p>
          <a:p>
            <a:pPr lvl="1" marL="743040" indent="-28584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2e5"/>
              </a:solidFill>
              <a:latin typeface="Frutiger LT Pro 57 Condensed"/>
            </a:endParaRPr>
          </a:p>
          <a:p>
            <a:pPr lvl="1" marL="743040" indent="-28584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2e5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2"/>
                </a:solidFill>
                <a:latin typeface="Frutiger LT Pro 57 Condensed"/>
              </a:rPr>
              <a:t>Conclusions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1071720" y="142884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IPCC Guidelines have provided detailed methods to help countries report their terrestrial emissions and removals to the UNFCCC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29040" indent="-32904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The attribution of terrestrial GHG fluxes to anthropogenic causes is required for UNFCCC reporting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29040" indent="-32904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IPCC methodology have always either implicitly or explicitly used ‘managed’ land as a proxy for anthropogenic emissions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29040" indent="-32904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The IPCC Guidelines describe the use of this proxy in a consistent but progressively more refined approach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2cd"/>
                </a:solidFill>
                <a:latin typeface="Frutiger LT Pro 57 Condensed"/>
              </a:rPr>
              <a:t>                          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92e5"/>
                </a:solidFill>
                <a:latin typeface="Frutiger LT Pro 57 Condensed"/>
              </a:rPr>
              <a:t>	</a:t>
            </a:r>
            <a:r>
              <a:rPr b="0" lang="en-US" sz="5400" spc="-1" strike="noStrike">
                <a:solidFill>
                  <a:srgbClr val="5b92e5"/>
                </a:solidFill>
                <a:latin typeface="Frutiger LT Pro 57 Condensed"/>
              </a:rPr>
              <a:t>	</a:t>
            </a:r>
            <a:r>
              <a:rPr b="0" lang="en-US" sz="5400" spc="-1" strike="noStrike">
                <a:solidFill>
                  <a:srgbClr val="5b92e5"/>
                </a:solidFill>
                <a:latin typeface="Frutiger LT Pro 57 Condensed"/>
              </a:rPr>
              <a:t>	</a:t>
            </a:r>
            <a:r>
              <a:rPr b="1" i="1" lang="en-US" sz="5400" spc="-1" strike="noStrike">
                <a:solidFill>
                  <a:srgbClr val="0070c0"/>
                </a:solidFill>
                <a:latin typeface="Frutiger LT Pro 57 Condensed"/>
              </a:rPr>
              <a:t>Thank You!</a:t>
            </a:r>
            <a:endParaRPr b="0" lang="en-US" sz="5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Frutiger LT Pro 57 Condensed"/>
              </a:rPr>
              <a:t>IPCC Guidelines in all six UN languages can be downloaded from </a:t>
            </a:r>
            <a:r>
              <a:rPr b="0" lang="en-US" sz="3600" spc="-1" strike="noStrike">
                <a:solidFill>
                  <a:srgbClr val="c00000"/>
                </a:solidFill>
                <a:latin typeface="Frutiger LT Pro 57 Condensed"/>
              </a:rPr>
              <a:t>www.ipcc-nggip.iges.or.jp</a:t>
            </a:r>
            <a:endParaRPr b="0" lang="en-US" sz="36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990002"/>
                </a:solidFill>
                <a:latin typeface="Frutiger LT Pro 57 Condensed"/>
              </a:rPr>
              <a:t>Human impact on terrestrial GHG fluxes</a:t>
            </a:r>
            <a:endParaRPr b="1" lang="en-US" sz="36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Human intervention has been a significant driver of the change in global C cycle and consequently climate change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Terrestrial biosphere is a key determinant of the composition of the atmosphere 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Human intervention influences a wide variety of ecosystem processes responsible for greenhouse gas fluxes 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The UNFCCC asks for separation of anthropogenic from natural terrestrial GHG fluxes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2"/>
                </a:solidFill>
                <a:latin typeface="Frutiger LT Pro 57 Condensed"/>
              </a:rPr>
              <a:t> </a:t>
            </a:r>
            <a:r>
              <a:rPr b="1" i="1" lang="en-US" sz="3600" spc="-1" strike="noStrike">
                <a:solidFill>
                  <a:srgbClr val="990002"/>
                </a:solidFill>
                <a:latin typeface="Frutiger LT Pro 57 Condensed"/>
              </a:rPr>
              <a:t>IPCC approach toward estimating terrestrial anthropogenic emissions and removals</a:t>
            </a:r>
            <a:endParaRPr b="1" lang="en-US" sz="36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71320" y="3857760"/>
            <a:ext cx="8072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15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2"/>
                </a:solidFill>
                <a:latin typeface="Frutiger LT Pro 57 Condensed"/>
              </a:rPr>
              <a:t>Main greenhouse gas emissions/removals processes in managed ecosystems</a:t>
            </a:r>
            <a:endParaRPr b="1" lang="en-US" sz="28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pic>
        <p:nvPicPr>
          <p:cNvPr id="729" name="Picture 4" descr=""/>
          <p:cNvPicPr/>
          <p:nvPr/>
        </p:nvPicPr>
        <p:blipFill>
          <a:blip r:embed="rId1"/>
          <a:stretch/>
        </p:blipFill>
        <p:spPr>
          <a:xfrm>
            <a:off x="1357200" y="1643040"/>
            <a:ext cx="6913800" cy="4389480"/>
          </a:xfrm>
          <a:prstGeom prst="rect">
            <a:avLst/>
          </a:prstGeom>
          <a:ln w="0">
            <a:noFill/>
          </a:ln>
        </p:spPr>
      </p:pic>
      <p:sp>
        <p:nvSpPr>
          <p:cNvPr id="730" name="Rounded Rectangular Callout 8"/>
          <p:cNvSpPr/>
          <p:nvPr/>
        </p:nvSpPr>
        <p:spPr>
          <a:xfrm>
            <a:off x="6143760" y="1714680"/>
            <a:ext cx="1928520" cy="642600"/>
          </a:xfrm>
          <a:prstGeom prst="wedgeRoundRectCallout">
            <a:avLst>
              <a:gd name="adj1" fmla="val -147532"/>
              <a:gd name="adj2" fmla="val 425000"/>
              <a:gd name="adj3" fmla="val 16667"/>
            </a:avLst>
          </a:prstGeom>
          <a:solidFill>
            <a:srgbClr val="ffc000"/>
          </a:solidFill>
          <a:ln w="424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hano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ounded Rectangular Callout 10"/>
          <p:cNvSpPr/>
          <p:nvPr/>
        </p:nvSpPr>
        <p:spPr>
          <a:xfrm>
            <a:off x="1428840" y="1714680"/>
            <a:ext cx="1785960" cy="500040"/>
          </a:xfrm>
          <a:prstGeom prst="wedgeRoundRectCallout">
            <a:avLst>
              <a:gd name="adj1" fmla="val -9939"/>
              <a:gd name="adj2" fmla="val 115023"/>
              <a:gd name="adj3" fmla="val 16667"/>
            </a:avLst>
          </a:prstGeom>
          <a:solidFill>
            <a:srgbClr val="ffc000"/>
          </a:solidFill>
          <a:ln w="424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ounded Rectangular Callout 11"/>
          <p:cNvSpPr/>
          <p:nvPr/>
        </p:nvSpPr>
        <p:spPr>
          <a:xfrm>
            <a:off x="6929280" y="2643120"/>
            <a:ext cx="1928880" cy="571680"/>
          </a:xfrm>
          <a:prstGeom prst="wedgeRoundRectCallout">
            <a:avLst>
              <a:gd name="adj1" fmla="val -21277"/>
              <a:gd name="adj2" fmla="val 380796"/>
              <a:gd name="adj3" fmla="val 16667"/>
            </a:avLst>
          </a:prstGeom>
          <a:solidFill>
            <a:srgbClr val="ffc000"/>
          </a:solidFill>
          <a:ln w="424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hano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ounded Rectangular Callout 12"/>
          <p:cNvSpPr/>
          <p:nvPr/>
        </p:nvSpPr>
        <p:spPr>
          <a:xfrm>
            <a:off x="7072200" y="5572080"/>
            <a:ext cx="1643040" cy="642960"/>
          </a:xfrm>
          <a:prstGeom prst="wedgeRoundRectCallout">
            <a:avLst>
              <a:gd name="adj1" fmla="val -122611"/>
              <a:gd name="adj2" fmla="val -131009"/>
              <a:gd name="adj3" fmla="val 16667"/>
            </a:avLst>
          </a:prstGeom>
          <a:solidFill>
            <a:srgbClr val="ffc000"/>
          </a:solidFill>
          <a:ln w="424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trification &amp; denit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ounded Rectangular Callout 13"/>
          <p:cNvSpPr/>
          <p:nvPr/>
        </p:nvSpPr>
        <p:spPr>
          <a:xfrm>
            <a:off x="857160" y="3714840"/>
            <a:ext cx="1214640" cy="500040"/>
          </a:xfrm>
          <a:prstGeom prst="wedgeRoundRectCallout">
            <a:avLst>
              <a:gd name="adj1" fmla="val 138032"/>
              <a:gd name="adj2" fmla="val 204504"/>
              <a:gd name="adj3" fmla="val 16667"/>
            </a:avLst>
          </a:prstGeom>
          <a:solidFill>
            <a:srgbClr val="ffc000"/>
          </a:solidFill>
          <a:ln w="424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ounded Rectangular Callout 14"/>
          <p:cNvSpPr/>
          <p:nvPr/>
        </p:nvSpPr>
        <p:spPr>
          <a:xfrm>
            <a:off x="3357720" y="1357200"/>
            <a:ext cx="1428480" cy="642960"/>
          </a:xfrm>
          <a:prstGeom prst="wedgeRoundRectCallout">
            <a:avLst>
              <a:gd name="adj1" fmla="val -19925"/>
              <a:gd name="adj2" fmla="val 399898"/>
              <a:gd name="adj3" fmla="val 16667"/>
            </a:avLst>
          </a:prstGeom>
          <a:solidFill>
            <a:srgbClr val="ffc000"/>
          </a:solidFill>
          <a:ln w="424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2"/>
                </a:solidFill>
                <a:latin typeface="Frutiger LT Pro 57 Condensed"/>
              </a:rPr>
              <a:t>Special features of terrestrial GHG fluxes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Terrestrial GHG fluxes are characterized by a great degree of spatial heterogeneity and temporal variability 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35880" indent="-3358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Difficult to identify and distinguish between natural and anthropogenic factors and establish causality in terms of human actions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35880" indent="-335880">
              <a:spcBef>
                <a:spcPts val="700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‘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Indirect’ human induced effects such as CO</a:t>
            </a:r>
            <a:r>
              <a:rPr b="0" lang="en-US" sz="2800" spc="-1" strike="noStrike" baseline="-25000">
                <a:solidFill>
                  <a:srgbClr val="0070c0"/>
                </a:solidFill>
                <a:latin typeface="Frutiger LT Pro 57 Condensed"/>
              </a:rPr>
              <a:t>2</a:t>
            </a:r>
            <a:r>
              <a:rPr b="0" lang="en-US" sz="2800" spc="-1" strike="noStrike">
                <a:solidFill>
                  <a:srgbClr val="0070c0"/>
                </a:solidFill>
                <a:latin typeface="Frutiger LT Pro 57 Condensed"/>
              </a:rPr>
              <a:t> fertilization and N-deposition also significant</a:t>
            </a:r>
            <a:endParaRPr b="0" lang="en-US" sz="28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2"/>
                </a:solidFill>
                <a:latin typeface="Frutiger LT Pro 57 Condensed"/>
              </a:rPr>
              <a:t>The idea of managed land as a proxy for anthropogenic effects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1052280" y="1357200"/>
            <a:ext cx="787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Inventory methods have to be operational, practical and globally applicable while being scientifically sound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18960" indent="-31896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IPCC Guidelines have taken the approach of defining anthropogenic greenhouse gas emissions and removals by sinks as all those occurring on ‘managed land’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18960" indent="-31896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‘</a:t>
            </a:r>
            <a:r>
              <a:rPr b="0" i="1" lang="en-US" sz="2400" spc="-1" strike="noStrike">
                <a:solidFill>
                  <a:srgbClr val="0070c0"/>
                </a:solidFill>
                <a:latin typeface="Frutiger LT Pro 57 Condensed"/>
              </a:rPr>
              <a:t>Managed land is land where human interventions and practices have been applied to perform production, ecological or social functions</a:t>
            </a: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’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18960" indent="-31896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Managed land has to be nationally defined and classified transparently and consistently over time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18960" indent="-31896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Frutiger LT Pro 57 Condensed"/>
              </a:rPr>
              <a:t>GHG fluxes need not be reported for unmanaged land</a:t>
            </a: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18960" indent="-31896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  <a:p>
            <a:pPr marL="318960" indent="-318960">
              <a:spcBef>
                <a:spcPts val="601"/>
              </a:spcBef>
              <a:buClr>
                <a:srgbClr val="0070c0"/>
              </a:buClr>
              <a:buFont typeface="Frutiger LT Pro 57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92cd"/>
              </a:solidFill>
              <a:latin typeface="Frutiger LT Pro 57 Condensed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054080" y="163440"/>
            <a:ext cx="791856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2"/>
                </a:solidFill>
                <a:latin typeface="Frutiger LT Pro 57 Condensed"/>
              </a:rPr>
              <a:t>Basis for managed land as a proxy for anthropogenic effects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pic>
        <p:nvPicPr>
          <p:cNvPr id="741" name="Content Placeholder 3" descr=""/>
          <p:cNvPicPr/>
          <p:nvPr/>
        </p:nvPicPr>
        <p:blipFill>
          <a:blip r:embed="rId1"/>
          <a:stretch/>
        </p:blipFill>
        <p:spPr>
          <a:xfrm>
            <a:off x="1047600" y="1579680"/>
            <a:ext cx="7645680" cy="4576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6"/>
          <p:cNvGrpSpPr/>
          <p:nvPr/>
        </p:nvGrpSpPr>
        <p:grpSpPr>
          <a:xfrm>
            <a:off x="6791400" y="3232080"/>
            <a:ext cx="1498320" cy="3625560"/>
            <a:chOff x="6791400" y="3232080"/>
            <a:chExt cx="1498320" cy="3625560"/>
          </a:xfrm>
        </p:grpSpPr>
        <p:pic>
          <p:nvPicPr>
            <p:cNvPr id="743" name="Picture 7" descr="vol5"/>
            <p:cNvPicPr/>
            <p:nvPr/>
          </p:nvPicPr>
          <p:blipFill>
            <a:blip r:embed="rId1"/>
            <a:stretch/>
          </p:blipFill>
          <p:spPr>
            <a:xfrm>
              <a:off x="7539480" y="3232080"/>
              <a:ext cx="750240" cy="90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8" descr="vol4_2"/>
            <p:cNvPicPr/>
            <p:nvPr/>
          </p:nvPicPr>
          <p:blipFill>
            <a:blip r:embed="rId2"/>
            <a:stretch/>
          </p:blipFill>
          <p:spPr>
            <a:xfrm>
              <a:off x="6791400" y="3728520"/>
              <a:ext cx="750240" cy="90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9" descr="vol4_1"/>
            <p:cNvPicPr/>
            <p:nvPr/>
          </p:nvPicPr>
          <p:blipFill>
            <a:blip r:embed="rId3"/>
            <a:stretch/>
          </p:blipFill>
          <p:spPr>
            <a:xfrm>
              <a:off x="7539480" y="4136040"/>
              <a:ext cx="750240" cy="90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10" descr="vol3_2"/>
            <p:cNvPicPr/>
            <p:nvPr/>
          </p:nvPicPr>
          <p:blipFill>
            <a:blip r:embed="rId4"/>
            <a:stretch/>
          </p:blipFill>
          <p:spPr>
            <a:xfrm>
              <a:off x="6791400" y="4631760"/>
              <a:ext cx="750240" cy="90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Picture 11" descr="vol3_1"/>
            <p:cNvPicPr/>
            <p:nvPr/>
          </p:nvPicPr>
          <p:blipFill>
            <a:blip r:embed="rId5"/>
            <a:stretch/>
          </p:blipFill>
          <p:spPr>
            <a:xfrm>
              <a:off x="7539480" y="5046480"/>
              <a:ext cx="750240" cy="90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12" descr="vol2"/>
            <p:cNvPicPr/>
            <p:nvPr/>
          </p:nvPicPr>
          <p:blipFill>
            <a:blip r:embed="rId6"/>
            <a:stretch/>
          </p:blipFill>
          <p:spPr>
            <a:xfrm>
              <a:off x="6791400" y="5538960"/>
              <a:ext cx="750240" cy="90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Picture 13" descr="vol1"/>
            <p:cNvPicPr/>
            <p:nvPr/>
          </p:nvPicPr>
          <p:blipFill>
            <a:blip r:embed="rId7"/>
            <a:stretch/>
          </p:blipFill>
          <p:spPr>
            <a:xfrm>
              <a:off x="7539480" y="5948640"/>
              <a:ext cx="750240" cy="90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71360" y="2143080"/>
            <a:ext cx="8072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2"/>
                </a:solidFill>
                <a:latin typeface="Frutiger LT Pro 57 Condensed"/>
              </a:rPr>
              <a:t>Treatment of anthropogenic emissions and removals in the IPCC Guidelines</a:t>
            </a:r>
            <a:endParaRPr b="1" lang="en-US" sz="4000" spc="-1" strike="noStrike">
              <a:solidFill>
                <a:srgbClr val="990002"/>
              </a:solidFill>
              <a:latin typeface="Frutiger LT Pro 57 Condensed"/>
            </a:endParaRPr>
          </a:p>
        </p:txBody>
      </p:sp>
      <p:pic>
        <p:nvPicPr>
          <p:cNvPr id="751" name="Picture 14" descr="gpgimg"/>
          <p:cNvPicPr/>
          <p:nvPr/>
        </p:nvPicPr>
        <p:blipFill>
          <a:blip r:embed="rId8"/>
          <a:stretch/>
        </p:blipFill>
        <p:spPr>
          <a:xfrm>
            <a:off x="3862440" y="4064040"/>
            <a:ext cx="1450800" cy="1709640"/>
          </a:xfrm>
          <a:prstGeom prst="rect">
            <a:avLst/>
          </a:prstGeom>
          <a:ln w="0">
            <a:noFill/>
          </a:ln>
        </p:spPr>
      </p:pic>
      <p:grpSp>
        <p:nvGrpSpPr>
          <p:cNvPr id="752" name="Group 15"/>
          <p:cNvGrpSpPr/>
          <p:nvPr/>
        </p:nvGrpSpPr>
        <p:grpSpPr>
          <a:xfrm>
            <a:off x="723960" y="3675240"/>
            <a:ext cx="1821960" cy="1966680"/>
            <a:chOff x="723960" y="3675240"/>
            <a:chExt cx="1821960" cy="1966680"/>
          </a:xfrm>
        </p:grpSpPr>
        <p:pic>
          <p:nvPicPr>
            <p:cNvPr id="753" name="Picture 16" descr=""/>
            <p:cNvPicPr/>
            <p:nvPr/>
          </p:nvPicPr>
          <p:blipFill>
            <a:blip r:embed="rId9"/>
            <a:stretch/>
          </p:blipFill>
          <p:spPr>
            <a:xfrm>
              <a:off x="723960" y="3675240"/>
              <a:ext cx="1115280" cy="145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Picture 17" descr=""/>
            <p:cNvPicPr/>
            <p:nvPr/>
          </p:nvPicPr>
          <p:blipFill>
            <a:blip r:embed="rId10"/>
            <a:stretch/>
          </p:blipFill>
          <p:spPr>
            <a:xfrm>
              <a:off x="1077840" y="3908520"/>
              <a:ext cx="1115640" cy="145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Picture 18" descr=""/>
            <p:cNvPicPr/>
            <p:nvPr/>
          </p:nvPicPr>
          <p:blipFill>
            <a:blip r:embed="rId11"/>
            <a:stretch/>
          </p:blipFill>
          <p:spPr>
            <a:xfrm>
              <a:off x="1430640" y="4188600"/>
              <a:ext cx="1115280" cy="145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6" name="AutoShape 19"/>
          <p:cNvSpPr/>
          <p:nvPr/>
        </p:nvSpPr>
        <p:spPr>
          <a:xfrm>
            <a:off x="2714760" y="4889520"/>
            <a:ext cx="779400" cy="317520"/>
          </a:xfrm>
          <a:custGeom>
            <a:avLst/>
            <a:gdLst>
              <a:gd name="textAreaLeft" fmla="*/ 136440 w 779400"/>
              <a:gd name="textAreaRight" fmla="*/ 565200 w 779400"/>
              <a:gd name="textAreaTop" fmla="*/ 42480 h 317520"/>
              <a:gd name="textAreaBottom" fmla="*/ 275040 h 31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20"/>
          <p:cNvSpPr/>
          <p:nvPr/>
        </p:nvSpPr>
        <p:spPr>
          <a:xfrm>
            <a:off x="5592600" y="4803840"/>
            <a:ext cx="981360" cy="365040"/>
          </a:xfrm>
          <a:custGeom>
            <a:avLst/>
            <a:gdLst>
              <a:gd name="textAreaLeft" fmla="*/ 171720 w 981360"/>
              <a:gd name="textAreaRight" fmla="*/ 711720 w 981360"/>
              <a:gd name="textAreaTop" fmla="*/ 48600 h 365040"/>
              <a:gd name="textAreaBottom" fmla="*/ 316440 h 365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08:53:17Z</dcterms:created>
  <dc:creator>Eggleston</dc:creator>
  <dc:description/>
  <dc:language>en-US</dc:language>
  <cp:lastModifiedBy>srivastava</cp:lastModifiedBy>
  <dcterms:modified xsi:type="dcterms:W3CDTF">2009-05-05T03:53:35Z</dcterms:modified>
  <cp:revision>99</cp:revision>
  <dc:subject/>
  <dc:title>Slide 1</dc:title>
</cp:coreProperties>
</file>