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29.png" ContentType="image/png"/>
  <Override PartName="/ppt/media/image17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EFB5-D293-41E4-BBB7-A53FA8B7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A142-1F85-4016-B29D-81862175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F79-8D96-407E-8A5D-C60DAECD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02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3E1-45C2-4B90-9F1D-4C2597EB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AD8-B286-4C95-A836-A5E76B42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C98-DC87-443E-930A-ABD1C26E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7E1-013C-4F9B-9971-C694CE26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579-C032-4226-819B-3A90DDCA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AE1-F4A3-40E8-BB36-7997B203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95E-0AA8-46EE-A290-1304E80C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8F0-9FA0-488D-9A1A-D135A554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2DB-3C10-4337-8F43-20CF69CB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698-D72A-457E-9BB4-BDFAE8B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2AB-2498-4370-8CEE-DC6562C6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F73-3F5B-4F8F-9AAA-62C3A0E9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ABAD-225D-4702-845D-851F116A6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IHA Logo_March 2008"/>
          <p:cNvPicPr/>
          <p:nvPr/>
        </p:nvPicPr>
        <p:blipFill>
          <a:blip r:embed="rId1"/>
          <a:stretch/>
        </p:blipFill>
        <p:spPr>
          <a:xfrm>
            <a:off x="6905520" y="214200"/>
            <a:ext cx="1738440" cy="1730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0" y="2500200"/>
            <a:ext cx="914400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Arial"/>
              </a:rPr>
              <a:t>Revisiting the Use of Managed Land as a Proxy forEstimating National Anthropogenic Emissions and Remo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EMISSIONS FROM FRESHWATER RESERVO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THE UNESCO/IHA Project (2008-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HG Status of Freshwater 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66"/>
                </a:solidFill>
                <a:latin typeface="Arial"/>
              </a:rPr>
              <a:t>Project Manager: Dr  JOEL  A.  GOLDENFUM (I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282600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14200" y="1857240"/>
            <a:ext cx="864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vel 3 methods for estimating CO2 emissions are comprehensive and must include additional country specific data on all relevant CO2 emission pathways, such as degassing emis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factors are disaggregated to reflect all relevant sources of temporal and spatial variability (see Box 2a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void double counting, Level 3 also requires partitioning emissions from the degradation of flooded organic matter and from the decay of organic matter originating from the water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57120" y="8571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2 EMISSIONS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endix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57120" y="8571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CO2 GASES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endix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8202600" cy="27860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214200" y="47912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r 3 methods are not outlined further in this chapter, but countries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 to Box 2a.1 in Appendix 2 on the derivation of country-specific emission factors as a resource for implementing a Tier 3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57120" y="8571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CO2 GASES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endix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214200" y="14288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er 1 method for estimating CH4 emissions from Flooded Land includes only diffusion emissions during ice-free peri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 during the ice-cover period are assumed to be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4680" y="2857680"/>
            <a:ext cx="9134640" cy="1628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90360" y="4643280"/>
            <a:ext cx="891072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57120" y="8571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CO2 GASES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endix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214200" y="14288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ier 2 approach for CH4 emissions requires country-specific emission factors for diffusive and bubble emissions, and if applicable, accounts for different rates of diffusion and bubble emissions during the ice-fre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ice-covered peri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33480" y="2571840"/>
            <a:ext cx="9077040" cy="241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142920" y="5000760"/>
            <a:ext cx="471492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357120" y="8571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57240" y="2000160"/>
            <a:ext cx="8943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bon budge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take into consideration mai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eflect temporal and spatial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eflect present scientific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57120" y="8571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57240" y="1643040"/>
            <a:ext cx="8943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isson factor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emissions are considered anthropogen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Emissions: ZERO EMISSION (unmanaged fo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missions: ANTHROPOGENIC (managed 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ssion Factor Database – land converted to wetl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s compiled from literature (gross emi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 factor table by climate and land use type (does not consider different processes in the reservoi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eflect temporal and spatial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count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consider vertic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642960" y="2587680"/>
            <a:ext cx="7500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national Hydropower Association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H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llaboration with the International Hydrological Programme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H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ES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669960" y="1857240"/>
            <a:ext cx="7500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HG Research Pro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650880" y="4359240"/>
            <a:ext cx="7500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s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understanding on the impact of reservoirs on natural GHG emissions in a river bas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obtaining a better comprehension on current methodologies and helping to overcome knowledge g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71280"/>
            <a:ext cx="914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SCO/IHA GHG Status of Freshwater Reservoirs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urpose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2"/>
          <p:cNvSpPr/>
          <p:nvPr/>
        </p:nvSpPr>
        <p:spPr>
          <a:xfrm>
            <a:off x="0" y="905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Arial"/>
              </a:rPr>
              <a:t>International Hydrological Programme(UNESCO-IH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214200" y="1374840"/>
            <a:ext cx="2181240" cy="12682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4"/>
          <p:cNvSpPr/>
          <p:nvPr/>
        </p:nvSpPr>
        <p:spPr>
          <a:xfrm>
            <a:off x="2643120" y="157644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HP is UNESCO's international scientific cooperative programme in water research, water resources management, education and capacity-buil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0" y="3552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Arial"/>
              </a:rPr>
              <a:t>International Hydropower Association (I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2"/>
          <a:stretch/>
        </p:blipFill>
        <p:spPr>
          <a:xfrm>
            <a:off x="500040" y="4502160"/>
            <a:ext cx="1176480" cy="12841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"/>
          <p:cNvSpPr/>
          <p:nvPr/>
        </p:nvSpPr>
        <p:spPr>
          <a:xfrm>
            <a:off x="1714680" y="4254480"/>
            <a:ext cx="7143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Non-governmental mutual association of organizations and professionals working or studying in the hydropower s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Founded in 1995, under the auspices of UNESCO, to advance knowledge on all aspects of hydropower and to promote good prac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</a:rPr>
              <a:t>Mission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AU" sz="1800" spc="-1" strike="noStrike">
                <a:solidFill>
                  <a:srgbClr val="000066"/>
                </a:solidFill>
                <a:latin typeface="Arial"/>
              </a:rPr>
              <a:t>Advancing Sustainable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ESCO-IHA Forum on the GHG Status of Freshwater Reservo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6 – First International Workshop (Paris, December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 – Second International Workshop (Iguassu, November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 – Scoping Paper completed by UNESCO Working Group (April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 – UNESCO/IHA Project for an initial two-year programme (April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 – UNESCO/IHA Measurement Specification Workshop (London, Novem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9 – UNESCO/IHA Site Selection and Database Workshop (Sao Paulo, May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UNESCO GHG Dec 2006 007"/>
          <p:cNvPicPr/>
          <p:nvPr/>
        </p:nvPicPr>
        <p:blipFill>
          <a:blip r:embed="rId1"/>
          <a:srcRect l="0" t="27975" r="0" b="13469"/>
          <a:stretch/>
        </p:blipFill>
        <p:spPr>
          <a:xfrm>
            <a:off x="762120" y="4572000"/>
            <a:ext cx="4787640" cy="2112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tretch/>
        </p:blipFill>
        <p:spPr>
          <a:xfrm rot="804000">
            <a:off x="6853320" y="4057560"/>
            <a:ext cx="1803240" cy="25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14400" y="14400"/>
            <a:ext cx="64296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4"/>
          <a:stretch/>
        </p:blipFill>
        <p:spPr>
          <a:xfrm>
            <a:off x="7929720" y="0"/>
            <a:ext cx="1214280" cy="7063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2"/>
          <p:cNvSpPr/>
          <p:nvPr/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SCO/IHA Initiative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85880" y="1626840"/>
            <a:ext cx="7632720" cy="4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ur main objectives of this Project ar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4400" y="14400"/>
            <a:ext cx="642960" cy="701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706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UNESCO/IHA Project</a:t>
            </a:r>
            <a:br>
              <a:rPr sz="2800"/>
            </a:b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GHG Status of Freshwater 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784080" y="1928880"/>
            <a:ext cx="76327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measurement guidance for net GHG measurements in freshwater reservoi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e scientifically rigorous measurements and calculate net emissio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s in GHG emissions due to a construction of a freshwater reservoir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a representative set of freshwater reservoi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predictive modelling tools to assess the GHG status of unmonitored reservoirs and potential new reservoir sit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guidance and assessment tools for mitigation of GHG emissions for vulnerabl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428760" y="2000160"/>
            <a:ext cx="8229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change and water management are today among the most important issues for strategic sustainable develop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lear and pressing need to quantify the greenhouse-gas (GHG) footprint of all human activ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sue of the GHG status of freshwater reservoirs plays an important role in these discu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re is currently no scientific consensus on how to measure the GHG status of freshwater reservoirs, which creates a significant problem for water, energy and climate po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HG Status of Freshwater Reservoirs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knowledge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785880" y="1628280"/>
            <a:ext cx="763272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ope of the Project includes data and methodologies to be applied to a representative set of reservoir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roughout the worl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nclud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measurements in several countries, including, but not limited to, sites in Africa, Asia and Latin Amer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4400" y="14400"/>
            <a:ext cx="642960" cy="701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7063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UNESCO/IHA Project</a:t>
            </a:r>
            <a:br>
              <a:rPr sz="2800"/>
            </a:b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GHG Status of Freshwater 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457200" y="2341440"/>
            <a:ext cx="8218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measurement specification to be applied to a representative set of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empirical predic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rocess-based predic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tigation measures for vulnerabl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4400" y="14400"/>
            <a:ext cx="642960" cy="701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7063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UNESCO/IHA Project</a:t>
            </a:r>
            <a:br>
              <a:rPr sz="2800"/>
            </a:b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GHG Status of Freshwater 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4400" y="14400"/>
            <a:ext cx="642960" cy="701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7063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UNESCO/IHA Project (2008-2011)</a:t>
            </a:r>
            <a:br>
              <a:rPr sz="2800"/>
            </a:b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GHG Status of Freshwater 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2928960" y="11304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500120"/>
          <a:ext cx="8207640" cy="4618080"/>
        </p:xfrm>
        <a:graphic>
          <a:graphicData uri="http://schemas.openxmlformats.org/drawingml/2006/table">
            <a:tbl>
              <a:tblPr/>
              <a:tblGrid>
                <a:gridCol w="1317600"/>
                <a:gridCol w="639720"/>
                <a:gridCol w="568440"/>
                <a:gridCol w="568440"/>
                <a:gridCol w="568440"/>
                <a:gridCol w="568080"/>
                <a:gridCol w="566640"/>
                <a:gridCol w="568440"/>
                <a:gridCol w="568440"/>
                <a:gridCol w="568440"/>
                <a:gridCol w="568080"/>
                <a:gridCol w="568440"/>
                <a:gridCol w="568440"/>
              </a:tblGrid>
              <a:tr h="31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 schedule (quarters of each fiscal year to 31 Mar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to 31.03.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to 31.03.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to 31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/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/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L/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P/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/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/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/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/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L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P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/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/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L/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P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/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method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 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 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 V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D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D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D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V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e selection &amp; super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G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B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mpirical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M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M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MV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rocess Based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B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itigation guid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e3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G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e39"/>
                    </a:solidFill>
                  </a:tcPr>
                </a:tc>
              </a:tr>
            </a:tbl>
          </a:graphicData>
        </a:graphic>
      </p:graphicFrame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582480" y="6221520"/>
            <a:ext cx="8132760" cy="565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4400" y="14400"/>
            <a:ext cx="642960" cy="701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706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UNESCO/IHA Project (2008-2011)</a:t>
            </a:r>
            <a:br>
              <a:rPr sz="2800"/>
            </a:b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GHG Status of Freshwater 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tângulo 7"/>
          <p:cNvSpPr/>
          <p:nvPr/>
        </p:nvSpPr>
        <p:spPr>
          <a:xfrm>
            <a:off x="0" y="23972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lines for GHG measu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ing at international standard and objective measu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will ease comparison, transferability and global use of 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purpose of evaluating the GHG impact from the creation of freshwater reservo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408960" y="1632240"/>
            <a:ext cx="833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UNESCO/IHA  MEASUREMENT SPECIFICATION GUID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OR EVALUATING THE GHG STATUS OF MAN-MADE FRESHWATER RESERVOIR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4400" y="14400"/>
            <a:ext cx="642960" cy="701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7063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UNESCO/IHA Project</a:t>
            </a:r>
            <a:br>
              <a:rPr sz="2800"/>
            </a:b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GHG Status of Freshwater 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214200" y="2622600"/>
            <a:ext cx="37148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1.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2.Objective and applicability of the gui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GENERAL PRINCIPLES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1.Previou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2.Key processes and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3.Measu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4.The importance of considering net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 SPATIAL AND TEMPORAL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.Where to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.When to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4643280" y="2374920"/>
            <a:ext cx="4357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SIT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.METHODS AND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.1.Procedures for measuring GHG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.2  Procedures for measuring carbon mass flow and carbon storage in sed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.3. Procedures for measuring physical and water quality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.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I.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II. UPDATING THIS GUIDANCE MA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11440"/>
                <a:tab algn="r" pos="572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X.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14360" y="112680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"/>
          <p:cNvSpPr/>
          <p:nvPr/>
        </p:nvSpPr>
        <p:spPr>
          <a:xfrm>
            <a:off x="429840" y="1846440"/>
            <a:ext cx="827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UNESCO/IHA  MEASUREMENT SPECIFICATION GUID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EVALUATING THE GHG STATUS OF MAN-MADE FRESHWATER RESERVOIR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14400" y="14400"/>
            <a:ext cx="642960" cy="701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7063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UNESCO/IHA Project (2008-2011)</a:t>
            </a:r>
            <a:br>
              <a:rPr sz="2800"/>
            </a:br>
            <a:r>
              <a:rPr b="1" lang="en-GB" sz="2800" spc="-1" strike="noStrike">
                <a:solidFill>
                  <a:srgbClr val="0045d0"/>
                </a:solidFill>
                <a:latin typeface="Arial"/>
              </a:rPr>
              <a:t>GHG Status of Freshwater 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tângulo 6"/>
          <p:cNvSpPr/>
          <p:nvPr/>
        </p:nvSpPr>
        <p:spPr>
          <a:xfrm>
            <a:off x="3631320" y="14288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457200" y="2484360"/>
            <a:ext cx="8218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blish the measurement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ure application on a representative set of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a database of results, with emphasis on filling knowledge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 an empirical predictive model, define the main concepts for a process-based model, an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ounded Rectangle 7"/>
          <p:cNvSpPr/>
          <p:nvPr/>
        </p:nvSpPr>
        <p:spPr>
          <a:xfrm>
            <a:off x="571680" y="3929040"/>
            <a:ext cx="8072280" cy="2857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952640" y="278604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IHA Logo_March 2008"/>
          <p:cNvPicPr/>
          <p:nvPr/>
        </p:nvPicPr>
        <p:blipFill>
          <a:blip r:embed="rId1"/>
          <a:stretch/>
        </p:blipFill>
        <p:spPr>
          <a:xfrm>
            <a:off x="3557520" y="357120"/>
            <a:ext cx="2157480" cy="2148120"/>
          </a:xfrm>
          <a:prstGeom prst="rect">
            <a:avLst/>
          </a:prstGeom>
          <a:ln w="0">
            <a:noFill/>
          </a:ln>
        </p:spPr>
      </p:pic>
      <p:pic>
        <p:nvPicPr>
          <p:cNvPr id="420" name="Rectangle 2" descr=""/>
          <p:cNvPicPr/>
          <p:nvPr/>
        </p:nvPicPr>
        <p:blipFill>
          <a:blip r:embed="rId2"/>
          <a:stretch/>
        </p:blipFill>
        <p:spPr>
          <a:xfrm>
            <a:off x="566640" y="4095720"/>
            <a:ext cx="8113680" cy="24638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2"/>
          <p:cNvSpPr/>
          <p:nvPr/>
        </p:nvSpPr>
        <p:spPr>
          <a:xfrm>
            <a:off x="642960" y="5643720"/>
            <a:ext cx="38196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HA Central Office (Fifth Floor, W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 Sutton Court 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don Borough of S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1 4SZ - United King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49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258920" y="907920"/>
            <a:ext cx="6840360" cy="6108840"/>
            <a:chOff x="1258920" y="907920"/>
            <a:chExt cx="6840360" cy="6108840"/>
          </a:xfrm>
        </p:grpSpPr>
        <p:sp>
          <p:nvSpPr>
            <p:cNvPr id="55" name="AutoShape 4"/>
            <p:cNvSpPr/>
            <p:nvPr/>
          </p:nvSpPr>
          <p:spPr>
            <a:xfrm>
              <a:off x="1258920" y="907920"/>
              <a:ext cx="6840360" cy="61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"/>
            <p:cNvSpPr/>
            <p:nvPr/>
          </p:nvSpPr>
          <p:spPr>
            <a:xfrm>
              <a:off x="1258920" y="907920"/>
              <a:ext cx="6839280" cy="610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"/>
            <p:cNvSpPr/>
            <p:nvPr/>
          </p:nvSpPr>
          <p:spPr>
            <a:xfrm>
              <a:off x="6906240" y="4699800"/>
              <a:ext cx="450720" cy="76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>
              <a:off x="7041240" y="4393440"/>
              <a:ext cx="1274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7210080" y="4399560"/>
              <a:ext cx="8622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usive fl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7194240" y="4616640"/>
              <a:ext cx="228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7421040" y="471276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7522560" y="4616640"/>
              <a:ext cx="2192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7741080" y="471276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6271920" y="4062960"/>
              <a:ext cx="127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4"/>
            <p:cNvSpPr/>
            <p:nvPr/>
          </p:nvSpPr>
          <p:spPr>
            <a:xfrm>
              <a:off x="6440760" y="4069440"/>
              <a:ext cx="71856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gas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6356520" y="4287960"/>
              <a:ext cx="228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6"/>
            <p:cNvSpPr/>
            <p:nvPr/>
          </p:nvSpPr>
          <p:spPr>
            <a:xfrm>
              <a:off x="6584400" y="4383720"/>
              <a:ext cx="561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6685560" y="4287960"/>
              <a:ext cx="2192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>
              <a:off x="6904440" y="4383720"/>
              <a:ext cx="561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19"/>
            <p:cNvGrpSpPr/>
            <p:nvPr/>
          </p:nvGrpSpPr>
          <p:grpSpPr>
            <a:xfrm>
              <a:off x="2079360" y="3234600"/>
              <a:ext cx="5855040" cy="2425320"/>
              <a:chOff x="2079360" y="3234600"/>
              <a:chExt cx="5855040" cy="2425320"/>
            </a:xfrm>
          </p:grpSpPr>
          <p:sp>
            <p:nvSpPr>
              <p:cNvPr id="71" name="Freeform 20"/>
              <p:cNvSpPr/>
              <p:nvPr/>
            </p:nvSpPr>
            <p:spPr>
              <a:xfrm>
                <a:off x="2079360" y="3234600"/>
                <a:ext cx="5855040" cy="242532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1"/>
              <p:cNvSpPr/>
              <p:nvPr/>
            </p:nvSpPr>
            <p:spPr>
              <a:xfrm>
                <a:off x="2079360" y="3234600"/>
                <a:ext cx="5855040" cy="2425320"/>
              </a:xfrm>
              <a:prstGeom prst="pie">
                <a:avLst/>
              </a:prstGeom>
              <a:noFill/>
              <a:ln cap="rnd" w="50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22"/>
            <p:cNvGrpSpPr/>
            <p:nvPr/>
          </p:nvGrpSpPr>
          <p:grpSpPr>
            <a:xfrm>
              <a:off x="6050880" y="3230640"/>
              <a:ext cx="168840" cy="1754280"/>
              <a:chOff x="6050880" y="3230640"/>
              <a:chExt cx="168840" cy="175428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6054120" y="3234600"/>
                <a:ext cx="161280" cy="174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4"/>
              <p:cNvSpPr/>
              <p:nvPr/>
            </p:nvSpPr>
            <p:spPr>
              <a:xfrm>
                <a:off x="6050880" y="3230640"/>
                <a:ext cx="168840" cy="175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Freeform 25"/>
            <p:cNvSpPr/>
            <p:nvPr/>
          </p:nvSpPr>
          <p:spPr>
            <a:xfrm>
              <a:off x="5635080" y="5136840"/>
              <a:ext cx="485280" cy="341280"/>
            </a:xfrm>
            <a:prstGeom prst="pie">
              <a:avLst/>
            </a:prstGeom>
            <a:noFill/>
            <a:ln cap="rnd"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2079360" y="3555000"/>
              <a:ext cx="4074120" cy="2131920"/>
            </a:xfrm>
            <a:prstGeom prst="pi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27"/>
            <p:cNvGrpSpPr/>
            <p:nvPr/>
          </p:nvGrpSpPr>
          <p:grpSpPr>
            <a:xfrm>
              <a:off x="6054120" y="5116680"/>
              <a:ext cx="175680" cy="554040"/>
              <a:chOff x="6054120" y="5116680"/>
              <a:chExt cx="175680" cy="554040"/>
            </a:xfrm>
          </p:grpSpPr>
          <p:sp>
            <p:nvSpPr>
              <p:cNvPr id="79" name="Rectangle 28"/>
              <p:cNvSpPr/>
              <p:nvPr/>
            </p:nvSpPr>
            <p:spPr>
              <a:xfrm>
                <a:off x="6054120" y="5116680"/>
                <a:ext cx="17568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29"/>
              <p:cNvSpPr/>
              <p:nvPr/>
            </p:nvSpPr>
            <p:spPr>
              <a:xfrm>
                <a:off x="6054120" y="5116680"/>
                <a:ext cx="175680" cy="554040"/>
              </a:xfrm>
              <a:prstGeom prst="rect">
                <a:avLst/>
              </a:prstGeom>
              <a:noFill/>
              <a:ln cap="rnd" w="50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Freeform 30"/>
            <p:cNvSpPr/>
            <p:nvPr/>
          </p:nvSpPr>
          <p:spPr>
            <a:xfrm>
              <a:off x="2630160" y="4260960"/>
              <a:ext cx="366480" cy="222840"/>
            </a:xfrm>
            <a:prstGeom prst="pie">
              <a:avLst/>
            </a:prstGeom>
            <a:solidFill>
              <a:srgbClr val="5f5f5f"/>
            </a:solidFill>
            <a:ln w="720">
              <a:solidFill>
                <a:srgbClr val="5f5f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1"/>
            <p:cNvSpPr/>
            <p:nvPr/>
          </p:nvSpPr>
          <p:spPr>
            <a:xfrm>
              <a:off x="1719000" y="4462920"/>
              <a:ext cx="5911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Floo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2"/>
            <p:cNvSpPr/>
            <p:nvPr/>
          </p:nvSpPr>
          <p:spPr>
            <a:xfrm>
              <a:off x="2351520" y="4462920"/>
              <a:ext cx="244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3"/>
            <p:cNvSpPr/>
            <p:nvPr/>
          </p:nvSpPr>
          <p:spPr>
            <a:xfrm>
              <a:off x="1719000" y="4680000"/>
              <a:ext cx="5040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4"/>
            <p:cNvSpPr/>
            <p:nvPr/>
          </p:nvSpPr>
          <p:spPr>
            <a:xfrm>
              <a:off x="1768680" y="4680000"/>
              <a:ext cx="34668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soi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5"/>
            <p:cNvSpPr/>
            <p:nvPr/>
          </p:nvSpPr>
          <p:spPr>
            <a:xfrm>
              <a:off x="1719000" y="4898880"/>
              <a:ext cx="5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6"/>
            <p:cNvSpPr/>
            <p:nvPr/>
          </p:nvSpPr>
          <p:spPr>
            <a:xfrm>
              <a:off x="1768680" y="4898880"/>
              <a:ext cx="3628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pla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7"/>
            <p:cNvSpPr/>
            <p:nvPr/>
          </p:nvSpPr>
          <p:spPr>
            <a:xfrm>
              <a:off x="2184120" y="4898880"/>
              <a:ext cx="5832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mater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"/>
            <p:cNvSpPr/>
            <p:nvPr/>
          </p:nvSpPr>
          <p:spPr>
            <a:xfrm>
              <a:off x="1719000" y="5115600"/>
              <a:ext cx="5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9"/>
            <p:cNvSpPr/>
            <p:nvPr/>
          </p:nvSpPr>
          <p:spPr>
            <a:xfrm>
              <a:off x="1768680" y="5115600"/>
              <a:ext cx="3967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w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40"/>
            <p:cNvGrpSpPr/>
            <p:nvPr/>
          </p:nvGrpSpPr>
          <p:grpSpPr>
            <a:xfrm>
              <a:off x="4263120" y="3908520"/>
              <a:ext cx="603360" cy="1015920"/>
              <a:chOff x="4263120" y="3908520"/>
              <a:chExt cx="603360" cy="1015920"/>
            </a:xfrm>
          </p:grpSpPr>
          <p:sp>
            <p:nvSpPr>
              <p:cNvPr id="92" name="Freeform 41"/>
              <p:cNvSpPr/>
              <p:nvPr/>
            </p:nvSpPr>
            <p:spPr>
              <a:xfrm>
                <a:off x="4514760" y="4548960"/>
                <a:ext cx="177480" cy="375480"/>
              </a:xfrm>
              <a:prstGeom prst="pi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42"/>
              <p:cNvSpPr/>
              <p:nvPr/>
            </p:nvSpPr>
            <p:spPr>
              <a:xfrm>
                <a:off x="4263120" y="4273920"/>
                <a:ext cx="228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43"/>
              <p:cNvSpPr/>
              <p:nvPr/>
            </p:nvSpPr>
            <p:spPr>
              <a:xfrm>
                <a:off x="4490280" y="4370040"/>
                <a:ext cx="56160" cy="13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44"/>
              <p:cNvSpPr/>
              <p:nvPr/>
            </p:nvSpPr>
            <p:spPr>
              <a:xfrm>
                <a:off x="4591440" y="4273920"/>
                <a:ext cx="21924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45"/>
              <p:cNvSpPr/>
              <p:nvPr/>
            </p:nvSpPr>
            <p:spPr>
              <a:xfrm>
                <a:off x="4810320" y="4370040"/>
                <a:ext cx="56160" cy="13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46"/>
              <p:cNvSpPr/>
              <p:nvPr/>
            </p:nvSpPr>
            <p:spPr>
              <a:xfrm>
                <a:off x="4460760" y="3908520"/>
                <a:ext cx="176400" cy="375480"/>
              </a:xfrm>
              <a:prstGeom prst="pi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7"/>
            <p:cNvGrpSpPr/>
            <p:nvPr/>
          </p:nvGrpSpPr>
          <p:grpSpPr>
            <a:xfrm>
              <a:off x="2902680" y="3549960"/>
              <a:ext cx="3230640" cy="461520"/>
              <a:chOff x="2902680" y="3549960"/>
              <a:chExt cx="3230640" cy="461520"/>
            </a:xfrm>
          </p:grpSpPr>
          <p:sp>
            <p:nvSpPr>
              <p:cNvPr id="99" name="Freeform 48"/>
              <p:cNvSpPr/>
              <p:nvPr/>
            </p:nvSpPr>
            <p:spPr>
              <a:xfrm>
                <a:off x="2902680" y="3802680"/>
                <a:ext cx="3230640" cy="16920"/>
              </a:xfrm>
              <a:prstGeom prst="pi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49"/>
              <p:cNvSpPr/>
              <p:nvPr/>
            </p:nvSpPr>
            <p:spPr>
              <a:xfrm>
                <a:off x="3794400" y="3549960"/>
                <a:ext cx="601200" cy="46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xycli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50"/>
            <p:cNvSpPr/>
            <p:nvPr/>
          </p:nvSpPr>
          <p:spPr>
            <a:xfrm>
              <a:off x="5654880" y="3555000"/>
              <a:ext cx="399240" cy="1425960"/>
            </a:xfrm>
            <a:prstGeom prst="pie">
              <a:avLst/>
            </a:prstGeom>
            <a:noFill/>
            <a:ln cap="rnd"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1"/>
            <p:cNvSpPr/>
            <p:nvPr/>
          </p:nvSpPr>
          <p:spPr>
            <a:xfrm>
              <a:off x="4943880" y="3371400"/>
              <a:ext cx="4690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Phy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2"/>
            <p:cNvSpPr/>
            <p:nvPr/>
          </p:nvSpPr>
          <p:spPr>
            <a:xfrm>
              <a:off x="5159880" y="3634200"/>
              <a:ext cx="187920" cy="1540440"/>
            </a:xfrm>
            <a:prstGeom prst="pie">
              <a:avLst/>
            </a:prstGeom>
            <a:solidFill>
              <a:srgbClr val="777777"/>
            </a:solidFill>
            <a:ln w="720">
              <a:solidFill>
                <a:srgbClr val="77777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3"/>
            <p:cNvSpPr/>
            <p:nvPr/>
          </p:nvSpPr>
          <p:spPr>
            <a:xfrm>
              <a:off x="1542240" y="3218400"/>
              <a:ext cx="855360" cy="275040"/>
            </a:xfrm>
            <a:prstGeom prst="pie">
              <a:avLst/>
            </a:prstGeom>
            <a:solidFill>
              <a:srgbClr val="5f5f5f"/>
            </a:solidFill>
            <a:ln w="720">
              <a:solidFill>
                <a:srgbClr val="5f5f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4"/>
            <p:cNvGrpSpPr/>
            <p:nvPr/>
          </p:nvGrpSpPr>
          <p:grpSpPr>
            <a:xfrm>
              <a:off x="3225240" y="3193200"/>
              <a:ext cx="321120" cy="1282320"/>
              <a:chOff x="3225240" y="3193200"/>
              <a:chExt cx="321120" cy="1282320"/>
            </a:xfrm>
          </p:grpSpPr>
          <p:grpSp>
            <p:nvGrpSpPr>
              <p:cNvPr id="106" name="Group 55"/>
              <p:cNvGrpSpPr/>
              <p:nvPr/>
            </p:nvGrpSpPr>
            <p:grpSpPr>
              <a:xfrm>
                <a:off x="3332880" y="3320640"/>
                <a:ext cx="52920" cy="64440"/>
                <a:chOff x="3332880" y="3320640"/>
                <a:chExt cx="52920" cy="64440"/>
              </a:xfrm>
            </p:grpSpPr>
            <p:sp>
              <p:nvSpPr>
                <p:cNvPr id="107" name="Oval 56"/>
                <p:cNvSpPr/>
                <p:nvPr/>
              </p:nvSpPr>
              <p:spPr>
                <a:xfrm>
                  <a:off x="3332880" y="3320640"/>
                  <a:ext cx="52920" cy="6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Oval 57"/>
                <p:cNvSpPr/>
                <p:nvPr/>
              </p:nvSpPr>
              <p:spPr>
                <a:xfrm>
                  <a:off x="3332880" y="3320640"/>
                  <a:ext cx="52920" cy="6444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58"/>
              <p:cNvGrpSpPr/>
              <p:nvPr/>
            </p:nvGrpSpPr>
            <p:grpSpPr>
              <a:xfrm>
                <a:off x="3387960" y="3385080"/>
                <a:ext cx="52920" cy="64080"/>
                <a:chOff x="3387960" y="3385080"/>
                <a:chExt cx="52920" cy="64080"/>
              </a:xfrm>
            </p:grpSpPr>
            <p:sp>
              <p:nvSpPr>
                <p:cNvPr id="110" name="Oval 59"/>
                <p:cNvSpPr/>
                <p:nvPr/>
              </p:nvSpPr>
              <p:spPr>
                <a:xfrm>
                  <a:off x="3387960" y="3385080"/>
                  <a:ext cx="52920" cy="64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60"/>
                <p:cNvSpPr/>
                <p:nvPr/>
              </p:nvSpPr>
              <p:spPr>
                <a:xfrm>
                  <a:off x="3387960" y="3385080"/>
                  <a:ext cx="52920" cy="6408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61"/>
              <p:cNvGrpSpPr/>
              <p:nvPr/>
            </p:nvGrpSpPr>
            <p:grpSpPr>
              <a:xfrm>
                <a:off x="3279960" y="3193200"/>
                <a:ext cx="52920" cy="65160"/>
                <a:chOff x="3279960" y="3193200"/>
                <a:chExt cx="52920" cy="65160"/>
              </a:xfrm>
            </p:grpSpPr>
            <p:sp>
              <p:nvSpPr>
                <p:cNvPr id="113" name="Oval 62"/>
                <p:cNvSpPr/>
                <p:nvPr/>
              </p:nvSpPr>
              <p:spPr>
                <a:xfrm>
                  <a:off x="3279960" y="3193200"/>
                  <a:ext cx="5292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63"/>
                <p:cNvSpPr/>
                <p:nvPr/>
              </p:nvSpPr>
              <p:spPr>
                <a:xfrm>
                  <a:off x="3279960" y="3193200"/>
                  <a:ext cx="5292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4"/>
              <p:cNvGrpSpPr/>
              <p:nvPr/>
            </p:nvGrpSpPr>
            <p:grpSpPr>
              <a:xfrm>
                <a:off x="3279960" y="3449160"/>
                <a:ext cx="52920" cy="63000"/>
                <a:chOff x="3279960" y="3449160"/>
                <a:chExt cx="52920" cy="63000"/>
              </a:xfrm>
            </p:grpSpPr>
            <p:sp>
              <p:nvSpPr>
                <p:cNvPr id="116" name="Oval 65"/>
                <p:cNvSpPr/>
                <p:nvPr/>
              </p:nvSpPr>
              <p:spPr>
                <a:xfrm>
                  <a:off x="3279960" y="3449160"/>
                  <a:ext cx="52920" cy="6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Oval 66"/>
                <p:cNvSpPr/>
                <p:nvPr/>
              </p:nvSpPr>
              <p:spPr>
                <a:xfrm>
                  <a:off x="3279960" y="3449160"/>
                  <a:ext cx="52920" cy="6300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67"/>
              <p:cNvGrpSpPr/>
              <p:nvPr/>
            </p:nvGrpSpPr>
            <p:grpSpPr>
              <a:xfrm>
                <a:off x="3386160" y="3641040"/>
                <a:ext cx="53640" cy="65160"/>
                <a:chOff x="3386160" y="3641040"/>
                <a:chExt cx="53640" cy="65160"/>
              </a:xfrm>
            </p:grpSpPr>
            <p:sp>
              <p:nvSpPr>
                <p:cNvPr id="119" name="Oval 68"/>
                <p:cNvSpPr/>
                <p:nvPr/>
              </p:nvSpPr>
              <p:spPr>
                <a:xfrm>
                  <a:off x="3386160" y="3641040"/>
                  <a:ext cx="5364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Oval 69"/>
                <p:cNvSpPr/>
                <p:nvPr/>
              </p:nvSpPr>
              <p:spPr>
                <a:xfrm>
                  <a:off x="3386160" y="3641040"/>
                  <a:ext cx="5364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70"/>
              <p:cNvGrpSpPr/>
              <p:nvPr/>
            </p:nvGrpSpPr>
            <p:grpSpPr>
              <a:xfrm>
                <a:off x="3441240" y="3706200"/>
                <a:ext cx="52920" cy="63000"/>
                <a:chOff x="3441240" y="3706200"/>
                <a:chExt cx="52920" cy="63000"/>
              </a:xfrm>
            </p:grpSpPr>
            <p:sp>
              <p:nvSpPr>
                <p:cNvPr id="122" name="Oval 71"/>
                <p:cNvSpPr/>
                <p:nvPr/>
              </p:nvSpPr>
              <p:spPr>
                <a:xfrm>
                  <a:off x="3441240" y="3706200"/>
                  <a:ext cx="52920" cy="6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Oval 72"/>
                <p:cNvSpPr/>
                <p:nvPr/>
              </p:nvSpPr>
              <p:spPr>
                <a:xfrm>
                  <a:off x="3441240" y="3706200"/>
                  <a:ext cx="52920" cy="6300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73"/>
              <p:cNvGrpSpPr/>
              <p:nvPr/>
            </p:nvGrpSpPr>
            <p:grpSpPr>
              <a:xfrm>
                <a:off x="3332880" y="3514320"/>
                <a:ext cx="52920" cy="64440"/>
                <a:chOff x="3332880" y="3514320"/>
                <a:chExt cx="52920" cy="64440"/>
              </a:xfrm>
            </p:grpSpPr>
            <p:sp>
              <p:nvSpPr>
                <p:cNvPr id="125" name="Oval 74"/>
                <p:cNvSpPr/>
                <p:nvPr/>
              </p:nvSpPr>
              <p:spPr>
                <a:xfrm>
                  <a:off x="3332880" y="3514320"/>
                  <a:ext cx="52920" cy="6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75"/>
                <p:cNvSpPr/>
                <p:nvPr/>
              </p:nvSpPr>
              <p:spPr>
                <a:xfrm>
                  <a:off x="3332880" y="3514320"/>
                  <a:ext cx="52920" cy="6444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76"/>
              <p:cNvGrpSpPr/>
              <p:nvPr/>
            </p:nvGrpSpPr>
            <p:grpSpPr>
              <a:xfrm>
                <a:off x="3332880" y="3769560"/>
                <a:ext cx="52920" cy="64440"/>
                <a:chOff x="3332880" y="3769560"/>
                <a:chExt cx="52920" cy="64440"/>
              </a:xfrm>
            </p:grpSpPr>
            <p:sp>
              <p:nvSpPr>
                <p:cNvPr id="128" name="Oval 77"/>
                <p:cNvSpPr/>
                <p:nvPr/>
              </p:nvSpPr>
              <p:spPr>
                <a:xfrm>
                  <a:off x="3332880" y="3769560"/>
                  <a:ext cx="52920" cy="6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78"/>
                <p:cNvSpPr/>
                <p:nvPr/>
              </p:nvSpPr>
              <p:spPr>
                <a:xfrm>
                  <a:off x="3332880" y="3769560"/>
                  <a:ext cx="52920" cy="6444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79"/>
              <p:cNvGrpSpPr/>
              <p:nvPr/>
            </p:nvGrpSpPr>
            <p:grpSpPr>
              <a:xfrm>
                <a:off x="3332880" y="3768480"/>
                <a:ext cx="52920" cy="65160"/>
                <a:chOff x="3332880" y="3768480"/>
                <a:chExt cx="52920" cy="65160"/>
              </a:xfrm>
            </p:grpSpPr>
            <p:sp>
              <p:nvSpPr>
                <p:cNvPr id="131" name="Oval 80"/>
                <p:cNvSpPr/>
                <p:nvPr/>
              </p:nvSpPr>
              <p:spPr>
                <a:xfrm>
                  <a:off x="3332880" y="3768480"/>
                  <a:ext cx="5292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81"/>
                <p:cNvSpPr/>
                <p:nvPr/>
              </p:nvSpPr>
              <p:spPr>
                <a:xfrm>
                  <a:off x="3332880" y="3768480"/>
                  <a:ext cx="5292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82"/>
              <p:cNvGrpSpPr/>
              <p:nvPr/>
            </p:nvGrpSpPr>
            <p:grpSpPr>
              <a:xfrm>
                <a:off x="3387960" y="3834000"/>
                <a:ext cx="52920" cy="63000"/>
                <a:chOff x="3387960" y="3834000"/>
                <a:chExt cx="52920" cy="63000"/>
              </a:xfrm>
            </p:grpSpPr>
            <p:sp>
              <p:nvSpPr>
                <p:cNvPr id="134" name="Oval 83"/>
                <p:cNvSpPr/>
                <p:nvPr/>
              </p:nvSpPr>
              <p:spPr>
                <a:xfrm>
                  <a:off x="3387960" y="3834000"/>
                  <a:ext cx="52920" cy="6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Oval 84"/>
                <p:cNvSpPr/>
                <p:nvPr/>
              </p:nvSpPr>
              <p:spPr>
                <a:xfrm>
                  <a:off x="3387960" y="3834000"/>
                  <a:ext cx="52920" cy="6300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85"/>
              <p:cNvGrpSpPr/>
              <p:nvPr/>
            </p:nvGrpSpPr>
            <p:grpSpPr>
              <a:xfrm>
                <a:off x="3279960" y="3641040"/>
                <a:ext cx="52920" cy="65160"/>
                <a:chOff x="3279960" y="3641040"/>
                <a:chExt cx="52920" cy="65160"/>
              </a:xfrm>
            </p:grpSpPr>
            <p:sp>
              <p:nvSpPr>
                <p:cNvPr id="137" name="Oval 86"/>
                <p:cNvSpPr/>
                <p:nvPr/>
              </p:nvSpPr>
              <p:spPr>
                <a:xfrm>
                  <a:off x="3279960" y="3641040"/>
                  <a:ext cx="5292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Oval 87"/>
                <p:cNvSpPr/>
                <p:nvPr/>
              </p:nvSpPr>
              <p:spPr>
                <a:xfrm>
                  <a:off x="3279960" y="3641040"/>
                  <a:ext cx="5292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279960" y="3897000"/>
                <a:ext cx="52920" cy="64440"/>
                <a:chOff x="3279960" y="3897000"/>
                <a:chExt cx="52920" cy="64440"/>
              </a:xfrm>
            </p:grpSpPr>
            <p:sp>
              <p:nvSpPr>
                <p:cNvPr id="140" name="Oval 89"/>
                <p:cNvSpPr/>
                <p:nvPr/>
              </p:nvSpPr>
              <p:spPr>
                <a:xfrm>
                  <a:off x="3279960" y="3897000"/>
                  <a:ext cx="52920" cy="6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90"/>
                <p:cNvSpPr/>
                <p:nvPr/>
              </p:nvSpPr>
              <p:spPr>
                <a:xfrm>
                  <a:off x="3279960" y="3897000"/>
                  <a:ext cx="52920" cy="6444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91"/>
              <p:cNvGrpSpPr/>
              <p:nvPr/>
            </p:nvGrpSpPr>
            <p:grpSpPr>
              <a:xfrm>
                <a:off x="3278160" y="3898080"/>
                <a:ext cx="53640" cy="65160"/>
                <a:chOff x="3278160" y="3898080"/>
                <a:chExt cx="53640" cy="65160"/>
              </a:xfrm>
            </p:grpSpPr>
            <p:sp>
              <p:nvSpPr>
                <p:cNvPr id="143" name="Oval 92"/>
                <p:cNvSpPr/>
                <p:nvPr/>
              </p:nvSpPr>
              <p:spPr>
                <a:xfrm>
                  <a:off x="3278160" y="3898080"/>
                  <a:ext cx="5364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93"/>
                <p:cNvSpPr/>
                <p:nvPr/>
              </p:nvSpPr>
              <p:spPr>
                <a:xfrm>
                  <a:off x="3278160" y="3898080"/>
                  <a:ext cx="5364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94"/>
              <p:cNvGrpSpPr/>
              <p:nvPr/>
            </p:nvGrpSpPr>
            <p:grpSpPr>
              <a:xfrm>
                <a:off x="3332880" y="3963600"/>
                <a:ext cx="52920" cy="64080"/>
                <a:chOff x="3332880" y="3963600"/>
                <a:chExt cx="52920" cy="64080"/>
              </a:xfrm>
            </p:grpSpPr>
            <p:sp>
              <p:nvSpPr>
                <p:cNvPr id="146" name="Oval 95"/>
                <p:cNvSpPr/>
                <p:nvPr/>
              </p:nvSpPr>
              <p:spPr>
                <a:xfrm>
                  <a:off x="3332880" y="3963600"/>
                  <a:ext cx="52920" cy="64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96"/>
                <p:cNvSpPr/>
                <p:nvPr/>
              </p:nvSpPr>
              <p:spPr>
                <a:xfrm>
                  <a:off x="3332880" y="3963600"/>
                  <a:ext cx="52920" cy="6408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97"/>
              <p:cNvGrpSpPr/>
              <p:nvPr/>
            </p:nvGrpSpPr>
            <p:grpSpPr>
              <a:xfrm>
                <a:off x="3225240" y="3771360"/>
                <a:ext cx="52920" cy="65160"/>
                <a:chOff x="3225240" y="3771360"/>
                <a:chExt cx="52920" cy="65160"/>
              </a:xfrm>
            </p:grpSpPr>
            <p:sp>
              <p:nvSpPr>
                <p:cNvPr id="149" name="Oval 98"/>
                <p:cNvSpPr/>
                <p:nvPr/>
              </p:nvSpPr>
              <p:spPr>
                <a:xfrm>
                  <a:off x="3225240" y="3771360"/>
                  <a:ext cx="5292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99"/>
                <p:cNvSpPr/>
                <p:nvPr/>
              </p:nvSpPr>
              <p:spPr>
                <a:xfrm>
                  <a:off x="3225240" y="3771360"/>
                  <a:ext cx="5292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00"/>
              <p:cNvGrpSpPr/>
              <p:nvPr/>
            </p:nvGrpSpPr>
            <p:grpSpPr>
              <a:xfrm>
                <a:off x="3225240" y="4027680"/>
                <a:ext cx="52920" cy="63000"/>
                <a:chOff x="3225240" y="4027680"/>
                <a:chExt cx="52920" cy="63000"/>
              </a:xfrm>
            </p:grpSpPr>
            <p:sp>
              <p:nvSpPr>
                <p:cNvPr id="152" name="Oval 101"/>
                <p:cNvSpPr/>
                <p:nvPr/>
              </p:nvSpPr>
              <p:spPr>
                <a:xfrm>
                  <a:off x="3225240" y="4027680"/>
                  <a:ext cx="52920" cy="6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Oval 102"/>
                <p:cNvSpPr/>
                <p:nvPr/>
              </p:nvSpPr>
              <p:spPr>
                <a:xfrm>
                  <a:off x="3225240" y="4027680"/>
                  <a:ext cx="52920" cy="6300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03"/>
              <p:cNvGrpSpPr/>
              <p:nvPr/>
            </p:nvGrpSpPr>
            <p:grpSpPr>
              <a:xfrm>
                <a:off x="3332160" y="4219560"/>
                <a:ext cx="52920" cy="65160"/>
                <a:chOff x="3332160" y="4219560"/>
                <a:chExt cx="52920" cy="65160"/>
              </a:xfrm>
            </p:grpSpPr>
            <p:sp>
              <p:nvSpPr>
                <p:cNvPr id="155" name="Oval 104"/>
                <p:cNvSpPr/>
                <p:nvPr/>
              </p:nvSpPr>
              <p:spPr>
                <a:xfrm>
                  <a:off x="3332160" y="4219560"/>
                  <a:ext cx="5292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05"/>
                <p:cNvSpPr/>
                <p:nvPr/>
              </p:nvSpPr>
              <p:spPr>
                <a:xfrm>
                  <a:off x="3332160" y="4219560"/>
                  <a:ext cx="5292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106"/>
              <p:cNvGrpSpPr/>
              <p:nvPr/>
            </p:nvGrpSpPr>
            <p:grpSpPr>
              <a:xfrm>
                <a:off x="3386160" y="4284720"/>
                <a:ext cx="53640" cy="63000"/>
                <a:chOff x="3386160" y="4284720"/>
                <a:chExt cx="53640" cy="63000"/>
              </a:xfrm>
            </p:grpSpPr>
            <p:sp>
              <p:nvSpPr>
                <p:cNvPr id="158" name="Oval 107"/>
                <p:cNvSpPr/>
                <p:nvPr/>
              </p:nvSpPr>
              <p:spPr>
                <a:xfrm>
                  <a:off x="3386160" y="4284720"/>
                  <a:ext cx="53640" cy="6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Oval 108"/>
                <p:cNvSpPr/>
                <p:nvPr/>
              </p:nvSpPr>
              <p:spPr>
                <a:xfrm>
                  <a:off x="3386160" y="4284720"/>
                  <a:ext cx="53640" cy="6300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109"/>
              <p:cNvGrpSpPr/>
              <p:nvPr/>
            </p:nvGrpSpPr>
            <p:grpSpPr>
              <a:xfrm>
                <a:off x="3278160" y="4092120"/>
                <a:ext cx="53640" cy="65160"/>
                <a:chOff x="3278160" y="4092120"/>
                <a:chExt cx="53640" cy="65160"/>
              </a:xfrm>
            </p:grpSpPr>
            <p:sp>
              <p:nvSpPr>
                <p:cNvPr id="161" name="Oval 110"/>
                <p:cNvSpPr/>
                <p:nvPr/>
              </p:nvSpPr>
              <p:spPr>
                <a:xfrm>
                  <a:off x="3278160" y="4092120"/>
                  <a:ext cx="5364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val 111"/>
                <p:cNvSpPr/>
                <p:nvPr/>
              </p:nvSpPr>
              <p:spPr>
                <a:xfrm>
                  <a:off x="3278160" y="4092120"/>
                  <a:ext cx="5364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112"/>
              <p:cNvGrpSpPr/>
              <p:nvPr/>
            </p:nvGrpSpPr>
            <p:grpSpPr>
              <a:xfrm>
                <a:off x="3278160" y="4348080"/>
                <a:ext cx="53640" cy="64440"/>
                <a:chOff x="3278160" y="4348080"/>
                <a:chExt cx="53640" cy="64440"/>
              </a:xfrm>
            </p:grpSpPr>
            <p:sp>
              <p:nvSpPr>
                <p:cNvPr id="164" name="Oval 113"/>
                <p:cNvSpPr/>
                <p:nvPr/>
              </p:nvSpPr>
              <p:spPr>
                <a:xfrm>
                  <a:off x="3278160" y="4348080"/>
                  <a:ext cx="53640" cy="6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Oval 114"/>
                <p:cNvSpPr/>
                <p:nvPr/>
              </p:nvSpPr>
              <p:spPr>
                <a:xfrm>
                  <a:off x="3278160" y="4348080"/>
                  <a:ext cx="53640" cy="6444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15"/>
              <p:cNvGrpSpPr/>
              <p:nvPr/>
            </p:nvGrpSpPr>
            <p:grpSpPr>
              <a:xfrm>
                <a:off x="3278160" y="4347000"/>
                <a:ext cx="53640" cy="65160"/>
                <a:chOff x="3278160" y="4347000"/>
                <a:chExt cx="53640" cy="65160"/>
              </a:xfrm>
            </p:grpSpPr>
            <p:sp>
              <p:nvSpPr>
                <p:cNvPr id="167" name="Oval 116"/>
                <p:cNvSpPr/>
                <p:nvPr/>
              </p:nvSpPr>
              <p:spPr>
                <a:xfrm>
                  <a:off x="3278160" y="4347000"/>
                  <a:ext cx="5364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17"/>
                <p:cNvSpPr/>
                <p:nvPr/>
              </p:nvSpPr>
              <p:spPr>
                <a:xfrm>
                  <a:off x="3278160" y="4347000"/>
                  <a:ext cx="5364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118"/>
              <p:cNvGrpSpPr/>
              <p:nvPr/>
            </p:nvGrpSpPr>
            <p:grpSpPr>
              <a:xfrm>
                <a:off x="3332880" y="4412520"/>
                <a:ext cx="52920" cy="63000"/>
                <a:chOff x="3332880" y="4412520"/>
                <a:chExt cx="52920" cy="63000"/>
              </a:xfrm>
            </p:grpSpPr>
            <p:sp>
              <p:nvSpPr>
                <p:cNvPr id="170" name="Oval 119"/>
                <p:cNvSpPr/>
                <p:nvPr/>
              </p:nvSpPr>
              <p:spPr>
                <a:xfrm>
                  <a:off x="3332880" y="4412520"/>
                  <a:ext cx="52920" cy="6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120"/>
                <p:cNvSpPr/>
                <p:nvPr/>
              </p:nvSpPr>
              <p:spPr>
                <a:xfrm>
                  <a:off x="3332880" y="4412520"/>
                  <a:ext cx="52920" cy="6300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21"/>
              <p:cNvGrpSpPr/>
              <p:nvPr/>
            </p:nvGrpSpPr>
            <p:grpSpPr>
              <a:xfrm>
                <a:off x="3225240" y="4219560"/>
                <a:ext cx="52920" cy="65160"/>
                <a:chOff x="3225240" y="4219560"/>
                <a:chExt cx="52920" cy="65160"/>
              </a:xfrm>
            </p:grpSpPr>
            <p:sp>
              <p:nvSpPr>
                <p:cNvPr id="173" name="Oval 122"/>
                <p:cNvSpPr/>
                <p:nvPr/>
              </p:nvSpPr>
              <p:spPr>
                <a:xfrm>
                  <a:off x="3225240" y="4219560"/>
                  <a:ext cx="5292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123"/>
                <p:cNvSpPr/>
                <p:nvPr/>
              </p:nvSpPr>
              <p:spPr>
                <a:xfrm>
                  <a:off x="3225240" y="4219560"/>
                  <a:ext cx="5292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124"/>
              <p:cNvGrpSpPr/>
              <p:nvPr/>
            </p:nvGrpSpPr>
            <p:grpSpPr>
              <a:xfrm>
                <a:off x="3386160" y="4156200"/>
                <a:ext cx="53640" cy="65160"/>
                <a:chOff x="3386160" y="4156200"/>
                <a:chExt cx="53640" cy="65160"/>
              </a:xfrm>
            </p:grpSpPr>
            <p:sp>
              <p:nvSpPr>
                <p:cNvPr id="176" name="Oval 125"/>
                <p:cNvSpPr/>
                <p:nvPr/>
              </p:nvSpPr>
              <p:spPr>
                <a:xfrm>
                  <a:off x="3386160" y="4156200"/>
                  <a:ext cx="5364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126"/>
                <p:cNvSpPr/>
                <p:nvPr/>
              </p:nvSpPr>
              <p:spPr>
                <a:xfrm>
                  <a:off x="3386160" y="4156200"/>
                  <a:ext cx="5364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127"/>
              <p:cNvGrpSpPr/>
              <p:nvPr/>
            </p:nvGrpSpPr>
            <p:grpSpPr>
              <a:xfrm>
                <a:off x="3441240" y="4221360"/>
                <a:ext cx="52920" cy="63000"/>
                <a:chOff x="3441240" y="4221360"/>
                <a:chExt cx="52920" cy="63000"/>
              </a:xfrm>
            </p:grpSpPr>
            <p:sp>
              <p:nvSpPr>
                <p:cNvPr id="179" name="Oval 128"/>
                <p:cNvSpPr/>
                <p:nvPr/>
              </p:nvSpPr>
              <p:spPr>
                <a:xfrm>
                  <a:off x="3441240" y="4221360"/>
                  <a:ext cx="52920" cy="6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29"/>
                <p:cNvSpPr/>
                <p:nvPr/>
              </p:nvSpPr>
              <p:spPr>
                <a:xfrm>
                  <a:off x="3441240" y="4221360"/>
                  <a:ext cx="52920" cy="6300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130"/>
              <p:cNvGrpSpPr/>
              <p:nvPr/>
            </p:nvGrpSpPr>
            <p:grpSpPr>
              <a:xfrm>
                <a:off x="3332880" y="4028760"/>
                <a:ext cx="52920" cy="65160"/>
                <a:chOff x="3332880" y="4028760"/>
                <a:chExt cx="52920" cy="65160"/>
              </a:xfrm>
            </p:grpSpPr>
            <p:sp>
              <p:nvSpPr>
                <p:cNvPr id="182" name="Oval 131"/>
                <p:cNvSpPr/>
                <p:nvPr/>
              </p:nvSpPr>
              <p:spPr>
                <a:xfrm>
                  <a:off x="3332880" y="4028760"/>
                  <a:ext cx="5292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132"/>
                <p:cNvSpPr/>
                <p:nvPr/>
              </p:nvSpPr>
              <p:spPr>
                <a:xfrm>
                  <a:off x="3332880" y="4028760"/>
                  <a:ext cx="5292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133"/>
              <p:cNvGrpSpPr/>
              <p:nvPr/>
            </p:nvGrpSpPr>
            <p:grpSpPr>
              <a:xfrm>
                <a:off x="3332880" y="4284720"/>
                <a:ext cx="52920" cy="63000"/>
                <a:chOff x="3332880" y="4284720"/>
                <a:chExt cx="52920" cy="63000"/>
              </a:xfrm>
            </p:grpSpPr>
            <p:sp>
              <p:nvSpPr>
                <p:cNvPr id="185" name="Oval 134"/>
                <p:cNvSpPr/>
                <p:nvPr/>
              </p:nvSpPr>
              <p:spPr>
                <a:xfrm>
                  <a:off x="3332880" y="4284720"/>
                  <a:ext cx="52920" cy="6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135"/>
                <p:cNvSpPr/>
                <p:nvPr/>
              </p:nvSpPr>
              <p:spPr>
                <a:xfrm>
                  <a:off x="3332880" y="4284720"/>
                  <a:ext cx="52920" cy="6300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136"/>
              <p:cNvGrpSpPr/>
              <p:nvPr/>
            </p:nvGrpSpPr>
            <p:grpSpPr>
              <a:xfrm>
                <a:off x="3440160" y="4410360"/>
                <a:ext cx="52920" cy="64080"/>
                <a:chOff x="3440160" y="4410360"/>
                <a:chExt cx="52920" cy="64080"/>
              </a:xfrm>
            </p:grpSpPr>
            <p:sp>
              <p:nvSpPr>
                <p:cNvPr id="188" name="Oval 137"/>
                <p:cNvSpPr/>
                <p:nvPr/>
              </p:nvSpPr>
              <p:spPr>
                <a:xfrm>
                  <a:off x="3440160" y="4410360"/>
                  <a:ext cx="52920" cy="64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138"/>
                <p:cNvSpPr/>
                <p:nvPr/>
              </p:nvSpPr>
              <p:spPr>
                <a:xfrm>
                  <a:off x="3440160" y="4410360"/>
                  <a:ext cx="52920" cy="6408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39"/>
              <p:cNvGrpSpPr/>
              <p:nvPr/>
            </p:nvGrpSpPr>
            <p:grpSpPr>
              <a:xfrm>
                <a:off x="3386160" y="4349880"/>
                <a:ext cx="53640" cy="65160"/>
                <a:chOff x="3386160" y="4349880"/>
                <a:chExt cx="53640" cy="65160"/>
              </a:xfrm>
            </p:grpSpPr>
            <p:sp>
              <p:nvSpPr>
                <p:cNvPr id="191" name="Oval 140"/>
                <p:cNvSpPr/>
                <p:nvPr/>
              </p:nvSpPr>
              <p:spPr>
                <a:xfrm>
                  <a:off x="3386160" y="4349880"/>
                  <a:ext cx="5364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141"/>
                <p:cNvSpPr/>
                <p:nvPr/>
              </p:nvSpPr>
              <p:spPr>
                <a:xfrm>
                  <a:off x="3386160" y="4349880"/>
                  <a:ext cx="5364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2"/>
              <p:cNvGrpSpPr/>
              <p:nvPr/>
            </p:nvGrpSpPr>
            <p:grpSpPr>
              <a:xfrm>
                <a:off x="3493440" y="4089960"/>
                <a:ext cx="52920" cy="64080"/>
                <a:chOff x="3493440" y="4089960"/>
                <a:chExt cx="52920" cy="64080"/>
              </a:xfrm>
            </p:grpSpPr>
            <p:sp>
              <p:nvSpPr>
                <p:cNvPr id="194" name="Oval 143"/>
                <p:cNvSpPr/>
                <p:nvPr/>
              </p:nvSpPr>
              <p:spPr>
                <a:xfrm>
                  <a:off x="3493440" y="4089960"/>
                  <a:ext cx="52920" cy="64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44"/>
                <p:cNvSpPr/>
                <p:nvPr/>
              </p:nvSpPr>
              <p:spPr>
                <a:xfrm>
                  <a:off x="3493440" y="4089960"/>
                  <a:ext cx="52920" cy="6408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45"/>
              <p:cNvGrpSpPr/>
              <p:nvPr/>
            </p:nvGrpSpPr>
            <p:grpSpPr>
              <a:xfrm>
                <a:off x="3440160" y="3962520"/>
                <a:ext cx="52920" cy="65160"/>
                <a:chOff x="3440160" y="3962520"/>
                <a:chExt cx="52920" cy="65160"/>
              </a:xfrm>
            </p:grpSpPr>
            <p:sp>
              <p:nvSpPr>
                <p:cNvPr id="197" name="Oval 146"/>
                <p:cNvSpPr/>
                <p:nvPr/>
              </p:nvSpPr>
              <p:spPr>
                <a:xfrm>
                  <a:off x="3440160" y="3962520"/>
                  <a:ext cx="52920" cy="65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147"/>
                <p:cNvSpPr/>
                <p:nvPr/>
              </p:nvSpPr>
              <p:spPr>
                <a:xfrm>
                  <a:off x="3440160" y="3962520"/>
                  <a:ext cx="52920" cy="6516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148"/>
              <p:cNvGrpSpPr/>
              <p:nvPr/>
            </p:nvGrpSpPr>
            <p:grpSpPr>
              <a:xfrm>
                <a:off x="3440160" y="4218480"/>
                <a:ext cx="52920" cy="63000"/>
                <a:chOff x="3440160" y="4218480"/>
                <a:chExt cx="52920" cy="63000"/>
              </a:xfrm>
            </p:grpSpPr>
            <p:sp>
              <p:nvSpPr>
                <p:cNvPr id="200" name="Oval 149"/>
                <p:cNvSpPr/>
                <p:nvPr/>
              </p:nvSpPr>
              <p:spPr>
                <a:xfrm>
                  <a:off x="3440160" y="4218480"/>
                  <a:ext cx="52920" cy="6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50"/>
                <p:cNvSpPr/>
                <p:nvPr/>
              </p:nvSpPr>
              <p:spPr>
                <a:xfrm>
                  <a:off x="3440160" y="4218480"/>
                  <a:ext cx="52920" cy="63000"/>
                </a:xfrm>
                <a:prstGeom prst="ellipse">
                  <a:avLst/>
                </a:prstGeom>
                <a:noFill/>
                <a:ln cap="rnd" w="50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" name="Rectangle 151"/>
            <p:cNvSpPr/>
            <p:nvPr/>
          </p:nvSpPr>
          <p:spPr>
            <a:xfrm>
              <a:off x="3105360" y="2151720"/>
              <a:ext cx="127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52"/>
            <p:cNvSpPr/>
            <p:nvPr/>
          </p:nvSpPr>
          <p:spPr>
            <a:xfrm>
              <a:off x="3273480" y="2158200"/>
              <a:ext cx="5918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bb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3"/>
            <p:cNvSpPr/>
            <p:nvPr/>
          </p:nvSpPr>
          <p:spPr>
            <a:xfrm>
              <a:off x="3345840" y="2374920"/>
              <a:ext cx="219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54"/>
            <p:cNvSpPr/>
            <p:nvPr/>
          </p:nvSpPr>
          <p:spPr>
            <a:xfrm>
              <a:off x="3564720" y="2471400"/>
              <a:ext cx="561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55"/>
            <p:cNvSpPr/>
            <p:nvPr/>
          </p:nvSpPr>
          <p:spPr>
            <a:xfrm>
              <a:off x="5461920" y="4359240"/>
              <a:ext cx="572400" cy="80316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56"/>
            <p:cNvSpPr/>
            <p:nvPr/>
          </p:nvSpPr>
          <p:spPr>
            <a:xfrm>
              <a:off x="4047840" y="2087640"/>
              <a:ext cx="127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57"/>
            <p:cNvSpPr/>
            <p:nvPr/>
          </p:nvSpPr>
          <p:spPr>
            <a:xfrm>
              <a:off x="4216680" y="2093760"/>
              <a:ext cx="8618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usive fl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8"/>
            <p:cNvSpPr/>
            <p:nvPr/>
          </p:nvSpPr>
          <p:spPr>
            <a:xfrm>
              <a:off x="4132080" y="2311920"/>
              <a:ext cx="22860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9"/>
            <p:cNvSpPr/>
            <p:nvPr/>
          </p:nvSpPr>
          <p:spPr>
            <a:xfrm>
              <a:off x="4360320" y="240696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60"/>
            <p:cNvSpPr/>
            <p:nvPr/>
          </p:nvSpPr>
          <p:spPr>
            <a:xfrm>
              <a:off x="4461480" y="2311920"/>
              <a:ext cx="2192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61"/>
            <p:cNvSpPr/>
            <p:nvPr/>
          </p:nvSpPr>
          <p:spPr>
            <a:xfrm>
              <a:off x="4680360" y="240696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2"/>
            <p:cNvSpPr/>
            <p:nvPr/>
          </p:nvSpPr>
          <p:spPr>
            <a:xfrm>
              <a:off x="4632840" y="3439440"/>
              <a:ext cx="286200" cy="20556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3"/>
            <p:cNvSpPr/>
            <p:nvPr/>
          </p:nvSpPr>
          <p:spPr>
            <a:xfrm>
              <a:off x="4480200" y="3567960"/>
              <a:ext cx="11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64"/>
            <p:cNvSpPr/>
            <p:nvPr/>
          </p:nvSpPr>
          <p:spPr>
            <a:xfrm>
              <a:off x="4597560" y="366444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65"/>
            <p:cNvSpPr/>
            <p:nvPr/>
          </p:nvSpPr>
          <p:spPr>
            <a:xfrm>
              <a:off x="4504680" y="3126960"/>
              <a:ext cx="168840" cy="31212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6"/>
            <p:cNvSpPr/>
            <p:nvPr/>
          </p:nvSpPr>
          <p:spPr>
            <a:xfrm>
              <a:off x="4680360" y="2901960"/>
              <a:ext cx="11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67"/>
            <p:cNvSpPr/>
            <p:nvPr/>
          </p:nvSpPr>
          <p:spPr>
            <a:xfrm>
              <a:off x="4797720" y="299736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68"/>
            <p:cNvSpPr/>
            <p:nvPr/>
          </p:nvSpPr>
          <p:spPr>
            <a:xfrm>
              <a:off x="1409760" y="2735280"/>
              <a:ext cx="7689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Fluvial 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9"/>
            <p:cNvSpPr/>
            <p:nvPr/>
          </p:nvSpPr>
          <p:spPr>
            <a:xfrm>
              <a:off x="1409760" y="2952360"/>
              <a:ext cx="8528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(POC, DO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70"/>
            <p:cNvSpPr/>
            <p:nvPr/>
          </p:nvSpPr>
          <p:spPr>
            <a:xfrm>
              <a:off x="1409760" y="3607200"/>
              <a:ext cx="228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71"/>
            <p:cNvSpPr/>
            <p:nvPr/>
          </p:nvSpPr>
          <p:spPr>
            <a:xfrm>
              <a:off x="1636920" y="3705480"/>
              <a:ext cx="5652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72"/>
            <p:cNvSpPr/>
            <p:nvPr/>
          </p:nvSpPr>
          <p:spPr>
            <a:xfrm>
              <a:off x="1695960" y="3607200"/>
              <a:ext cx="3045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, 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73"/>
            <p:cNvSpPr/>
            <p:nvPr/>
          </p:nvSpPr>
          <p:spPr>
            <a:xfrm>
              <a:off x="1999080" y="370548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74"/>
            <p:cNvSpPr/>
            <p:nvPr/>
          </p:nvSpPr>
          <p:spPr>
            <a:xfrm>
              <a:off x="4681080" y="3771720"/>
              <a:ext cx="597600" cy="192600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5"/>
            <p:cNvSpPr/>
            <p:nvPr/>
          </p:nvSpPr>
          <p:spPr>
            <a:xfrm>
              <a:off x="3758040" y="4731120"/>
              <a:ext cx="276840" cy="64656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76"/>
            <p:cNvSpPr/>
            <p:nvPr/>
          </p:nvSpPr>
          <p:spPr>
            <a:xfrm>
              <a:off x="2849760" y="5321520"/>
              <a:ext cx="12394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hanogen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77"/>
            <p:cNvSpPr/>
            <p:nvPr/>
          </p:nvSpPr>
          <p:spPr>
            <a:xfrm>
              <a:off x="2867400" y="5566320"/>
              <a:ext cx="244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78"/>
            <p:cNvSpPr/>
            <p:nvPr/>
          </p:nvSpPr>
          <p:spPr>
            <a:xfrm>
              <a:off x="3154320" y="5547600"/>
              <a:ext cx="15012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79"/>
            <p:cNvSpPr/>
            <p:nvPr/>
          </p:nvSpPr>
          <p:spPr>
            <a:xfrm>
              <a:off x="3346920" y="5566320"/>
              <a:ext cx="2192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80"/>
            <p:cNvSpPr/>
            <p:nvPr/>
          </p:nvSpPr>
          <p:spPr>
            <a:xfrm>
              <a:off x="3565440" y="5663160"/>
              <a:ext cx="561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81"/>
            <p:cNvSpPr/>
            <p:nvPr/>
          </p:nvSpPr>
          <p:spPr>
            <a:xfrm>
              <a:off x="3666240" y="5566320"/>
              <a:ext cx="359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 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82"/>
            <p:cNvSpPr/>
            <p:nvPr/>
          </p:nvSpPr>
          <p:spPr>
            <a:xfrm>
              <a:off x="4027320" y="5663160"/>
              <a:ext cx="565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83"/>
            <p:cNvSpPr/>
            <p:nvPr/>
          </p:nvSpPr>
          <p:spPr>
            <a:xfrm>
              <a:off x="4474080" y="5688000"/>
              <a:ext cx="57312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erob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84"/>
            <p:cNvSpPr/>
            <p:nvPr/>
          </p:nvSpPr>
          <p:spPr>
            <a:xfrm>
              <a:off x="5099760" y="5688000"/>
              <a:ext cx="2440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85"/>
            <p:cNvSpPr/>
            <p:nvPr/>
          </p:nvSpPr>
          <p:spPr>
            <a:xfrm>
              <a:off x="5347080" y="5805720"/>
              <a:ext cx="6552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6"/>
            <p:cNvSpPr/>
            <p:nvPr/>
          </p:nvSpPr>
          <p:spPr>
            <a:xfrm>
              <a:off x="5458680" y="5688000"/>
              <a:ext cx="6760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xid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7"/>
            <p:cNvSpPr/>
            <p:nvPr/>
          </p:nvSpPr>
          <p:spPr>
            <a:xfrm>
              <a:off x="4425840" y="5933160"/>
              <a:ext cx="219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88"/>
            <p:cNvSpPr/>
            <p:nvPr/>
          </p:nvSpPr>
          <p:spPr>
            <a:xfrm>
              <a:off x="4645440" y="602928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89"/>
            <p:cNvSpPr/>
            <p:nvPr/>
          </p:nvSpPr>
          <p:spPr>
            <a:xfrm>
              <a:off x="4745160" y="5933160"/>
              <a:ext cx="334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 2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90"/>
            <p:cNvSpPr/>
            <p:nvPr/>
          </p:nvSpPr>
          <p:spPr>
            <a:xfrm>
              <a:off x="5079600" y="6029280"/>
              <a:ext cx="56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91"/>
            <p:cNvSpPr/>
            <p:nvPr/>
          </p:nvSpPr>
          <p:spPr>
            <a:xfrm>
              <a:off x="5167440" y="5914080"/>
              <a:ext cx="15012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92"/>
            <p:cNvSpPr/>
            <p:nvPr/>
          </p:nvSpPr>
          <p:spPr>
            <a:xfrm>
              <a:off x="5358960" y="5933160"/>
              <a:ext cx="228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93"/>
            <p:cNvSpPr/>
            <p:nvPr/>
          </p:nvSpPr>
          <p:spPr>
            <a:xfrm>
              <a:off x="5587920" y="6029280"/>
              <a:ext cx="5652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94"/>
            <p:cNvSpPr/>
            <p:nvPr/>
          </p:nvSpPr>
          <p:spPr>
            <a:xfrm>
              <a:off x="5688360" y="5933160"/>
              <a:ext cx="325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 2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95"/>
            <p:cNvSpPr/>
            <p:nvPr/>
          </p:nvSpPr>
          <p:spPr>
            <a:xfrm>
              <a:off x="6013440" y="602928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96"/>
            <p:cNvSpPr/>
            <p:nvPr/>
          </p:nvSpPr>
          <p:spPr>
            <a:xfrm>
              <a:off x="6072480" y="5933160"/>
              <a:ext cx="11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97"/>
            <p:cNvSpPr/>
            <p:nvPr/>
          </p:nvSpPr>
          <p:spPr>
            <a:xfrm>
              <a:off x="6183360" y="5382720"/>
              <a:ext cx="628200" cy="44676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98"/>
            <p:cNvSpPr/>
            <p:nvPr/>
          </p:nvSpPr>
          <p:spPr>
            <a:xfrm>
              <a:off x="6288840" y="4548240"/>
              <a:ext cx="237240" cy="50796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9"/>
            <p:cNvSpPr/>
            <p:nvPr/>
          </p:nvSpPr>
          <p:spPr>
            <a:xfrm>
              <a:off x="7369560" y="4870440"/>
              <a:ext cx="111240" cy="37440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0"/>
            <p:cNvSpPr/>
            <p:nvPr/>
          </p:nvSpPr>
          <p:spPr>
            <a:xfrm>
              <a:off x="4408200" y="2624040"/>
              <a:ext cx="111240" cy="56916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1"/>
            <p:cNvSpPr/>
            <p:nvPr/>
          </p:nvSpPr>
          <p:spPr>
            <a:xfrm>
              <a:off x="3330000" y="2624040"/>
              <a:ext cx="111240" cy="56916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2"/>
            <p:cNvSpPr/>
            <p:nvPr/>
          </p:nvSpPr>
          <p:spPr>
            <a:xfrm>
              <a:off x="2846160" y="3512880"/>
              <a:ext cx="110520" cy="31104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03"/>
            <p:cNvSpPr/>
            <p:nvPr/>
          </p:nvSpPr>
          <p:spPr>
            <a:xfrm>
              <a:off x="2416320" y="3385440"/>
              <a:ext cx="484560" cy="127440"/>
            </a:xfrm>
            <a:prstGeom prst="line">
              <a:avLst/>
            </a:prstGeom>
            <a:ln cap="rnd"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04"/>
            <p:cNvSpPr/>
            <p:nvPr/>
          </p:nvSpPr>
          <p:spPr>
            <a:xfrm>
              <a:off x="2846880" y="3504600"/>
              <a:ext cx="800280" cy="19080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05"/>
            <p:cNvSpPr/>
            <p:nvPr/>
          </p:nvSpPr>
          <p:spPr>
            <a:xfrm>
              <a:off x="5313600" y="2087640"/>
              <a:ext cx="127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06"/>
            <p:cNvSpPr/>
            <p:nvPr/>
          </p:nvSpPr>
          <p:spPr>
            <a:xfrm>
              <a:off x="5481720" y="2093760"/>
              <a:ext cx="2876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ux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07"/>
            <p:cNvSpPr/>
            <p:nvPr/>
          </p:nvSpPr>
          <p:spPr>
            <a:xfrm>
              <a:off x="5811840" y="2093760"/>
              <a:ext cx="51552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rou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08"/>
            <p:cNvSpPr/>
            <p:nvPr/>
          </p:nvSpPr>
          <p:spPr>
            <a:xfrm>
              <a:off x="6369840" y="2093760"/>
              <a:ext cx="87048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crophy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09"/>
            <p:cNvSpPr/>
            <p:nvPr/>
          </p:nvSpPr>
          <p:spPr>
            <a:xfrm>
              <a:off x="5397840" y="2311920"/>
              <a:ext cx="22860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10"/>
            <p:cNvSpPr/>
            <p:nvPr/>
          </p:nvSpPr>
          <p:spPr>
            <a:xfrm>
              <a:off x="5626080" y="240696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11"/>
            <p:cNvSpPr/>
            <p:nvPr/>
          </p:nvSpPr>
          <p:spPr>
            <a:xfrm>
              <a:off x="5727240" y="2311920"/>
              <a:ext cx="2192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12"/>
            <p:cNvSpPr/>
            <p:nvPr/>
          </p:nvSpPr>
          <p:spPr>
            <a:xfrm>
              <a:off x="5946120" y="2406960"/>
              <a:ext cx="5616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3"/>
            <p:cNvSpPr/>
            <p:nvPr/>
          </p:nvSpPr>
          <p:spPr>
            <a:xfrm>
              <a:off x="5485680" y="2615040"/>
              <a:ext cx="110160" cy="56952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4"/>
            <p:cNvSpPr/>
            <p:nvPr/>
          </p:nvSpPr>
          <p:spPr>
            <a:xfrm>
              <a:off x="5754960" y="2624040"/>
              <a:ext cx="110520" cy="569160"/>
            </a:xfrm>
            <a:prstGeom prst="pie">
              <a:avLst/>
            </a:prstGeom>
            <a:solidFill>
              <a:srgbClr val="000000"/>
            </a:solidFill>
            <a:ln w="7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215"/>
            <p:cNvGrpSpPr/>
            <p:nvPr/>
          </p:nvGrpSpPr>
          <p:grpSpPr>
            <a:xfrm>
              <a:off x="5455440" y="3193200"/>
              <a:ext cx="276840" cy="704880"/>
              <a:chOff x="5455440" y="3193200"/>
              <a:chExt cx="276840" cy="704880"/>
            </a:xfrm>
          </p:grpSpPr>
          <p:sp>
            <p:nvSpPr>
              <p:cNvPr id="267" name="Freeform 216"/>
              <p:cNvSpPr/>
              <p:nvPr/>
            </p:nvSpPr>
            <p:spPr>
              <a:xfrm>
                <a:off x="5455440" y="3193200"/>
                <a:ext cx="276840" cy="704880"/>
              </a:xfrm>
              <a:prstGeom prst="pie">
                <a:avLst/>
              </a:prstGeom>
              <a:solidFill>
                <a:srgbClr val="96969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217"/>
              <p:cNvSpPr/>
              <p:nvPr/>
            </p:nvSpPr>
            <p:spPr>
              <a:xfrm>
                <a:off x="5455440" y="3193200"/>
                <a:ext cx="276840" cy="704880"/>
              </a:xfrm>
              <a:prstGeom prst="pie">
                <a:avLst/>
              </a:prstGeom>
              <a:solidFill>
                <a:srgbClr val="969696"/>
              </a:solidFill>
              <a:ln cap="rnd" w="50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218"/>
            <p:cNvGrpSpPr/>
            <p:nvPr/>
          </p:nvGrpSpPr>
          <p:grpSpPr>
            <a:xfrm>
              <a:off x="5587200" y="3193200"/>
              <a:ext cx="276840" cy="704880"/>
              <a:chOff x="5587200" y="3193200"/>
              <a:chExt cx="276840" cy="704880"/>
            </a:xfrm>
          </p:grpSpPr>
          <p:sp>
            <p:nvSpPr>
              <p:cNvPr id="270" name="Freeform 219"/>
              <p:cNvSpPr/>
              <p:nvPr/>
            </p:nvSpPr>
            <p:spPr>
              <a:xfrm>
                <a:off x="5587200" y="3193200"/>
                <a:ext cx="276840" cy="704880"/>
              </a:xfrm>
              <a:prstGeom prst="pi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20"/>
              <p:cNvSpPr/>
              <p:nvPr/>
            </p:nvSpPr>
            <p:spPr>
              <a:xfrm>
                <a:off x="5587200" y="3193200"/>
                <a:ext cx="276840" cy="704880"/>
              </a:xfrm>
              <a:prstGeom prst="pie">
                <a:avLst/>
              </a:prstGeom>
              <a:solidFill>
                <a:srgbClr val="c0c0c0"/>
              </a:solidFill>
              <a:ln cap="rnd" w="50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221"/>
            <p:cNvSpPr/>
            <p:nvPr/>
          </p:nvSpPr>
          <p:spPr>
            <a:xfrm>
              <a:off x="5223240" y="3745800"/>
              <a:ext cx="387360" cy="666720"/>
            </a:xfrm>
            <a:prstGeom prst="pie">
              <a:avLst/>
            </a:prstGeom>
            <a:solidFill>
              <a:srgbClr val="777777"/>
            </a:solidFill>
            <a:ln w="720">
              <a:solidFill>
                <a:srgbClr val="77777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222"/>
          <p:cNvSpPr/>
          <p:nvPr/>
        </p:nvSpPr>
        <p:spPr>
          <a:xfrm>
            <a:off x="0" y="53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3"/>
          <p:cNvSpPr/>
          <p:nvPr/>
        </p:nvSpPr>
        <p:spPr>
          <a:xfrm>
            <a:off x="214200" y="85716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ing the knowledge gaps for assessment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24"/>
          <p:cNvSpPr/>
          <p:nvPr/>
        </p:nvSpPr>
        <p:spPr>
          <a:xfrm>
            <a:off x="2700360" y="1989000"/>
            <a:ext cx="1366920" cy="7923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25"/>
          <p:cNvSpPr/>
          <p:nvPr/>
        </p:nvSpPr>
        <p:spPr>
          <a:xfrm>
            <a:off x="3851280" y="1844640"/>
            <a:ext cx="1366920" cy="7923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26"/>
          <p:cNvSpPr/>
          <p:nvPr/>
        </p:nvSpPr>
        <p:spPr>
          <a:xfrm>
            <a:off x="6300720" y="3789360"/>
            <a:ext cx="2087640" cy="13683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27"/>
          <p:cNvSpPr/>
          <p:nvPr/>
        </p:nvSpPr>
        <p:spPr>
          <a:xfrm>
            <a:off x="900000" y="2492280"/>
            <a:ext cx="2159280" cy="2951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28"/>
          <p:cNvSpPr/>
          <p:nvPr/>
        </p:nvSpPr>
        <p:spPr>
          <a:xfrm>
            <a:off x="2771640" y="4581360"/>
            <a:ext cx="3168720" cy="144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29"/>
          <p:cNvSpPr/>
          <p:nvPr/>
        </p:nvSpPr>
        <p:spPr>
          <a:xfrm>
            <a:off x="4643280" y="2060640"/>
            <a:ext cx="2014560" cy="144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30"/>
          <p:cNvSpPr/>
          <p:nvPr/>
        </p:nvSpPr>
        <p:spPr>
          <a:xfrm>
            <a:off x="678600" y="220500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Carbon/nutrient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1"/>
          <p:cNvSpPr/>
          <p:nvPr/>
        </p:nvSpPr>
        <p:spPr>
          <a:xfrm>
            <a:off x="775080" y="5958000"/>
            <a:ext cx="58712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Carbon accumulation in reservoir sediment, 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uppression of N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O and CH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previously emitted under pre-impoundment conditions, 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balance of CO2 emissions pre- and post impou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32"/>
          <p:cNvSpPr/>
          <p:nvPr/>
        </p:nvSpPr>
        <p:spPr>
          <a:xfrm>
            <a:off x="6634800" y="2433600"/>
            <a:ext cx="234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ole of Net Primary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Influence on carbon lo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and oxygen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33"/>
          <p:cNvSpPr/>
          <p:nvPr/>
        </p:nvSpPr>
        <p:spPr>
          <a:xfrm>
            <a:off x="6951240" y="5661000"/>
            <a:ext cx="214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Influence of the outlet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Impact on downstre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HG Status of Freshwater Reservoirs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knowledge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HG Status of Freshwater Reservoirs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knowledge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928800" y="1582560"/>
            <a:ext cx="7500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 GHG EMISS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in GHG emissions caused by the creation of a reservo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ained by the difference between pre- and post-reservoir emissions from the portion of the river basin influenced by the reservo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tly, to quantify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 change of GHG exchange in a river basin caused by the creation of a reservoi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ecessary to consid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changes in the whole river bas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fore and after the construc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reservo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2698920" y="3862440"/>
            <a:ext cx="1657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essing the catchment loading to avoid “double counting” </a:t>
            </a:r>
            <a:br>
              <a:rPr sz="32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subtracting emissions resulting from natural processes and unrelated human activities)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754200" y="3862440"/>
            <a:ext cx="1657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MCSY00599_0000[1]"/>
          <p:cNvPicPr/>
          <p:nvPr/>
        </p:nvPicPr>
        <p:blipFill>
          <a:blip r:embed="rId1"/>
          <a:stretch/>
        </p:blipFill>
        <p:spPr>
          <a:xfrm>
            <a:off x="826920" y="3284640"/>
            <a:ext cx="1008360" cy="644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MCj03119640000[1]"/>
          <p:cNvPicPr/>
          <p:nvPr/>
        </p:nvPicPr>
        <p:blipFill>
          <a:blip r:embed="rId2"/>
          <a:stretch/>
        </p:blipFill>
        <p:spPr>
          <a:xfrm>
            <a:off x="2770200" y="3502080"/>
            <a:ext cx="627120" cy="419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MCj03106900000[1]"/>
          <p:cNvPicPr/>
          <p:nvPr/>
        </p:nvPicPr>
        <p:blipFill>
          <a:blip r:embed="rId3"/>
          <a:stretch/>
        </p:blipFill>
        <p:spPr>
          <a:xfrm>
            <a:off x="4067280" y="3429000"/>
            <a:ext cx="345960" cy="512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MCj01973860000[1]"/>
          <p:cNvPicPr/>
          <p:nvPr/>
        </p:nvPicPr>
        <p:blipFill>
          <a:blip r:embed="rId4"/>
          <a:stretch/>
        </p:blipFill>
        <p:spPr>
          <a:xfrm>
            <a:off x="3417840" y="3554280"/>
            <a:ext cx="649440" cy="4464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0"/>
          <p:cNvSpPr/>
          <p:nvPr/>
        </p:nvSpPr>
        <p:spPr>
          <a:xfrm>
            <a:off x="6586560" y="3862440"/>
            <a:ext cx="1657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4643280" y="3862440"/>
            <a:ext cx="1657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MCj04342330000[1]"/>
          <p:cNvPicPr/>
          <p:nvPr/>
        </p:nvPicPr>
        <p:blipFill>
          <a:blip r:embed="rId5"/>
          <a:stretch/>
        </p:blipFill>
        <p:spPr>
          <a:xfrm>
            <a:off x="6688080" y="3214800"/>
            <a:ext cx="1482840" cy="922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MCj03197900000[1]"/>
          <p:cNvPicPr/>
          <p:nvPr/>
        </p:nvPicPr>
        <p:blipFill>
          <a:blip r:embed="rId6"/>
          <a:stretch/>
        </p:blipFill>
        <p:spPr>
          <a:xfrm>
            <a:off x="4714920" y="3141720"/>
            <a:ext cx="1512720" cy="8776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4"/>
          <p:cNvSpPr/>
          <p:nvPr/>
        </p:nvSpPr>
        <p:spPr>
          <a:xfrm>
            <a:off x="3706920" y="6381720"/>
            <a:ext cx="1657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5" descr="MCj03493230000[1]"/>
          <p:cNvPicPr/>
          <p:nvPr/>
        </p:nvPicPr>
        <p:blipFill>
          <a:blip r:embed="rId7"/>
          <a:stretch/>
        </p:blipFill>
        <p:spPr>
          <a:xfrm>
            <a:off x="3780000" y="5877000"/>
            <a:ext cx="1512720" cy="662040"/>
          </a:xfrm>
          <a:prstGeom prst="rect">
            <a:avLst/>
          </a:prstGeom>
          <a:ln w="0">
            <a:noFill/>
          </a:ln>
        </p:spPr>
      </p:pic>
      <p:sp>
        <p:nvSpPr>
          <p:cNvPr id="301" name="Line 16"/>
          <p:cNvSpPr/>
          <p:nvPr/>
        </p:nvSpPr>
        <p:spPr>
          <a:xfrm flipV="1">
            <a:off x="3635280" y="2349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V="1">
            <a:off x="5580000" y="2349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V="1">
            <a:off x="7524720" y="2349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V="1">
            <a:off x="4500720" y="2349000"/>
            <a:ext cx="0" cy="359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0" descr="MCj02929100000[1]"/>
          <p:cNvPicPr/>
          <p:nvPr/>
        </p:nvPicPr>
        <p:blipFill>
          <a:blip r:embed="rId8"/>
          <a:stretch/>
        </p:blipFill>
        <p:spPr>
          <a:xfrm>
            <a:off x="1835280" y="3448080"/>
            <a:ext cx="576000" cy="504720"/>
          </a:xfrm>
          <a:prstGeom prst="rect">
            <a:avLst/>
          </a:prstGeom>
          <a:ln w="0">
            <a:noFill/>
          </a:ln>
        </p:spPr>
      </p:pic>
      <p:sp>
        <p:nvSpPr>
          <p:cNvPr id="306" name="Line 21"/>
          <p:cNvSpPr/>
          <p:nvPr/>
        </p:nvSpPr>
        <p:spPr>
          <a:xfrm flipV="1">
            <a:off x="1692360" y="2349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2" descr="MCj04355580000[1]"/>
          <p:cNvPicPr/>
          <p:nvPr/>
        </p:nvPicPr>
        <p:blipFill>
          <a:blip r:embed="rId9"/>
          <a:stretch/>
        </p:blipFill>
        <p:spPr>
          <a:xfrm>
            <a:off x="1187280" y="522936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3" descr="MCj04355580000[1]"/>
          <p:cNvPicPr/>
          <p:nvPr/>
        </p:nvPicPr>
        <p:blipFill>
          <a:blip r:embed="rId10"/>
          <a:stretch/>
        </p:blipFill>
        <p:spPr>
          <a:xfrm>
            <a:off x="6875640" y="5229360"/>
            <a:ext cx="1009440" cy="1009440"/>
          </a:xfrm>
          <a:prstGeom prst="rect">
            <a:avLst/>
          </a:prstGeom>
          <a:ln w="0">
            <a:noFill/>
          </a:ln>
        </p:spPr>
      </p:pic>
      <p:sp>
        <p:nvSpPr>
          <p:cNvPr id="309" name="Line 24"/>
          <p:cNvSpPr/>
          <p:nvPr/>
        </p:nvSpPr>
        <p:spPr>
          <a:xfrm>
            <a:off x="1763640" y="4005360"/>
            <a:ext cx="2232000" cy="180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 flipH="1">
            <a:off x="4858920" y="4076640"/>
            <a:ext cx="57636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3348000" y="4076640"/>
            <a:ext cx="93672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5148360" y="4076640"/>
            <a:ext cx="2016000" cy="172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H="1" flipV="1">
            <a:off x="5651280" y="6093000"/>
            <a:ext cx="115236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2268360" y="6093000"/>
            <a:ext cx="115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0"/>
          <p:cNvSpPr/>
          <p:nvPr/>
        </p:nvSpPr>
        <p:spPr>
          <a:xfrm flipH="1">
            <a:off x="3634920" y="6453360"/>
            <a:ext cx="505080" cy="21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1"/>
          <p:cNvSpPr/>
          <p:nvPr/>
        </p:nvSpPr>
        <p:spPr>
          <a:xfrm>
            <a:off x="4286880" y="1822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2"/>
          <p:cNvSpPr/>
          <p:nvPr/>
        </p:nvSpPr>
        <p:spPr>
          <a:xfrm>
            <a:off x="1692360" y="465300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>
            <a:off x="7451640" y="465300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HG Status of Freshwater Reservoirs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knowledge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9080" y="1714680"/>
            <a:ext cx="9105840" cy="2390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162000" y="4143240"/>
            <a:ext cx="8231040" cy="228600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6"/>
          <p:cNvSpPr/>
          <p:nvPr/>
        </p:nvSpPr>
        <p:spPr>
          <a:xfrm>
            <a:off x="357120" y="85716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2 EMISSIONS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357120" y="127332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bon budget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57120" y="8571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2 EMISSIONS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endix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357120" y="15145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ck change method assumes that all the carbon in biomass that existed prior to flooding is emitted: this may lead to overestim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ternative approach is given in Appendix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344520" y="3543480"/>
            <a:ext cx="8442360" cy="260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357120" y="305928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ission factor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214200" y="18572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 provides a simplified approach to estimating CO2 emissions from reservoirs using default emission factors and highly aggregated area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9360" y="2857680"/>
            <a:ext cx="9125280" cy="16189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7"/>
          <p:cNvSpPr/>
          <p:nvPr/>
        </p:nvSpPr>
        <p:spPr>
          <a:xfrm>
            <a:off x="357120" y="8571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2 EMISSIONS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endix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166680" y="4614840"/>
            <a:ext cx="8810640" cy="2028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142920" y="158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6 IPCC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National Greenhouse Gas Inven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14200" y="18572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Level 2, country-specific emission factors are used to estimate CO2 diffusive e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9080" y="2505240"/>
            <a:ext cx="9105840" cy="2066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90360" y="4594320"/>
            <a:ext cx="6981840" cy="21207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9"/>
          <p:cNvSpPr/>
          <p:nvPr/>
        </p:nvSpPr>
        <p:spPr>
          <a:xfrm>
            <a:off x="357120" y="8571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2 EMISSIONS FROM LAND CONVERTED TO FLOO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endix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7:21:03Z</dcterms:created>
  <dc:creator>richard.taylor</dc:creator>
  <dc:description/>
  <dc:language>en-US</dc:language>
  <cp:lastModifiedBy> </cp:lastModifiedBy>
  <dcterms:modified xsi:type="dcterms:W3CDTF">2009-05-05T15:20:04Z</dcterms:modified>
  <cp:revision>210</cp:revision>
  <dc:subject/>
  <dc:title>Slide 1</dc:title>
</cp:coreProperties>
</file>