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4A1-0D00-4BFC-862D-C6C46A54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1BD-E1F9-4642-B738-BFDB6DB4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AEC-D744-466D-9C7C-87A581A5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CF0-0448-485A-B317-D2238F1E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6B59-88B2-4CE5-B812-14728496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CC7B-6499-4009-8E14-5DC03CEA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C016-55E4-46A3-A9F5-49648936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4F6D-2F20-425E-BACD-9D4D9896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132C-6D9D-4A2E-9A34-EA948185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138B-BCB2-41DE-A080-BB0E5CDD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2287-5CC2-4DB0-82ED-1909091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D60-465E-4536-BE1A-05C0029C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EECB-F96C-447E-BADA-AB917EC9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A5DE-BEF5-4D1D-9E67-8A849837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7DA4-D87B-47CD-B3E2-BDA90686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50D3-68C8-46E3-AE45-FF158E15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E1BF-2B8B-4E1F-9499-FACCB7C1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E77-FAAA-4BE2-8782-82E097ED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274-9A22-4578-9CD9-7111FFFC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A90-17A1-46F7-B023-4E66F2B1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4D8-1D05-49A4-9CAA-4D2964B7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FF5-34F1-43DD-9FDA-98C99DE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A44-48D7-4A47-9FE1-319259D2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228-203D-4530-A91B-8E21F248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1CF6-FDE6-4703-B712-8EF8FAF85C8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E88D-BA5A-4606-828C-70F32423A23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991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thane and Nitrous oxide emissions from rice fields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55640" y="3789360"/>
            <a:ext cx="68724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ucong C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Institute of Soil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Chinese Academy of Sc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Email: zccai@issas.ac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735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419640" y="476280"/>
            <a:ext cx="5406840" cy="6048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558972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Shiratori et al., 2007, SSPN, 53: 387-4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56360" y="64911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Kang and Cai. NCA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228600"/>
            <a:ext cx="7925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s measured across China could be described by the soil moisture in the off-rice growing 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547640" y="1773360"/>
            <a:ext cx="6086520" cy="4713120"/>
            <a:chOff x="1547640" y="1773360"/>
            <a:chExt cx="6086520" cy="4713120"/>
          </a:xfrm>
        </p:grpSpPr>
        <p:sp>
          <p:nvSpPr>
            <p:cNvPr id="186" name=""/>
            <p:cNvSpPr/>
            <p:nvPr/>
          </p:nvSpPr>
          <p:spPr>
            <a:xfrm>
              <a:off x="2433240" y="55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31720" y="4863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31720" y="4184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31720" y="350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31720" y="2823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31640" y="2143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47800" y="5661000"/>
              <a:ext cx="180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33720" y="5661000"/>
              <a:ext cx="14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17840" y="5661000"/>
              <a:ext cx="14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3760" y="5661000"/>
              <a:ext cx="14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87880" y="5661000"/>
              <a:ext cx="14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5240" y="5661000"/>
              <a:ext cx="14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60800" y="5661000"/>
              <a:ext cx="180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44920" y="5661000"/>
              <a:ext cx="180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0840" y="5661000"/>
              <a:ext cx="14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4960" y="5661000"/>
              <a:ext cx="180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00880" y="5661000"/>
              <a:ext cx="14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85000" y="5661000"/>
              <a:ext cx="14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72360" y="5661000"/>
              <a:ext cx="14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47800" y="5661000"/>
              <a:ext cx="4624560" cy="1080"/>
            </a:xfrm>
            <a:prstGeom prst="line">
              <a:avLst/>
            </a:prstGeom>
            <a:ln w="144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79760" y="5661000"/>
              <a:ext cx="680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7800" y="5319720"/>
              <a:ext cx="180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79760" y="4979880"/>
              <a:ext cx="680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47800" y="4641840"/>
              <a:ext cx="180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79760" y="4300200"/>
              <a:ext cx="68040" cy="14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47800" y="3960720"/>
              <a:ext cx="180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79760" y="3619440"/>
              <a:ext cx="680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47800" y="3278160"/>
              <a:ext cx="180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79760" y="2939760"/>
              <a:ext cx="68040" cy="14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47800" y="2600280"/>
              <a:ext cx="180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79760" y="2259000"/>
              <a:ext cx="68040" cy="108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647800" y="2258640"/>
              <a:ext cx="1800" cy="3401640"/>
            </a:xfrm>
            <a:prstGeom prst="line">
              <a:avLst/>
            </a:prstGeom>
            <a:ln w="144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33720" y="5595840"/>
              <a:ext cx="1440" cy="64800"/>
            </a:xfrm>
            <a:prstGeom prst="line">
              <a:avLst/>
            </a:prstGeom>
            <a:ln w="69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79720" y="5541840"/>
              <a:ext cx="108000" cy="1058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87640" y="5549760"/>
              <a:ext cx="58680" cy="56880"/>
            </a:xfrm>
            <a:prstGeom prst="ellipse">
              <a:avLst/>
            </a:prstGeom>
            <a:solidFill>
              <a:srgbClr val="6b6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98800" y="5559120"/>
              <a:ext cx="36360" cy="37800"/>
            </a:xfrm>
            <a:prstGeom prst="ellipse">
              <a:avLst/>
            </a:prstGeom>
            <a:solidFill>
              <a:srgbClr val="b2b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08160" y="5570280"/>
              <a:ext cx="17640" cy="1728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82920" y="5343480"/>
              <a:ext cx="0" cy="304200"/>
            </a:xfrm>
            <a:prstGeom prst="line">
              <a:avLst/>
            </a:prstGeom>
            <a:ln w="69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1640" y="5379840"/>
              <a:ext cx="108000" cy="10620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9560" y="5387760"/>
              <a:ext cx="57240" cy="56880"/>
            </a:xfrm>
            <a:prstGeom prst="ellipse">
              <a:avLst/>
            </a:prstGeom>
            <a:solidFill>
              <a:srgbClr val="6b6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0720" y="5397480"/>
              <a:ext cx="36360" cy="37440"/>
            </a:xfrm>
            <a:prstGeom prst="ellipse">
              <a:avLst/>
            </a:prstGeom>
            <a:solidFill>
              <a:srgbClr val="b2b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0080" y="5406840"/>
              <a:ext cx="17640" cy="1872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9360" y="5140080"/>
              <a:ext cx="1800" cy="520560"/>
            </a:xfrm>
            <a:prstGeom prst="line">
              <a:avLst/>
            </a:prstGeom>
            <a:ln w="69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35360" y="5086080"/>
              <a:ext cx="108000" cy="1076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43280" y="5094000"/>
              <a:ext cx="57240" cy="56880"/>
            </a:xfrm>
            <a:prstGeom prst="ellipse">
              <a:avLst/>
            </a:prstGeom>
            <a:solidFill>
              <a:srgbClr val="6b6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54440" y="5103720"/>
              <a:ext cx="36720" cy="37800"/>
            </a:xfrm>
            <a:prstGeom prst="ellipse">
              <a:avLst/>
            </a:prstGeom>
            <a:solidFill>
              <a:srgbClr val="b2b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64160" y="5114880"/>
              <a:ext cx="17280" cy="1692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89360" y="5546520"/>
              <a:ext cx="1800" cy="114120"/>
            </a:xfrm>
            <a:prstGeom prst="line">
              <a:avLst/>
            </a:prstGeom>
            <a:ln w="69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5492520"/>
              <a:ext cx="108000" cy="10620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43280" y="5500440"/>
              <a:ext cx="57240" cy="56880"/>
            </a:xfrm>
            <a:prstGeom prst="ellipse">
              <a:avLst/>
            </a:prstGeom>
            <a:solidFill>
              <a:srgbClr val="6b6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5510160"/>
              <a:ext cx="36720" cy="37800"/>
            </a:xfrm>
            <a:prstGeom prst="ellipse">
              <a:avLst/>
            </a:prstGeom>
            <a:solidFill>
              <a:srgbClr val="b2b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4160" y="5519520"/>
              <a:ext cx="17280" cy="1872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07080" y="5133960"/>
              <a:ext cx="1440" cy="526680"/>
            </a:xfrm>
            <a:prstGeom prst="line">
              <a:avLst/>
            </a:prstGeom>
            <a:ln w="69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53080" y="5081400"/>
              <a:ext cx="106200" cy="10620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1000" y="5087880"/>
              <a:ext cx="56880" cy="58320"/>
            </a:xfrm>
            <a:prstGeom prst="ellipse">
              <a:avLst/>
            </a:prstGeom>
            <a:solidFill>
              <a:srgbClr val="6b6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70360" y="5099040"/>
              <a:ext cx="38160" cy="36000"/>
            </a:xfrm>
            <a:prstGeom prst="ellipse">
              <a:avLst/>
            </a:prstGeom>
            <a:solidFill>
              <a:srgbClr val="b2b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80080" y="5108400"/>
              <a:ext cx="18720" cy="1728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178680" y="3743280"/>
              <a:ext cx="9360" cy="1917360"/>
            </a:xfrm>
            <a:prstGeom prst="line">
              <a:avLst/>
            </a:prstGeom>
            <a:ln w="69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22880" y="3722400"/>
              <a:ext cx="108000" cy="10620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30800" y="3730320"/>
              <a:ext cx="57240" cy="56880"/>
            </a:xfrm>
            <a:prstGeom prst="ellipse">
              <a:avLst/>
            </a:prstGeom>
            <a:solidFill>
              <a:srgbClr val="6b6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40520" y="3740040"/>
              <a:ext cx="38160" cy="37800"/>
            </a:xfrm>
            <a:prstGeom prst="ellipse">
              <a:avLst/>
            </a:prstGeom>
            <a:solidFill>
              <a:srgbClr val="b2b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51680" y="3749400"/>
              <a:ext cx="17280" cy="1872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70520" y="2585880"/>
              <a:ext cx="1800" cy="3074760"/>
            </a:xfrm>
            <a:prstGeom prst="line">
              <a:avLst/>
            </a:prstGeom>
            <a:ln w="69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16520" y="2531880"/>
              <a:ext cx="108000" cy="1076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24440" y="2539800"/>
              <a:ext cx="59040" cy="56880"/>
            </a:xfrm>
            <a:prstGeom prst="ellipse">
              <a:avLst/>
            </a:prstGeom>
            <a:solidFill>
              <a:srgbClr val="6b6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35600" y="2549520"/>
              <a:ext cx="36720" cy="37440"/>
            </a:xfrm>
            <a:prstGeom prst="ellipse">
              <a:avLst/>
            </a:prstGeom>
            <a:solidFill>
              <a:srgbClr val="b2b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5320" y="2560320"/>
              <a:ext cx="17280" cy="1728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11680" y="52671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66"/>
                  </a:solidFill>
                  <a:latin typeface="Arial"/>
                  <a:ea typeface="华文新魏"/>
                </a:rPr>
                <a:t>FQ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54320" y="519084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66"/>
                  </a:solidFill>
                  <a:latin typeface="Arial"/>
                  <a:ea typeface="华文新魏"/>
                </a:rPr>
                <a:t>NJ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36120" y="336204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66"/>
                  </a:solidFill>
                  <a:latin typeface="Arial"/>
                  <a:ea typeface="华文新魏"/>
                </a:rPr>
                <a:t>C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00800" y="2384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66"/>
                  </a:solidFill>
                  <a:latin typeface="Arial"/>
                  <a:ea typeface="华文新魏"/>
                </a:rPr>
                <a:t>Y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6320" y="6038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1924920" y="4592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1204200" y="3923280"/>
              <a:ext cx="1672560" cy="24264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  <a:ea typeface="华文新魏"/>
                </a:rPr>
                <a:t>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  <a:ea typeface="华文新魏"/>
                </a:rPr>
                <a:t>CH</a:t>
              </a:r>
              <a:r>
                <a:rPr b="0" lang="en-US" sz="1400" spc="-1" strike="noStrike" baseline="-25000">
                  <a:solidFill>
                    <a:srgbClr val="ffff66"/>
                  </a:solidFill>
                  <a:latin typeface="Arial"/>
                  <a:ea typeface="华文新魏"/>
                </a:rPr>
                <a:t>4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  <a:ea typeface="华文新魏"/>
                </a:rPr>
                <a:t> emission, g/m</a:t>
              </a:r>
              <a:r>
                <a:rPr b="0" lang="en-US" sz="1400" spc="-1" strike="noStrike" baseline="30000">
                  <a:solidFill>
                    <a:srgbClr val="ffff66"/>
                  </a:solidFill>
                  <a:latin typeface="Arial"/>
                  <a:ea typeface="华文新魏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30440" y="49402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  <a:ea typeface="华文新魏"/>
                </a:rPr>
                <a:t>S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3440" y="47336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  <a:ea typeface="华文新魏"/>
                </a:rPr>
                <a:t>G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6280" y="54036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  <a:ea typeface="华文新魏"/>
                </a:rPr>
                <a:t>J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47640" y="1773360"/>
              <a:ext cx="6086520" cy="471312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700360" y="1916280"/>
            <a:ext cx="4335840" cy="4418640"/>
            <a:chOff x="2700360" y="1916280"/>
            <a:chExt cx="4335840" cy="4418640"/>
          </a:xfrm>
        </p:grpSpPr>
        <p:grpSp>
          <p:nvGrpSpPr>
            <p:cNvPr id="265" name=""/>
            <p:cNvGrpSpPr/>
            <p:nvPr/>
          </p:nvGrpSpPr>
          <p:grpSpPr>
            <a:xfrm>
              <a:off x="2700360" y="1916280"/>
              <a:ext cx="4335840" cy="4418640"/>
              <a:chOff x="2700360" y="1916280"/>
              <a:chExt cx="4335840" cy="4418640"/>
            </a:xfrm>
          </p:grpSpPr>
          <p:sp>
            <p:nvSpPr>
              <p:cNvPr id="266" name=""/>
              <p:cNvSpPr/>
              <p:nvPr/>
            </p:nvSpPr>
            <p:spPr>
              <a:xfrm>
                <a:off x="2700360" y="1916280"/>
                <a:ext cx="4237200" cy="3682800"/>
              </a:xfrm>
              <a:custGeom>
                <a:avLst/>
                <a:gdLst/>
                <a:ahLst/>
                <a:rect l="l" t="t" r="r" b="b"/>
                <a:pathLst>
                  <a:path w="2669" h="2320">
                    <a:moveTo>
                      <a:pt x="0" y="2320"/>
                    </a:moveTo>
                    <a:lnTo>
                      <a:pt x="5" y="2320"/>
                    </a:lnTo>
                    <a:lnTo>
                      <a:pt x="11" y="2320"/>
                    </a:lnTo>
                    <a:lnTo>
                      <a:pt x="16" y="2320"/>
                    </a:lnTo>
                    <a:lnTo>
                      <a:pt x="21" y="2320"/>
                    </a:lnTo>
                    <a:lnTo>
                      <a:pt x="26" y="2320"/>
                    </a:lnTo>
                    <a:lnTo>
                      <a:pt x="32" y="2318"/>
                    </a:lnTo>
                    <a:lnTo>
                      <a:pt x="37" y="2318"/>
                    </a:lnTo>
                    <a:lnTo>
                      <a:pt x="42" y="2318"/>
                    </a:lnTo>
                    <a:lnTo>
                      <a:pt x="48" y="2318"/>
                    </a:lnTo>
                    <a:lnTo>
                      <a:pt x="53" y="2318"/>
                    </a:lnTo>
                    <a:lnTo>
                      <a:pt x="58" y="2318"/>
                    </a:lnTo>
                    <a:lnTo>
                      <a:pt x="63" y="2317"/>
                    </a:lnTo>
                    <a:lnTo>
                      <a:pt x="70" y="2317"/>
                    </a:lnTo>
                    <a:lnTo>
                      <a:pt x="75" y="2317"/>
                    </a:lnTo>
                    <a:lnTo>
                      <a:pt x="80" y="2317"/>
                    </a:lnTo>
                    <a:lnTo>
                      <a:pt x="86" y="2317"/>
                    </a:lnTo>
                    <a:lnTo>
                      <a:pt x="91" y="2316"/>
                    </a:lnTo>
                    <a:lnTo>
                      <a:pt x="96" y="2316"/>
                    </a:lnTo>
                    <a:lnTo>
                      <a:pt x="101" y="2316"/>
                    </a:lnTo>
                    <a:lnTo>
                      <a:pt x="107" y="2316"/>
                    </a:lnTo>
                    <a:lnTo>
                      <a:pt x="112" y="2316"/>
                    </a:lnTo>
                    <a:lnTo>
                      <a:pt x="117" y="2315"/>
                    </a:lnTo>
                    <a:lnTo>
                      <a:pt x="123" y="2315"/>
                    </a:lnTo>
                    <a:lnTo>
                      <a:pt x="128" y="2315"/>
                    </a:lnTo>
                    <a:lnTo>
                      <a:pt x="133" y="2315"/>
                    </a:lnTo>
                    <a:lnTo>
                      <a:pt x="140" y="2315"/>
                    </a:lnTo>
                    <a:lnTo>
                      <a:pt x="145" y="2313"/>
                    </a:lnTo>
                    <a:lnTo>
                      <a:pt x="150" y="2313"/>
                    </a:lnTo>
                    <a:lnTo>
                      <a:pt x="155" y="2313"/>
                    </a:lnTo>
                    <a:lnTo>
                      <a:pt x="161" y="2313"/>
                    </a:lnTo>
                    <a:lnTo>
                      <a:pt x="166" y="2313"/>
                    </a:lnTo>
                    <a:lnTo>
                      <a:pt x="171" y="2312"/>
                    </a:lnTo>
                    <a:lnTo>
                      <a:pt x="177" y="2312"/>
                    </a:lnTo>
                    <a:lnTo>
                      <a:pt x="182" y="2312"/>
                    </a:lnTo>
                    <a:lnTo>
                      <a:pt x="187" y="2312"/>
                    </a:lnTo>
                    <a:lnTo>
                      <a:pt x="192" y="2311"/>
                    </a:lnTo>
                    <a:lnTo>
                      <a:pt x="198" y="2311"/>
                    </a:lnTo>
                    <a:lnTo>
                      <a:pt x="203" y="2311"/>
                    </a:lnTo>
                    <a:lnTo>
                      <a:pt x="208" y="2311"/>
                    </a:lnTo>
                    <a:lnTo>
                      <a:pt x="214" y="2311"/>
                    </a:lnTo>
                    <a:lnTo>
                      <a:pt x="219" y="2310"/>
                    </a:lnTo>
                    <a:lnTo>
                      <a:pt x="224" y="2310"/>
                    </a:lnTo>
                    <a:lnTo>
                      <a:pt x="229" y="2310"/>
                    </a:lnTo>
                    <a:lnTo>
                      <a:pt x="236" y="2310"/>
                    </a:lnTo>
                    <a:lnTo>
                      <a:pt x="241" y="2308"/>
                    </a:lnTo>
                    <a:lnTo>
                      <a:pt x="246" y="2308"/>
                    </a:lnTo>
                    <a:lnTo>
                      <a:pt x="252" y="2308"/>
                    </a:lnTo>
                    <a:lnTo>
                      <a:pt x="257" y="2308"/>
                    </a:lnTo>
                    <a:lnTo>
                      <a:pt x="262" y="2307"/>
                    </a:lnTo>
                    <a:lnTo>
                      <a:pt x="267" y="2307"/>
                    </a:lnTo>
                    <a:lnTo>
                      <a:pt x="273" y="2307"/>
                    </a:lnTo>
                    <a:lnTo>
                      <a:pt x="278" y="2306"/>
                    </a:lnTo>
                    <a:lnTo>
                      <a:pt x="283" y="2306"/>
                    </a:lnTo>
                    <a:lnTo>
                      <a:pt x="289" y="2306"/>
                    </a:lnTo>
                    <a:lnTo>
                      <a:pt x="294" y="2306"/>
                    </a:lnTo>
                    <a:lnTo>
                      <a:pt x="299" y="2305"/>
                    </a:lnTo>
                    <a:lnTo>
                      <a:pt x="304" y="2305"/>
                    </a:lnTo>
                    <a:lnTo>
                      <a:pt x="310" y="2305"/>
                    </a:lnTo>
                    <a:lnTo>
                      <a:pt x="315" y="2305"/>
                    </a:lnTo>
                    <a:lnTo>
                      <a:pt x="320" y="2303"/>
                    </a:lnTo>
                    <a:lnTo>
                      <a:pt x="327" y="2303"/>
                    </a:lnTo>
                    <a:lnTo>
                      <a:pt x="332" y="2303"/>
                    </a:lnTo>
                    <a:lnTo>
                      <a:pt x="337" y="2302"/>
                    </a:lnTo>
                    <a:lnTo>
                      <a:pt x="343" y="2302"/>
                    </a:lnTo>
                    <a:lnTo>
                      <a:pt x="348" y="2302"/>
                    </a:lnTo>
                    <a:lnTo>
                      <a:pt x="353" y="2302"/>
                    </a:lnTo>
                    <a:lnTo>
                      <a:pt x="358" y="2301"/>
                    </a:lnTo>
                    <a:lnTo>
                      <a:pt x="364" y="2301"/>
                    </a:lnTo>
                    <a:lnTo>
                      <a:pt x="369" y="2301"/>
                    </a:lnTo>
                    <a:lnTo>
                      <a:pt x="374" y="2300"/>
                    </a:lnTo>
                    <a:lnTo>
                      <a:pt x="380" y="2300"/>
                    </a:lnTo>
                    <a:lnTo>
                      <a:pt x="385" y="2300"/>
                    </a:lnTo>
                    <a:lnTo>
                      <a:pt x="390" y="2298"/>
                    </a:lnTo>
                    <a:lnTo>
                      <a:pt x="395" y="2298"/>
                    </a:lnTo>
                    <a:lnTo>
                      <a:pt x="402" y="2298"/>
                    </a:lnTo>
                    <a:lnTo>
                      <a:pt x="407" y="2297"/>
                    </a:lnTo>
                    <a:lnTo>
                      <a:pt x="411" y="2297"/>
                    </a:lnTo>
                    <a:lnTo>
                      <a:pt x="418" y="2297"/>
                    </a:lnTo>
                    <a:lnTo>
                      <a:pt x="423" y="2296"/>
                    </a:lnTo>
                    <a:lnTo>
                      <a:pt x="428" y="2296"/>
                    </a:lnTo>
                    <a:lnTo>
                      <a:pt x="433" y="2296"/>
                    </a:lnTo>
                    <a:lnTo>
                      <a:pt x="439" y="2295"/>
                    </a:lnTo>
                    <a:lnTo>
                      <a:pt x="444" y="2295"/>
                    </a:lnTo>
                    <a:lnTo>
                      <a:pt x="449" y="2295"/>
                    </a:lnTo>
                    <a:lnTo>
                      <a:pt x="455" y="2293"/>
                    </a:lnTo>
                    <a:lnTo>
                      <a:pt x="460" y="2293"/>
                    </a:lnTo>
                    <a:lnTo>
                      <a:pt x="465" y="2292"/>
                    </a:lnTo>
                    <a:lnTo>
                      <a:pt x="470" y="2292"/>
                    </a:lnTo>
                    <a:lnTo>
                      <a:pt x="476" y="2292"/>
                    </a:lnTo>
                    <a:lnTo>
                      <a:pt x="481" y="2291"/>
                    </a:lnTo>
                    <a:lnTo>
                      <a:pt x="486" y="2291"/>
                    </a:lnTo>
                    <a:lnTo>
                      <a:pt x="493" y="2291"/>
                    </a:lnTo>
                    <a:lnTo>
                      <a:pt x="498" y="2290"/>
                    </a:lnTo>
                    <a:lnTo>
                      <a:pt x="503" y="2290"/>
                    </a:lnTo>
                    <a:lnTo>
                      <a:pt x="508" y="2288"/>
                    </a:lnTo>
                    <a:lnTo>
                      <a:pt x="514" y="2288"/>
                    </a:lnTo>
                    <a:lnTo>
                      <a:pt x="519" y="2288"/>
                    </a:lnTo>
                    <a:lnTo>
                      <a:pt x="524" y="2287"/>
                    </a:lnTo>
                    <a:lnTo>
                      <a:pt x="530" y="2287"/>
                    </a:lnTo>
                    <a:lnTo>
                      <a:pt x="535" y="2286"/>
                    </a:lnTo>
                    <a:lnTo>
                      <a:pt x="540" y="2286"/>
                    </a:lnTo>
                    <a:lnTo>
                      <a:pt x="546" y="2285"/>
                    </a:lnTo>
                    <a:lnTo>
                      <a:pt x="551" y="2285"/>
                    </a:lnTo>
                    <a:lnTo>
                      <a:pt x="556" y="2285"/>
                    </a:lnTo>
                    <a:lnTo>
                      <a:pt x="561" y="2283"/>
                    </a:lnTo>
                    <a:lnTo>
                      <a:pt x="567" y="2283"/>
                    </a:lnTo>
                    <a:lnTo>
                      <a:pt x="572" y="2282"/>
                    </a:lnTo>
                    <a:lnTo>
                      <a:pt x="577" y="2282"/>
                    </a:lnTo>
                    <a:lnTo>
                      <a:pt x="584" y="2281"/>
                    </a:lnTo>
                    <a:lnTo>
                      <a:pt x="589" y="2281"/>
                    </a:lnTo>
                    <a:lnTo>
                      <a:pt x="594" y="2280"/>
                    </a:lnTo>
                    <a:lnTo>
                      <a:pt x="599" y="2280"/>
                    </a:lnTo>
                    <a:lnTo>
                      <a:pt x="605" y="2280"/>
                    </a:lnTo>
                    <a:lnTo>
                      <a:pt x="610" y="2278"/>
                    </a:lnTo>
                    <a:lnTo>
                      <a:pt x="615" y="2278"/>
                    </a:lnTo>
                    <a:lnTo>
                      <a:pt x="621" y="2277"/>
                    </a:lnTo>
                    <a:lnTo>
                      <a:pt x="626" y="2277"/>
                    </a:lnTo>
                    <a:lnTo>
                      <a:pt x="631" y="2276"/>
                    </a:lnTo>
                    <a:lnTo>
                      <a:pt x="636" y="2276"/>
                    </a:lnTo>
                    <a:lnTo>
                      <a:pt x="642" y="2275"/>
                    </a:lnTo>
                    <a:lnTo>
                      <a:pt x="647" y="2275"/>
                    </a:lnTo>
                    <a:lnTo>
                      <a:pt x="652" y="2273"/>
                    </a:lnTo>
                    <a:lnTo>
                      <a:pt x="658" y="2273"/>
                    </a:lnTo>
                    <a:lnTo>
                      <a:pt x="663" y="2272"/>
                    </a:lnTo>
                    <a:lnTo>
                      <a:pt x="668" y="2272"/>
                    </a:lnTo>
                    <a:lnTo>
                      <a:pt x="673" y="2271"/>
                    </a:lnTo>
                    <a:lnTo>
                      <a:pt x="680" y="2270"/>
                    </a:lnTo>
                    <a:lnTo>
                      <a:pt x="685" y="2270"/>
                    </a:lnTo>
                    <a:lnTo>
                      <a:pt x="690" y="2268"/>
                    </a:lnTo>
                    <a:lnTo>
                      <a:pt x="696" y="2268"/>
                    </a:lnTo>
                    <a:lnTo>
                      <a:pt x="701" y="2267"/>
                    </a:lnTo>
                    <a:lnTo>
                      <a:pt x="706" y="2267"/>
                    </a:lnTo>
                    <a:lnTo>
                      <a:pt x="711" y="2266"/>
                    </a:lnTo>
                    <a:lnTo>
                      <a:pt x="717" y="2266"/>
                    </a:lnTo>
                    <a:lnTo>
                      <a:pt x="722" y="2265"/>
                    </a:lnTo>
                    <a:lnTo>
                      <a:pt x="727" y="2263"/>
                    </a:lnTo>
                    <a:lnTo>
                      <a:pt x="733" y="2263"/>
                    </a:lnTo>
                    <a:lnTo>
                      <a:pt x="738" y="2262"/>
                    </a:lnTo>
                    <a:lnTo>
                      <a:pt x="743" y="2262"/>
                    </a:lnTo>
                    <a:lnTo>
                      <a:pt x="750" y="2261"/>
                    </a:lnTo>
                    <a:lnTo>
                      <a:pt x="755" y="2260"/>
                    </a:lnTo>
                    <a:lnTo>
                      <a:pt x="760" y="2260"/>
                    </a:lnTo>
                    <a:lnTo>
                      <a:pt x="765" y="2258"/>
                    </a:lnTo>
                    <a:lnTo>
                      <a:pt x="771" y="2258"/>
                    </a:lnTo>
                    <a:lnTo>
                      <a:pt x="776" y="2257"/>
                    </a:lnTo>
                    <a:lnTo>
                      <a:pt x="781" y="2256"/>
                    </a:lnTo>
                    <a:lnTo>
                      <a:pt x="787" y="2256"/>
                    </a:lnTo>
                    <a:lnTo>
                      <a:pt x="792" y="2255"/>
                    </a:lnTo>
                    <a:lnTo>
                      <a:pt x="797" y="2253"/>
                    </a:lnTo>
                    <a:lnTo>
                      <a:pt x="802" y="2253"/>
                    </a:lnTo>
                    <a:lnTo>
                      <a:pt x="808" y="2252"/>
                    </a:lnTo>
                    <a:lnTo>
                      <a:pt x="813" y="2251"/>
                    </a:lnTo>
                    <a:lnTo>
                      <a:pt x="818" y="2251"/>
                    </a:lnTo>
                    <a:lnTo>
                      <a:pt x="824" y="2250"/>
                    </a:lnTo>
                    <a:lnTo>
                      <a:pt x="829" y="2248"/>
                    </a:lnTo>
                    <a:lnTo>
                      <a:pt x="834" y="2247"/>
                    </a:lnTo>
                    <a:lnTo>
                      <a:pt x="839" y="2247"/>
                    </a:lnTo>
                    <a:lnTo>
                      <a:pt x="846" y="2246"/>
                    </a:lnTo>
                    <a:lnTo>
                      <a:pt x="851" y="2245"/>
                    </a:lnTo>
                    <a:lnTo>
                      <a:pt x="856" y="2245"/>
                    </a:lnTo>
                    <a:lnTo>
                      <a:pt x="862" y="2243"/>
                    </a:lnTo>
                    <a:lnTo>
                      <a:pt x="867" y="2242"/>
                    </a:lnTo>
                    <a:lnTo>
                      <a:pt x="872" y="2241"/>
                    </a:lnTo>
                    <a:lnTo>
                      <a:pt x="877" y="2241"/>
                    </a:lnTo>
                    <a:lnTo>
                      <a:pt x="883" y="2240"/>
                    </a:lnTo>
                    <a:lnTo>
                      <a:pt x="888" y="2238"/>
                    </a:lnTo>
                    <a:lnTo>
                      <a:pt x="893" y="2237"/>
                    </a:lnTo>
                    <a:lnTo>
                      <a:pt x="899" y="2237"/>
                    </a:lnTo>
                    <a:lnTo>
                      <a:pt x="904" y="2236"/>
                    </a:lnTo>
                    <a:lnTo>
                      <a:pt x="909" y="2235"/>
                    </a:lnTo>
                    <a:lnTo>
                      <a:pt x="914" y="2233"/>
                    </a:lnTo>
                    <a:lnTo>
                      <a:pt x="920" y="2232"/>
                    </a:lnTo>
                    <a:lnTo>
                      <a:pt x="925" y="2231"/>
                    </a:lnTo>
                    <a:lnTo>
                      <a:pt x="930" y="2231"/>
                    </a:lnTo>
                    <a:lnTo>
                      <a:pt x="937" y="2230"/>
                    </a:lnTo>
                    <a:lnTo>
                      <a:pt x="942" y="2228"/>
                    </a:lnTo>
                    <a:lnTo>
                      <a:pt x="947" y="2227"/>
                    </a:lnTo>
                    <a:lnTo>
                      <a:pt x="953" y="2226"/>
                    </a:lnTo>
                    <a:lnTo>
                      <a:pt x="958" y="2225"/>
                    </a:lnTo>
                    <a:lnTo>
                      <a:pt x="963" y="2223"/>
                    </a:lnTo>
                    <a:lnTo>
                      <a:pt x="968" y="2223"/>
                    </a:lnTo>
                    <a:lnTo>
                      <a:pt x="974" y="2222"/>
                    </a:lnTo>
                    <a:lnTo>
                      <a:pt x="979" y="2221"/>
                    </a:lnTo>
                    <a:lnTo>
                      <a:pt x="984" y="2220"/>
                    </a:lnTo>
                    <a:lnTo>
                      <a:pt x="990" y="2218"/>
                    </a:lnTo>
                    <a:lnTo>
                      <a:pt x="995" y="2217"/>
                    </a:lnTo>
                    <a:lnTo>
                      <a:pt x="1000" y="2216"/>
                    </a:lnTo>
                    <a:lnTo>
                      <a:pt x="1005" y="2215"/>
                    </a:lnTo>
                    <a:lnTo>
                      <a:pt x="1012" y="2213"/>
                    </a:lnTo>
                    <a:lnTo>
                      <a:pt x="1017" y="2212"/>
                    </a:lnTo>
                    <a:lnTo>
                      <a:pt x="1022" y="2211"/>
                    </a:lnTo>
                    <a:lnTo>
                      <a:pt x="1028" y="2210"/>
                    </a:lnTo>
                    <a:lnTo>
                      <a:pt x="1033" y="2209"/>
                    </a:lnTo>
                    <a:lnTo>
                      <a:pt x="1038" y="2207"/>
                    </a:lnTo>
                    <a:lnTo>
                      <a:pt x="1043" y="2206"/>
                    </a:lnTo>
                    <a:lnTo>
                      <a:pt x="1049" y="2205"/>
                    </a:lnTo>
                    <a:lnTo>
                      <a:pt x="1054" y="2204"/>
                    </a:lnTo>
                    <a:lnTo>
                      <a:pt x="1059" y="2202"/>
                    </a:lnTo>
                    <a:lnTo>
                      <a:pt x="1065" y="2201"/>
                    </a:lnTo>
                    <a:lnTo>
                      <a:pt x="1070" y="2200"/>
                    </a:lnTo>
                    <a:lnTo>
                      <a:pt x="1075" y="2199"/>
                    </a:lnTo>
                    <a:lnTo>
                      <a:pt x="1080" y="2197"/>
                    </a:lnTo>
                    <a:lnTo>
                      <a:pt x="1086" y="2196"/>
                    </a:lnTo>
                    <a:lnTo>
                      <a:pt x="1091" y="2195"/>
                    </a:lnTo>
                    <a:lnTo>
                      <a:pt x="1096" y="2192"/>
                    </a:lnTo>
                    <a:lnTo>
                      <a:pt x="1103" y="2191"/>
                    </a:lnTo>
                    <a:lnTo>
                      <a:pt x="1108" y="2190"/>
                    </a:lnTo>
                    <a:lnTo>
                      <a:pt x="1113" y="2189"/>
                    </a:lnTo>
                    <a:lnTo>
                      <a:pt x="1118" y="2187"/>
                    </a:lnTo>
                    <a:lnTo>
                      <a:pt x="1124" y="2186"/>
                    </a:lnTo>
                    <a:lnTo>
                      <a:pt x="1129" y="2185"/>
                    </a:lnTo>
                    <a:lnTo>
                      <a:pt x="1134" y="2182"/>
                    </a:lnTo>
                    <a:lnTo>
                      <a:pt x="1140" y="2181"/>
                    </a:lnTo>
                    <a:lnTo>
                      <a:pt x="1145" y="2180"/>
                    </a:lnTo>
                    <a:lnTo>
                      <a:pt x="1150" y="2179"/>
                    </a:lnTo>
                    <a:lnTo>
                      <a:pt x="1156" y="2177"/>
                    </a:lnTo>
                    <a:lnTo>
                      <a:pt x="1161" y="2175"/>
                    </a:lnTo>
                    <a:lnTo>
                      <a:pt x="1166" y="2174"/>
                    </a:lnTo>
                    <a:lnTo>
                      <a:pt x="1171" y="2172"/>
                    </a:lnTo>
                    <a:lnTo>
                      <a:pt x="1177" y="2170"/>
                    </a:lnTo>
                    <a:lnTo>
                      <a:pt x="1182" y="2169"/>
                    </a:lnTo>
                    <a:lnTo>
                      <a:pt x="1187" y="2167"/>
                    </a:lnTo>
                    <a:lnTo>
                      <a:pt x="1194" y="2166"/>
                    </a:lnTo>
                    <a:lnTo>
                      <a:pt x="1199" y="2164"/>
                    </a:lnTo>
                    <a:lnTo>
                      <a:pt x="1204" y="2162"/>
                    </a:lnTo>
                    <a:lnTo>
                      <a:pt x="1209" y="2161"/>
                    </a:lnTo>
                    <a:lnTo>
                      <a:pt x="1215" y="2159"/>
                    </a:lnTo>
                    <a:lnTo>
                      <a:pt x="1220" y="2157"/>
                    </a:lnTo>
                    <a:lnTo>
                      <a:pt x="1225" y="2155"/>
                    </a:lnTo>
                    <a:lnTo>
                      <a:pt x="1231" y="2154"/>
                    </a:lnTo>
                    <a:lnTo>
                      <a:pt x="1236" y="2152"/>
                    </a:lnTo>
                    <a:lnTo>
                      <a:pt x="1241" y="2150"/>
                    </a:lnTo>
                    <a:lnTo>
                      <a:pt x="1246" y="2149"/>
                    </a:lnTo>
                    <a:lnTo>
                      <a:pt x="1252" y="2146"/>
                    </a:lnTo>
                    <a:lnTo>
                      <a:pt x="1257" y="2145"/>
                    </a:lnTo>
                    <a:lnTo>
                      <a:pt x="1262" y="2142"/>
                    </a:lnTo>
                    <a:lnTo>
                      <a:pt x="1269" y="2141"/>
                    </a:lnTo>
                    <a:lnTo>
                      <a:pt x="1273" y="2139"/>
                    </a:lnTo>
                    <a:lnTo>
                      <a:pt x="1278" y="2137"/>
                    </a:lnTo>
                    <a:lnTo>
                      <a:pt x="1283" y="2135"/>
                    </a:lnTo>
                    <a:lnTo>
                      <a:pt x="1290" y="2134"/>
                    </a:lnTo>
                    <a:lnTo>
                      <a:pt x="1295" y="2131"/>
                    </a:lnTo>
                    <a:lnTo>
                      <a:pt x="1300" y="2129"/>
                    </a:lnTo>
                    <a:lnTo>
                      <a:pt x="1306" y="2127"/>
                    </a:lnTo>
                    <a:lnTo>
                      <a:pt x="1311" y="2125"/>
                    </a:lnTo>
                    <a:lnTo>
                      <a:pt x="1316" y="2124"/>
                    </a:lnTo>
                    <a:lnTo>
                      <a:pt x="1321" y="2121"/>
                    </a:lnTo>
                    <a:lnTo>
                      <a:pt x="1327" y="2119"/>
                    </a:lnTo>
                    <a:lnTo>
                      <a:pt x="1332" y="2117"/>
                    </a:lnTo>
                    <a:lnTo>
                      <a:pt x="1337" y="2115"/>
                    </a:lnTo>
                    <a:lnTo>
                      <a:pt x="1343" y="2112"/>
                    </a:lnTo>
                    <a:lnTo>
                      <a:pt x="1348" y="2110"/>
                    </a:lnTo>
                    <a:lnTo>
                      <a:pt x="1353" y="2109"/>
                    </a:lnTo>
                    <a:lnTo>
                      <a:pt x="1360" y="2106"/>
                    </a:lnTo>
                    <a:lnTo>
                      <a:pt x="1365" y="2104"/>
                    </a:lnTo>
                    <a:lnTo>
                      <a:pt x="1370" y="2101"/>
                    </a:lnTo>
                    <a:lnTo>
                      <a:pt x="1375" y="2099"/>
                    </a:lnTo>
                    <a:lnTo>
                      <a:pt x="1381" y="2097"/>
                    </a:lnTo>
                    <a:lnTo>
                      <a:pt x="1386" y="2095"/>
                    </a:lnTo>
                    <a:lnTo>
                      <a:pt x="1391" y="2093"/>
                    </a:lnTo>
                    <a:lnTo>
                      <a:pt x="1397" y="2090"/>
                    </a:lnTo>
                    <a:lnTo>
                      <a:pt x="1402" y="2088"/>
                    </a:lnTo>
                    <a:lnTo>
                      <a:pt x="1407" y="2085"/>
                    </a:lnTo>
                    <a:lnTo>
                      <a:pt x="1412" y="2083"/>
                    </a:lnTo>
                    <a:lnTo>
                      <a:pt x="1418" y="2080"/>
                    </a:lnTo>
                    <a:lnTo>
                      <a:pt x="1423" y="2078"/>
                    </a:lnTo>
                    <a:lnTo>
                      <a:pt x="1428" y="2075"/>
                    </a:lnTo>
                    <a:lnTo>
                      <a:pt x="1434" y="2073"/>
                    </a:lnTo>
                    <a:lnTo>
                      <a:pt x="1439" y="2070"/>
                    </a:lnTo>
                    <a:lnTo>
                      <a:pt x="1444" y="2068"/>
                    </a:lnTo>
                    <a:lnTo>
                      <a:pt x="1449" y="2065"/>
                    </a:lnTo>
                    <a:lnTo>
                      <a:pt x="1456" y="2063"/>
                    </a:lnTo>
                    <a:lnTo>
                      <a:pt x="1461" y="2060"/>
                    </a:lnTo>
                    <a:lnTo>
                      <a:pt x="1466" y="2058"/>
                    </a:lnTo>
                    <a:lnTo>
                      <a:pt x="1472" y="2055"/>
                    </a:lnTo>
                    <a:lnTo>
                      <a:pt x="1477" y="2053"/>
                    </a:lnTo>
                    <a:lnTo>
                      <a:pt x="1482" y="2049"/>
                    </a:lnTo>
                    <a:lnTo>
                      <a:pt x="1487" y="2046"/>
                    </a:lnTo>
                    <a:lnTo>
                      <a:pt x="1493" y="2044"/>
                    </a:lnTo>
                    <a:lnTo>
                      <a:pt x="1498" y="2041"/>
                    </a:lnTo>
                    <a:lnTo>
                      <a:pt x="1503" y="2038"/>
                    </a:lnTo>
                    <a:lnTo>
                      <a:pt x="1509" y="2035"/>
                    </a:lnTo>
                    <a:lnTo>
                      <a:pt x="1514" y="2033"/>
                    </a:lnTo>
                    <a:lnTo>
                      <a:pt x="1519" y="2029"/>
                    </a:lnTo>
                    <a:lnTo>
                      <a:pt x="1524" y="2026"/>
                    </a:lnTo>
                    <a:lnTo>
                      <a:pt x="1530" y="2024"/>
                    </a:lnTo>
                    <a:lnTo>
                      <a:pt x="1535" y="2020"/>
                    </a:lnTo>
                    <a:lnTo>
                      <a:pt x="1540" y="2018"/>
                    </a:lnTo>
                    <a:lnTo>
                      <a:pt x="1547" y="2014"/>
                    </a:lnTo>
                    <a:lnTo>
                      <a:pt x="1552" y="2011"/>
                    </a:lnTo>
                    <a:lnTo>
                      <a:pt x="1557" y="2009"/>
                    </a:lnTo>
                    <a:lnTo>
                      <a:pt x="1563" y="2005"/>
                    </a:lnTo>
                    <a:lnTo>
                      <a:pt x="1568" y="2001"/>
                    </a:lnTo>
                    <a:lnTo>
                      <a:pt x="1573" y="1999"/>
                    </a:lnTo>
                    <a:lnTo>
                      <a:pt x="1578" y="1995"/>
                    </a:lnTo>
                    <a:lnTo>
                      <a:pt x="1584" y="1993"/>
                    </a:lnTo>
                    <a:lnTo>
                      <a:pt x="1589" y="1989"/>
                    </a:lnTo>
                    <a:lnTo>
                      <a:pt x="1594" y="1985"/>
                    </a:lnTo>
                    <a:lnTo>
                      <a:pt x="1600" y="1983"/>
                    </a:lnTo>
                    <a:lnTo>
                      <a:pt x="1605" y="1979"/>
                    </a:lnTo>
                    <a:lnTo>
                      <a:pt x="1610" y="1975"/>
                    </a:lnTo>
                    <a:lnTo>
                      <a:pt x="1615" y="1972"/>
                    </a:lnTo>
                    <a:lnTo>
                      <a:pt x="1622" y="1969"/>
                    </a:lnTo>
                    <a:lnTo>
                      <a:pt x="1627" y="1965"/>
                    </a:lnTo>
                    <a:lnTo>
                      <a:pt x="1632" y="1962"/>
                    </a:lnTo>
                    <a:lnTo>
                      <a:pt x="1638" y="1958"/>
                    </a:lnTo>
                    <a:lnTo>
                      <a:pt x="1643" y="1954"/>
                    </a:lnTo>
                    <a:lnTo>
                      <a:pt x="1648" y="1950"/>
                    </a:lnTo>
                    <a:lnTo>
                      <a:pt x="1653" y="1947"/>
                    </a:lnTo>
                    <a:lnTo>
                      <a:pt x="1659" y="1943"/>
                    </a:lnTo>
                    <a:lnTo>
                      <a:pt x="1664" y="1939"/>
                    </a:lnTo>
                    <a:lnTo>
                      <a:pt x="1669" y="1935"/>
                    </a:lnTo>
                    <a:lnTo>
                      <a:pt x="1675" y="1932"/>
                    </a:lnTo>
                    <a:lnTo>
                      <a:pt x="1680" y="1928"/>
                    </a:lnTo>
                    <a:lnTo>
                      <a:pt x="1685" y="1924"/>
                    </a:lnTo>
                    <a:lnTo>
                      <a:pt x="1690" y="1920"/>
                    </a:lnTo>
                    <a:lnTo>
                      <a:pt x="1696" y="1917"/>
                    </a:lnTo>
                    <a:lnTo>
                      <a:pt x="1701" y="1913"/>
                    </a:lnTo>
                    <a:lnTo>
                      <a:pt x="1706" y="1908"/>
                    </a:lnTo>
                    <a:lnTo>
                      <a:pt x="1713" y="1904"/>
                    </a:lnTo>
                    <a:lnTo>
                      <a:pt x="1718" y="1900"/>
                    </a:lnTo>
                    <a:lnTo>
                      <a:pt x="1723" y="1895"/>
                    </a:lnTo>
                    <a:lnTo>
                      <a:pt x="1728" y="1892"/>
                    </a:lnTo>
                    <a:lnTo>
                      <a:pt x="1734" y="1888"/>
                    </a:lnTo>
                    <a:lnTo>
                      <a:pt x="1739" y="1883"/>
                    </a:lnTo>
                    <a:lnTo>
                      <a:pt x="1744" y="1879"/>
                    </a:lnTo>
                    <a:lnTo>
                      <a:pt x="1750" y="1874"/>
                    </a:lnTo>
                    <a:lnTo>
                      <a:pt x="1755" y="1870"/>
                    </a:lnTo>
                    <a:lnTo>
                      <a:pt x="1760" y="1865"/>
                    </a:lnTo>
                    <a:lnTo>
                      <a:pt x="1766" y="1862"/>
                    </a:lnTo>
                    <a:lnTo>
                      <a:pt x="1771" y="1857"/>
                    </a:lnTo>
                    <a:lnTo>
                      <a:pt x="1776" y="1852"/>
                    </a:lnTo>
                    <a:lnTo>
                      <a:pt x="1781" y="1848"/>
                    </a:lnTo>
                    <a:lnTo>
                      <a:pt x="1787" y="1843"/>
                    </a:lnTo>
                    <a:lnTo>
                      <a:pt x="1792" y="1838"/>
                    </a:lnTo>
                    <a:lnTo>
                      <a:pt x="1797" y="1833"/>
                    </a:lnTo>
                    <a:lnTo>
                      <a:pt x="1804" y="1828"/>
                    </a:lnTo>
                    <a:lnTo>
                      <a:pt x="1809" y="1824"/>
                    </a:lnTo>
                    <a:lnTo>
                      <a:pt x="1814" y="1819"/>
                    </a:lnTo>
                    <a:lnTo>
                      <a:pt x="1819" y="1814"/>
                    </a:lnTo>
                    <a:lnTo>
                      <a:pt x="1825" y="1809"/>
                    </a:lnTo>
                    <a:lnTo>
                      <a:pt x="1830" y="1804"/>
                    </a:lnTo>
                    <a:lnTo>
                      <a:pt x="1835" y="1799"/>
                    </a:lnTo>
                    <a:lnTo>
                      <a:pt x="1841" y="1794"/>
                    </a:lnTo>
                    <a:lnTo>
                      <a:pt x="1846" y="1788"/>
                    </a:lnTo>
                    <a:lnTo>
                      <a:pt x="1851" y="1783"/>
                    </a:lnTo>
                    <a:lnTo>
                      <a:pt x="1856" y="1778"/>
                    </a:lnTo>
                    <a:lnTo>
                      <a:pt x="1862" y="1773"/>
                    </a:lnTo>
                    <a:lnTo>
                      <a:pt x="1867" y="1767"/>
                    </a:lnTo>
                    <a:lnTo>
                      <a:pt x="1872" y="1762"/>
                    </a:lnTo>
                    <a:lnTo>
                      <a:pt x="1879" y="1757"/>
                    </a:lnTo>
                    <a:lnTo>
                      <a:pt x="1884" y="1751"/>
                    </a:lnTo>
                    <a:lnTo>
                      <a:pt x="1888" y="1746"/>
                    </a:lnTo>
                    <a:lnTo>
                      <a:pt x="1893" y="1740"/>
                    </a:lnTo>
                    <a:lnTo>
                      <a:pt x="1900" y="1735"/>
                    </a:lnTo>
                    <a:lnTo>
                      <a:pt x="1905" y="1728"/>
                    </a:lnTo>
                    <a:lnTo>
                      <a:pt x="1910" y="1723"/>
                    </a:lnTo>
                    <a:lnTo>
                      <a:pt x="1916" y="1717"/>
                    </a:lnTo>
                    <a:lnTo>
                      <a:pt x="1921" y="1711"/>
                    </a:lnTo>
                    <a:lnTo>
                      <a:pt x="1926" y="1705"/>
                    </a:lnTo>
                    <a:lnTo>
                      <a:pt x="1931" y="1700"/>
                    </a:lnTo>
                    <a:lnTo>
                      <a:pt x="1937" y="1693"/>
                    </a:lnTo>
                    <a:lnTo>
                      <a:pt x="1942" y="1687"/>
                    </a:lnTo>
                    <a:lnTo>
                      <a:pt x="1947" y="1681"/>
                    </a:lnTo>
                    <a:lnTo>
                      <a:pt x="1953" y="1675"/>
                    </a:lnTo>
                    <a:lnTo>
                      <a:pt x="1958" y="1668"/>
                    </a:lnTo>
                    <a:lnTo>
                      <a:pt x="1963" y="1662"/>
                    </a:lnTo>
                    <a:lnTo>
                      <a:pt x="1970" y="1656"/>
                    </a:lnTo>
                    <a:lnTo>
                      <a:pt x="1975" y="1650"/>
                    </a:lnTo>
                    <a:lnTo>
                      <a:pt x="1980" y="1642"/>
                    </a:lnTo>
                    <a:lnTo>
                      <a:pt x="1985" y="1636"/>
                    </a:lnTo>
                    <a:lnTo>
                      <a:pt x="1991" y="1630"/>
                    </a:lnTo>
                    <a:lnTo>
                      <a:pt x="1996" y="1622"/>
                    </a:lnTo>
                    <a:lnTo>
                      <a:pt x="2001" y="1616"/>
                    </a:lnTo>
                    <a:lnTo>
                      <a:pt x="2007" y="1609"/>
                    </a:lnTo>
                    <a:lnTo>
                      <a:pt x="2012" y="1602"/>
                    </a:lnTo>
                    <a:lnTo>
                      <a:pt x="2017" y="1595"/>
                    </a:lnTo>
                    <a:lnTo>
                      <a:pt x="2022" y="1589"/>
                    </a:lnTo>
                    <a:lnTo>
                      <a:pt x="2028" y="1581"/>
                    </a:lnTo>
                    <a:lnTo>
                      <a:pt x="2033" y="1574"/>
                    </a:lnTo>
                    <a:lnTo>
                      <a:pt x="2038" y="1566"/>
                    </a:lnTo>
                    <a:lnTo>
                      <a:pt x="2044" y="1560"/>
                    </a:lnTo>
                    <a:lnTo>
                      <a:pt x="2049" y="1552"/>
                    </a:lnTo>
                    <a:lnTo>
                      <a:pt x="2054" y="1545"/>
                    </a:lnTo>
                    <a:lnTo>
                      <a:pt x="2059" y="1537"/>
                    </a:lnTo>
                    <a:lnTo>
                      <a:pt x="2066" y="1530"/>
                    </a:lnTo>
                    <a:lnTo>
                      <a:pt x="2071" y="1521"/>
                    </a:lnTo>
                    <a:lnTo>
                      <a:pt x="2076" y="1514"/>
                    </a:lnTo>
                    <a:lnTo>
                      <a:pt x="2082" y="1506"/>
                    </a:lnTo>
                    <a:lnTo>
                      <a:pt x="2087" y="1499"/>
                    </a:lnTo>
                    <a:lnTo>
                      <a:pt x="2092" y="1490"/>
                    </a:lnTo>
                    <a:lnTo>
                      <a:pt x="2097" y="1483"/>
                    </a:lnTo>
                    <a:lnTo>
                      <a:pt x="2103" y="1474"/>
                    </a:lnTo>
                    <a:lnTo>
                      <a:pt x="2108" y="1466"/>
                    </a:lnTo>
                    <a:lnTo>
                      <a:pt x="2113" y="1458"/>
                    </a:lnTo>
                    <a:lnTo>
                      <a:pt x="2119" y="1450"/>
                    </a:lnTo>
                    <a:lnTo>
                      <a:pt x="2124" y="1441"/>
                    </a:lnTo>
                    <a:lnTo>
                      <a:pt x="2129" y="1433"/>
                    </a:lnTo>
                    <a:lnTo>
                      <a:pt x="2134" y="1424"/>
                    </a:lnTo>
                    <a:lnTo>
                      <a:pt x="2140" y="1415"/>
                    </a:lnTo>
                    <a:lnTo>
                      <a:pt x="2145" y="1406"/>
                    </a:lnTo>
                    <a:lnTo>
                      <a:pt x="2150" y="1398"/>
                    </a:lnTo>
                    <a:lnTo>
                      <a:pt x="2157" y="1389"/>
                    </a:lnTo>
                    <a:lnTo>
                      <a:pt x="2162" y="1380"/>
                    </a:lnTo>
                    <a:lnTo>
                      <a:pt x="2167" y="1372"/>
                    </a:lnTo>
                    <a:lnTo>
                      <a:pt x="2173" y="1362"/>
                    </a:lnTo>
                    <a:lnTo>
                      <a:pt x="2178" y="1353"/>
                    </a:lnTo>
                    <a:lnTo>
                      <a:pt x="2183" y="1344"/>
                    </a:lnTo>
                    <a:lnTo>
                      <a:pt x="2188" y="1334"/>
                    </a:lnTo>
                    <a:lnTo>
                      <a:pt x="2194" y="1324"/>
                    </a:lnTo>
                    <a:lnTo>
                      <a:pt x="2199" y="1315"/>
                    </a:lnTo>
                    <a:lnTo>
                      <a:pt x="2204" y="1305"/>
                    </a:lnTo>
                    <a:lnTo>
                      <a:pt x="2210" y="1295"/>
                    </a:lnTo>
                    <a:lnTo>
                      <a:pt x="2215" y="1285"/>
                    </a:lnTo>
                    <a:lnTo>
                      <a:pt x="2220" y="1276"/>
                    </a:lnTo>
                    <a:lnTo>
                      <a:pt x="2225" y="1266"/>
                    </a:lnTo>
                    <a:lnTo>
                      <a:pt x="2232" y="1256"/>
                    </a:lnTo>
                    <a:lnTo>
                      <a:pt x="2237" y="1246"/>
                    </a:lnTo>
                    <a:lnTo>
                      <a:pt x="2242" y="1236"/>
                    </a:lnTo>
                    <a:lnTo>
                      <a:pt x="2248" y="1224"/>
                    </a:lnTo>
                    <a:lnTo>
                      <a:pt x="2253" y="1214"/>
                    </a:lnTo>
                    <a:lnTo>
                      <a:pt x="2258" y="1203"/>
                    </a:lnTo>
                    <a:lnTo>
                      <a:pt x="2263" y="1193"/>
                    </a:lnTo>
                    <a:lnTo>
                      <a:pt x="2269" y="1182"/>
                    </a:lnTo>
                    <a:lnTo>
                      <a:pt x="2274" y="1171"/>
                    </a:lnTo>
                    <a:lnTo>
                      <a:pt x="2279" y="1160"/>
                    </a:lnTo>
                    <a:lnTo>
                      <a:pt x="2285" y="1150"/>
                    </a:lnTo>
                    <a:lnTo>
                      <a:pt x="2290" y="1138"/>
                    </a:lnTo>
                    <a:lnTo>
                      <a:pt x="2295" y="1126"/>
                    </a:lnTo>
                    <a:lnTo>
                      <a:pt x="2300" y="1115"/>
                    </a:lnTo>
                    <a:lnTo>
                      <a:pt x="2306" y="1103"/>
                    </a:lnTo>
                    <a:lnTo>
                      <a:pt x="2311" y="1092"/>
                    </a:lnTo>
                    <a:lnTo>
                      <a:pt x="2316" y="1080"/>
                    </a:lnTo>
                    <a:lnTo>
                      <a:pt x="2323" y="1068"/>
                    </a:lnTo>
                    <a:lnTo>
                      <a:pt x="2328" y="1056"/>
                    </a:lnTo>
                    <a:lnTo>
                      <a:pt x="2333" y="1044"/>
                    </a:lnTo>
                    <a:lnTo>
                      <a:pt x="2338" y="1032"/>
                    </a:lnTo>
                    <a:lnTo>
                      <a:pt x="2344" y="1020"/>
                    </a:lnTo>
                    <a:lnTo>
                      <a:pt x="2349" y="1007"/>
                    </a:lnTo>
                    <a:lnTo>
                      <a:pt x="2354" y="995"/>
                    </a:lnTo>
                    <a:lnTo>
                      <a:pt x="2360" y="982"/>
                    </a:lnTo>
                    <a:lnTo>
                      <a:pt x="2365" y="969"/>
                    </a:lnTo>
                    <a:lnTo>
                      <a:pt x="2370" y="956"/>
                    </a:lnTo>
                    <a:lnTo>
                      <a:pt x="2375" y="942"/>
                    </a:lnTo>
                    <a:lnTo>
                      <a:pt x="2381" y="930"/>
                    </a:lnTo>
                    <a:lnTo>
                      <a:pt x="2386" y="916"/>
                    </a:lnTo>
                    <a:lnTo>
                      <a:pt x="2391" y="903"/>
                    </a:lnTo>
                    <a:lnTo>
                      <a:pt x="2397" y="890"/>
                    </a:lnTo>
                    <a:lnTo>
                      <a:pt x="2402" y="876"/>
                    </a:lnTo>
                    <a:lnTo>
                      <a:pt x="2407" y="863"/>
                    </a:lnTo>
                    <a:lnTo>
                      <a:pt x="2414" y="848"/>
                    </a:lnTo>
                    <a:lnTo>
                      <a:pt x="2419" y="834"/>
                    </a:lnTo>
                    <a:lnTo>
                      <a:pt x="2424" y="820"/>
                    </a:lnTo>
                    <a:lnTo>
                      <a:pt x="2429" y="805"/>
                    </a:lnTo>
                    <a:lnTo>
                      <a:pt x="2435" y="792"/>
                    </a:lnTo>
                    <a:lnTo>
                      <a:pt x="2440" y="777"/>
                    </a:lnTo>
                    <a:lnTo>
                      <a:pt x="2445" y="762"/>
                    </a:lnTo>
                    <a:lnTo>
                      <a:pt x="2451" y="747"/>
                    </a:lnTo>
                    <a:lnTo>
                      <a:pt x="2456" y="732"/>
                    </a:lnTo>
                    <a:lnTo>
                      <a:pt x="2461" y="717"/>
                    </a:lnTo>
                    <a:lnTo>
                      <a:pt x="2466" y="702"/>
                    </a:lnTo>
                    <a:lnTo>
                      <a:pt x="2472" y="686"/>
                    </a:lnTo>
                    <a:lnTo>
                      <a:pt x="2477" y="671"/>
                    </a:lnTo>
                    <a:lnTo>
                      <a:pt x="2482" y="654"/>
                    </a:lnTo>
                    <a:lnTo>
                      <a:pt x="2489" y="639"/>
                    </a:lnTo>
                    <a:lnTo>
                      <a:pt x="2494" y="623"/>
                    </a:lnTo>
                    <a:lnTo>
                      <a:pt x="2499" y="607"/>
                    </a:lnTo>
                    <a:lnTo>
                      <a:pt x="2504" y="591"/>
                    </a:lnTo>
                    <a:lnTo>
                      <a:pt x="2510" y="573"/>
                    </a:lnTo>
                    <a:lnTo>
                      <a:pt x="2515" y="557"/>
                    </a:lnTo>
                    <a:lnTo>
                      <a:pt x="2520" y="541"/>
                    </a:lnTo>
                    <a:lnTo>
                      <a:pt x="2526" y="523"/>
                    </a:lnTo>
                    <a:lnTo>
                      <a:pt x="2531" y="506"/>
                    </a:lnTo>
                    <a:lnTo>
                      <a:pt x="2536" y="488"/>
                    </a:lnTo>
                    <a:lnTo>
                      <a:pt x="2541" y="471"/>
                    </a:lnTo>
                    <a:lnTo>
                      <a:pt x="2547" y="454"/>
                    </a:lnTo>
                    <a:lnTo>
                      <a:pt x="2552" y="436"/>
                    </a:lnTo>
                    <a:lnTo>
                      <a:pt x="2557" y="419"/>
                    </a:lnTo>
                    <a:lnTo>
                      <a:pt x="2563" y="400"/>
                    </a:lnTo>
                    <a:lnTo>
                      <a:pt x="2568" y="382"/>
                    </a:lnTo>
                    <a:lnTo>
                      <a:pt x="2573" y="364"/>
                    </a:lnTo>
                    <a:lnTo>
                      <a:pt x="2578" y="345"/>
                    </a:lnTo>
                    <a:lnTo>
                      <a:pt x="2585" y="326"/>
                    </a:lnTo>
                    <a:lnTo>
                      <a:pt x="2590" y="308"/>
                    </a:lnTo>
                    <a:lnTo>
                      <a:pt x="2595" y="288"/>
                    </a:lnTo>
                    <a:lnTo>
                      <a:pt x="2601" y="269"/>
                    </a:lnTo>
                    <a:lnTo>
                      <a:pt x="2606" y="249"/>
                    </a:lnTo>
                    <a:lnTo>
                      <a:pt x="2611" y="229"/>
                    </a:lnTo>
                    <a:lnTo>
                      <a:pt x="2617" y="209"/>
                    </a:lnTo>
                    <a:lnTo>
                      <a:pt x="2622" y="189"/>
                    </a:lnTo>
                    <a:lnTo>
                      <a:pt x="2627" y="169"/>
                    </a:lnTo>
                    <a:lnTo>
                      <a:pt x="2632" y="149"/>
                    </a:lnTo>
                    <a:lnTo>
                      <a:pt x="2638" y="128"/>
                    </a:lnTo>
                    <a:lnTo>
                      <a:pt x="2643" y="107"/>
                    </a:lnTo>
                    <a:lnTo>
                      <a:pt x="2648" y="86"/>
                    </a:lnTo>
                    <a:lnTo>
                      <a:pt x="2654" y="64"/>
                    </a:lnTo>
                    <a:lnTo>
                      <a:pt x="2659" y="43"/>
                    </a:lnTo>
                    <a:lnTo>
                      <a:pt x="2664" y="22"/>
                    </a:lnTo>
                    <a:lnTo>
                      <a:pt x="2669" y="0"/>
                    </a:lnTo>
                  </a:path>
                </a:pathLst>
              </a:cu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41920" y="578772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66"/>
                    </a:solidFill>
                    <a:latin typeface="Arial"/>
                  </a:rPr>
                  <a:t>2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13400" y="578772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66"/>
                    </a:solidFill>
                    <a:latin typeface="Arial"/>
                  </a:rPr>
                  <a:t>3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483080" y="578772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66"/>
                    </a:solidFill>
                    <a:latin typeface="Arial"/>
                  </a:rPr>
                  <a:t>4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53120" y="578772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66"/>
                    </a:solidFill>
                    <a:latin typeface="Arial"/>
                  </a:rPr>
                  <a:t>5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24600" y="578772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66"/>
                    </a:solidFill>
                    <a:latin typeface="Arial"/>
                  </a:rPr>
                  <a:t>6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94640" y="578772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66"/>
                    </a:solidFill>
                    <a:latin typeface="Arial"/>
                  </a:rPr>
                  <a:t>7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844720" y="6091200"/>
                <a:ext cx="3764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66"/>
                    </a:solidFill>
                    <a:latin typeface="Arial"/>
                    <a:ea typeface="华文新魏"/>
                  </a:rPr>
                  <a:t>Soil moisture in off-rice season</a:t>
                </a:r>
                <a:r>
                  <a:rPr b="0" lang="zh-CN" sz="1600" spc="-1" strike="noStrike">
                    <a:solidFill>
                      <a:srgbClr val="ffff66"/>
                    </a:solidFill>
                    <a:latin typeface="Arial"/>
                    <a:ea typeface="华文新魏"/>
                  </a:rPr>
                  <a:t>，</a:t>
                </a:r>
                <a:r>
                  <a:rPr b="0" lang="zh-CN" sz="1600" spc="-1" strike="noStrike">
                    <a:solidFill>
                      <a:srgbClr val="ffff66"/>
                    </a:solidFill>
                    <a:latin typeface="Arial"/>
                    <a:ea typeface="华文新魏"/>
                  </a:rPr>
                  <a:t>%WFP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853000" y="2525400"/>
              <a:ext cx="297180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Y=0.2846e</a:t>
              </a:r>
              <a:r>
                <a:rPr b="0" lang="en-US" sz="2000" spc="-1" strike="noStrike" baseline="30000">
                  <a:solidFill>
                    <a:srgbClr val="ffff66"/>
                  </a:solidFill>
                  <a:latin typeface="Arial"/>
                </a:rPr>
                <a:t>0.0861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R</a:t>
              </a:r>
              <a:r>
                <a:rPr b="0" lang="en-US" sz="2000" spc="-1" strike="noStrike" baseline="30000">
                  <a:solidFill>
                    <a:srgbClr val="ffff66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=0.88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38840" cy="4241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24000" y="404640"/>
            <a:ext cx="8496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ffect of water regime in the off-rice season on C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 is considered in the 2006  IPCC Guidelines for National Greenhouse Gas Inven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3284640"/>
            <a:ext cx="8280360" cy="100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emissions from rice fields during the off-rice season are not considered in the IPCC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395280" y="2781360"/>
          <a:ext cx="8291520" cy="2089080"/>
        </p:xfrm>
        <a:graphic>
          <a:graphicData uri="http://schemas.openxmlformats.org/drawingml/2006/table">
            <a:tbl>
              <a:tblPr/>
              <a:tblGrid>
                <a:gridCol w="2736720"/>
                <a:gridCol w="2791080"/>
                <a:gridCol w="2763720"/>
              </a:tblGrid>
              <a:tr h="5220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IPCC Guidel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a679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Emission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a67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Upla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Rice fiel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996 G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a679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.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GPG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a679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.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95280" y="5229360"/>
          <a:ext cx="8280360" cy="718920"/>
        </p:xfrm>
        <a:graphic>
          <a:graphicData uri="http://schemas.openxmlformats.org/drawingml/2006/table">
            <a:tbl>
              <a:tblPr/>
              <a:tblGrid>
                <a:gridCol w="2736720"/>
                <a:gridCol w="2783160"/>
                <a:gridCol w="2760480"/>
              </a:tblGrid>
              <a:tr h="71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2006 G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a67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81f"/>
                          </a:solidFill>
                          <a:latin typeface="Arial"/>
                          <a:ea typeface="黑体"/>
                        </a:rPr>
                        <a:t>1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99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81f"/>
                          </a:solidFill>
                          <a:latin typeface="Arial"/>
                          <a:ea typeface="黑体"/>
                        </a:rPr>
                        <a:t>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5d8cd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395280" y="404640"/>
            <a:ext cx="8280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fore 1990s, N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 emissions from rice fields were considered to be negligible (Smith et al., 1982. Soil Sci. Plant Nutri. 28(2), 161-171). While, the same N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 EF of N fertilizers was used for estimating N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 emissions from rice fields and uplands in the 1996 and 2000 IPCC Guide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Key variables controlling N</a:t>
            </a:r>
            <a:r>
              <a:rPr b="0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 from rice field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8706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regime is th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application rate is the seco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39640" y="3789360"/>
          <a:ext cx="8158320" cy="2481120"/>
        </p:xfrm>
        <a:graphic>
          <a:graphicData uri="http://schemas.openxmlformats.org/drawingml/2006/table">
            <a:tbl>
              <a:tblPr/>
              <a:tblGrid>
                <a:gridCol w="3745080"/>
                <a:gridCol w="2303280"/>
                <a:gridCol w="2109960"/>
              </a:tblGrid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Water reg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e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ontinuous flood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003-0.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idseason drain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02-1.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ain-fed wet sea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ll water reg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003-1.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95280" y="2852640"/>
            <a:ext cx="820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ertilizer-induced N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O mission factor (%) during the rice growing seaso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Akiyama et al., GBC,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zh-CN" sz="32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O EFs and background emissions from rice fields in China 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(Zou et al., AE, 2007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01680" y="1700280"/>
          <a:ext cx="8540640" cy="4398840"/>
        </p:xfrm>
        <a:graphic>
          <a:graphicData uri="http://schemas.openxmlformats.org/drawingml/2006/table">
            <a:tbl>
              <a:tblPr/>
              <a:tblGrid>
                <a:gridCol w="3262320"/>
                <a:gridCol w="2432160"/>
                <a:gridCol w="2846160"/>
              </a:tblGrid>
              <a:tr h="102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Water regi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F (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Background emission (kg N/h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ontinuous floo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ingle midseason drain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ultiple midseason drainag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5183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urthermore, 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emission from  continuously flooded rice fields was correlated poorly with N application rat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851280" y="1341360"/>
            <a:ext cx="4714920" cy="23432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95280" y="306864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ata from the measurements in the world (Akiyama et al., GBC, 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140360" y="3789360"/>
            <a:ext cx="4464000" cy="2408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851280" y="3860640"/>
            <a:ext cx="380880" cy="2257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4537080" y="6165720"/>
            <a:ext cx="4067280" cy="495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95280" y="530064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Data from the measurements in China (Zou et al., AE, 20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5183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urthermore, 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emission from  intermittently irrigated rice fields was correlated significantly with N application rate,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278136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ata from the measurements in the world (Akiyama et al., GBC, 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530064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Data from the measurements in China (Zou et al., AE, 20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4714920" cy="25434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4608360" cy="3436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5040360" cy="47289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505760" y="6021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Zou et al., Global Change Biology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68360" y="1197000"/>
          <a:ext cx="3311640" cy="4679640"/>
        </p:xfrm>
        <a:graphic>
          <a:graphicData uri="http://schemas.openxmlformats.org/drawingml/2006/table">
            <a:tbl>
              <a:tblPr/>
              <a:tblGrid>
                <a:gridCol w="1299960"/>
                <a:gridCol w="827280"/>
                <a:gridCol w="1184400"/>
              </a:tblGrid>
              <a:tr h="106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Water reg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F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BE (kg N/h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ontinuous floo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ingle midseason drain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ultiple midseason drainag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395280" y="260280"/>
            <a:ext cx="820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imated N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 emissions from rice fields in China during the rice growing season between 1950s and 199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uggestion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been confirmed there is a trade-off relationship between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missions from rice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 to estimate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missions by using the same category of rice fields for estimating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missio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32000" y="2205000"/>
            <a:ext cx="482472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e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O e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ugg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uggestion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6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China alone has year-round flooded rice fields about 2.66 Mha, accounted for 10-12% of total rice fields (Cai,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emissions from year-round flooded rice fields during the off-rice season were estimated to be 1-1.5 Tg CH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/yr (Verburg and Denier van der Gon, 2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uggest to include the inventory of CH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emissions from year-round flooded rice fields during the off-rice sea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16000" y="2565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ank you for your att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333360"/>
            <a:ext cx="86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imated C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s from rice fields in the wor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8280360" cy="520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59280" y="638172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Yan et al., 2009. Global Biogeochem. Cycle, 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1628640"/>
            <a:ext cx="3887640" cy="719280"/>
          </a:xfrm>
          <a:prstGeom prst="wedgeRoundRectCallout">
            <a:avLst>
              <a:gd name="adj1" fmla="val -59597"/>
              <a:gd name="adj2" fmla="val -9601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d by the 2006 IPCC Guide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ortance of water regime in the off-rice season on C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s during rice growing perio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5280" y="1773360"/>
            <a:ext cx="8457840" cy="3468600"/>
            <a:chOff x="395280" y="1773360"/>
            <a:chExt cx="8457840" cy="3468600"/>
          </a:xfrm>
        </p:grpSpPr>
        <p:grpSp>
          <p:nvGrpSpPr>
            <p:cNvPr id="93" name=""/>
            <p:cNvGrpSpPr/>
            <p:nvPr/>
          </p:nvGrpSpPr>
          <p:grpSpPr>
            <a:xfrm>
              <a:off x="402840" y="1777320"/>
              <a:ext cx="8441640" cy="3459600"/>
              <a:chOff x="402840" y="1777320"/>
              <a:chExt cx="8441640" cy="345960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02840" y="1777320"/>
                <a:ext cx="2198520" cy="1153080"/>
                <a:chOff x="402840" y="1777320"/>
                <a:chExt cx="2198520" cy="11530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15880" y="1777320"/>
                  <a:ext cx="1972800" cy="11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ite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02840" y="1777320"/>
                  <a:ext cx="2198520" cy="115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2601720" y="1777320"/>
                <a:ext cx="6242760" cy="576360"/>
                <a:chOff x="2601720" y="1777320"/>
                <a:chExt cx="6242760" cy="5763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714760" y="1777320"/>
                  <a:ext cx="601668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easonal CH</a:t>
                  </a:r>
                  <a:r>
                    <a:rPr b="0" lang="en-US" sz="2400" spc="-1" strike="noStrike" baseline="-30000">
                      <a:solidFill>
                        <a:srgbClr val="ffffff"/>
                      </a:solidFill>
                      <a:latin typeface="Arial"/>
                      <a:ea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emission (g CH</a:t>
                  </a:r>
                  <a:r>
                    <a:rPr b="0" lang="en-US" sz="2400" spc="-1" strike="noStrike" baseline="-30000">
                      <a:solidFill>
                        <a:srgbClr val="ffffff"/>
                      </a:solidFill>
                      <a:latin typeface="Arial"/>
                      <a:ea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/m</a:t>
                  </a:r>
                  <a:r>
                    <a:rPr b="0" lang="en-US" sz="2400" spc="-1" strike="noStrike" baseline="30000">
                      <a:solidFill>
                        <a:srgbClr val="ffffff"/>
                      </a:solidFill>
                      <a:latin typeface="Arial"/>
                      <a:ea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601720" y="1777320"/>
                  <a:ext cx="62427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601720" y="2353680"/>
                <a:ext cx="2080440" cy="576360"/>
                <a:chOff x="2601720" y="2353680"/>
                <a:chExt cx="2080440" cy="5763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714760" y="2353680"/>
                  <a:ext cx="1854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rained (A)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601720" y="235368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682520" y="2353680"/>
                <a:ext cx="2080440" cy="576360"/>
                <a:chOff x="4682520" y="2353680"/>
                <a:chExt cx="2080440" cy="5763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795560" y="2353680"/>
                  <a:ext cx="1854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looded (B)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682520" y="235368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63680" y="2353680"/>
                <a:ext cx="2080440" cy="576360"/>
                <a:chOff x="6763680" y="2353680"/>
                <a:chExt cx="2080440" cy="5763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876720" y="2353680"/>
                  <a:ext cx="18543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/B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63680" y="235368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02840" y="2930400"/>
                <a:ext cx="2198520" cy="576360"/>
                <a:chOff x="402840" y="2930400"/>
                <a:chExt cx="2198520" cy="5763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5880" y="2930400"/>
                  <a:ext cx="19728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uangzhou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02840" y="2930400"/>
                  <a:ext cx="21985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2601720" y="2930400"/>
                <a:ext cx="2080440" cy="576360"/>
                <a:chOff x="2601720" y="2930400"/>
                <a:chExt cx="2080440" cy="5763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714760" y="2930400"/>
                  <a:ext cx="1854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1.8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1.7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601720" y="293040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682520" y="2930400"/>
                <a:ext cx="2080440" cy="576360"/>
                <a:chOff x="4682520" y="2930400"/>
                <a:chExt cx="2080440" cy="5763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795560" y="2930400"/>
                  <a:ext cx="1854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76.0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5.4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682520" y="293040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763680" y="2930400"/>
                <a:ext cx="2080440" cy="576360"/>
                <a:chOff x="6763680" y="2930400"/>
                <a:chExt cx="2080440" cy="5763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876720" y="2930400"/>
                  <a:ext cx="18543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.21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763680" y="293040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02840" y="3507120"/>
                <a:ext cx="2198520" cy="576360"/>
                <a:chOff x="402840" y="3507120"/>
                <a:chExt cx="2198520" cy="5763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15880" y="3507120"/>
                  <a:ext cx="19728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Yingtan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02840" y="3507120"/>
                  <a:ext cx="21985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01720" y="3507120"/>
                <a:ext cx="2080440" cy="576360"/>
                <a:chOff x="2601720" y="3507120"/>
                <a:chExt cx="2080440" cy="576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714760" y="3507120"/>
                  <a:ext cx="1854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90.4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9.4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01720" y="350712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682520" y="3507120"/>
                <a:ext cx="2080440" cy="576360"/>
                <a:chOff x="4682520" y="3507120"/>
                <a:chExt cx="2080440" cy="576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795560" y="3507120"/>
                  <a:ext cx="1854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58.5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5.8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682520" y="350712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763680" y="3507120"/>
                <a:ext cx="2080440" cy="576360"/>
                <a:chOff x="6763680" y="3507120"/>
                <a:chExt cx="2080440" cy="576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876720" y="3507120"/>
                  <a:ext cx="18543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.57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763680" y="350712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02840" y="4083480"/>
                <a:ext cx="2198520" cy="576720"/>
                <a:chOff x="402840" y="4083480"/>
                <a:chExt cx="2198520" cy="576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15880" y="4083480"/>
                  <a:ext cx="197280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hangsh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02840" y="4083480"/>
                  <a:ext cx="219852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2601720" y="4083480"/>
                <a:ext cx="2080440" cy="576720"/>
                <a:chOff x="2601720" y="4083480"/>
                <a:chExt cx="2080440" cy="576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714760" y="4083480"/>
                  <a:ext cx="18547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5.4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2.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601720" y="4083480"/>
                  <a:ext cx="208044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682520" y="4083480"/>
                <a:ext cx="2080440" cy="576720"/>
                <a:chOff x="4682520" y="4083480"/>
                <a:chExt cx="2080440" cy="576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795560" y="4083480"/>
                  <a:ext cx="18547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03.5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4.6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682520" y="4083480"/>
                  <a:ext cx="208044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763680" y="4083480"/>
                <a:ext cx="2080440" cy="576720"/>
                <a:chOff x="6763680" y="4083480"/>
                <a:chExt cx="2080440" cy="576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876720" y="4083480"/>
                  <a:ext cx="185436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.5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63680" y="4083480"/>
                  <a:ext cx="208044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02840" y="4660560"/>
                <a:ext cx="2198520" cy="576360"/>
                <a:chOff x="402840" y="4660560"/>
                <a:chExt cx="2198520" cy="5763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515880" y="4660560"/>
                  <a:ext cx="19728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hongqiu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02840" y="4660560"/>
                  <a:ext cx="21985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601720" y="4660560"/>
                <a:ext cx="2080440" cy="576360"/>
                <a:chOff x="2601720" y="4660560"/>
                <a:chExt cx="2080440" cy="5763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714760" y="4660560"/>
                  <a:ext cx="1854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7.8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4.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601720" y="466056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682520" y="4660560"/>
                <a:ext cx="2080440" cy="576360"/>
                <a:chOff x="4682520" y="4660560"/>
                <a:chExt cx="2080440" cy="576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795560" y="4660560"/>
                  <a:ext cx="1854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6.1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2.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82520" y="466056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763680" y="4660560"/>
                <a:ext cx="2080440" cy="576360"/>
                <a:chOff x="6763680" y="4660560"/>
                <a:chExt cx="2080440" cy="576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876720" y="4660560"/>
                  <a:ext cx="18543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63680" y="4660560"/>
                  <a:ext cx="20804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395280" y="1773360"/>
              <a:ext cx="8457840" cy="3468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95280" y="5516640"/>
            <a:ext cx="84247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: Rice fields were drained in the off-rice 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: Rice fields were continuously floo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6381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ai et al. 2000, J. Geophys. 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7127640" cy="5189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00720" y="638172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Cai et al., 2003. Global Change Bi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260280"/>
            <a:ext cx="79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stantial C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s take place in year-round flooded rice fields during the off-rice sea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5997600" cy="3065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1989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ar-round flooded rice fiel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987640" y="2965320"/>
            <a:ext cx="5977080" cy="3892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4000" y="5013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idged-cultivation of year-round flooded rice fiel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ffects of soil moisture in the off-rice season on C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 during the following rice growing period (pot experiment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7596360" cy="4489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92720" y="645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Xu et al., 2003. SSSA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19280" y="1044720"/>
            <a:ext cx="5040360" cy="2960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619280" y="3848040"/>
            <a:ext cx="5040360" cy="2965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260280"/>
            <a:ext cx="799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ffects of soil moisture in the pre-season on soil Eh and C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s during the rice growing seas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4797360"/>
            <a:ext cx="0" cy="216000"/>
          </a:xfrm>
          <a:prstGeom prst="line">
            <a:avLst/>
          </a:prstGeom>
          <a:ln w="349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35280" y="4508640"/>
            <a:ext cx="0" cy="576000"/>
          </a:xfrm>
          <a:prstGeom prst="line">
            <a:avLst/>
          </a:prstGeom>
          <a:ln w="349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4726080"/>
            <a:ext cx="0" cy="358560"/>
          </a:xfrm>
          <a:prstGeom prst="line">
            <a:avLst/>
          </a:prstGeom>
          <a:ln w="349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492360" y="2781360"/>
            <a:ext cx="0" cy="287280"/>
          </a:xfrm>
          <a:prstGeom prst="line">
            <a:avLst/>
          </a:prstGeom>
          <a:ln w="73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602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Xu et al., 2003. SSSA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348000" y="115920"/>
            <a:ext cx="5491080" cy="6553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580536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Shiratori et al., 2007, SSPN, 53: 387-4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549360"/>
            <a:ext cx="30956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ffect of subsurface drainage during the off-rice season on C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mission during the rice growing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7:58:41Z</dcterms:created>
  <dc:creator>微软用户</dc:creator>
  <dc:description/>
  <dc:language>en-US</dc:language>
  <cp:lastModifiedBy>微软用户</cp:lastModifiedBy>
  <dcterms:modified xsi:type="dcterms:W3CDTF">2009-04-28T08:51:21Z</dcterms:modified>
  <cp:revision>37</cp:revision>
  <dc:subject/>
  <dc:title>Methane and Nitrous oxide emissions from rice fields </dc:title>
</cp:coreProperties>
</file>