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984000" cy="101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6640" y="761760"/>
            <a:ext cx="507996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80060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6012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962520" y="9601200"/>
            <a:ext cx="3047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E4C-8871-4A52-A05B-8F8CBCB65D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63720" y="78120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46080" y="4835520"/>
            <a:ext cx="5129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ed guidelines give structure for the 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63720" y="78120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46080" y="4835520"/>
            <a:ext cx="5129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ed guidelines give structure for the 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79E-9BC8-4A7B-9678-9834F744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1B8-0A1D-493D-81B2-4F17519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EEE-16E3-48F3-ADFD-63DEA998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6D6-F667-4114-A0CD-55DF1A40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CAB-B500-4868-AF2C-909ABC2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7AA-30B1-42ED-8FAE-181E79C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19D-022D-4162-82A4-A5EB358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2F5-9EA3-4D3E-A427-CB9BE2E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B14-6801-4ED5-B13C-F3F8A892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03B-9111-4218-A65C-99261AD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33F-9AA3-4A36-AF3B-DC229B9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625-7B7B-49BC-8276-2E67DD0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996-382D-4710-9F24-59F8278B1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ANSP_P" descr=""/>
          <p:cNvPicPr/>
          <p:nvPr/>
        </p:nvPicPr>
        <p:blipFill>
          <a:blip r:embed="rId2"/>
          <a:stretch/>
        </p:blipFill>
        <p:spPr>
          <a:xfrm flipH="1" rot="10800000">
            <a:off x="0" y="6298920"/>
            <a:ext cx="9144000" cy="5331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0" cy="68547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3240"/>
                <a:ext cx="9142560" cy="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144000" y="3240"/>
                <a:ext cx="0" cy="68547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1440" y="6859800"/>
              <a:ext cx="914256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EATMENT OF LULUCF INVNETORIES UNDER UNFC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aptation, Technology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-7 May, 2009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804600"/>
            <a:ext cx="8188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ing LULUCF activities unde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Kyoto Protocol: Man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15/CP.10 adopted a set of CRF tables for reporting of LULUCF activities under Articles 3.3 and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reported is supplementary to that reported under the Convention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arties submitted on voluntary basis this supplementary information by15 April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experiences of use, these CRF tables up-dated at SBSTA  27 (Dec 200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datory annual reporting starts in 2010 (inventory fo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Scop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 requirements of LULUCF activities under the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The Con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28880"/>
            <a:ext cx="8534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tic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All Parties, taking into account their common but differentiated responsibilities and their specific national and regional development priorities, objectives and circumstances, sh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a) Develop, periodically update, publish and make available to the Conference of the Parties, in accordance with Article 12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tional inventories of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hropogenic emissions by sources and removals by sinks of all greenhouse gases not controlled by the Montreal Protocol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using comparable methodologies to be agreed upon by the Conference of the Parti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iples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arency, consistency, comparability, completeness and accur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</a:t>
            </a:r>
            <a:r>
              <a:rPr b="1" i="1" lang="en-US" sz="2400" spc="-1" strike="noStrike">
                <a:solidFill>
                  <a:srgbClr val="3366ff"/>
                </a:solidFill>
                <a:latin typeface="Verdana"/>
              </a:rPr>
              <a:t>good pract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LULUF sector estimates,  2003 IPCC GPG – decision 13/CP.9 as agreed upon by the COP, to be appl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Annex I countries in their annual inven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ppropriate and to the extent possible, in the preparation of GHGs inventories to be included in national communications of non-Annex I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41120" y="990720"/>
            <a:ext cx="9002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FCCC reporting guidelines on annual inventori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se of IPCC GPG -13/CP.9, reporting GL for LULUCF -14/CP.11 later consolidated in the general reporting G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reporting of inventory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reporting of re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on record keeping (“paper trail”) to support the review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Common Reporting Form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National Inventory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41120" y="762120"/>
            <a:ext cx="9002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FCCC reporting guidelines on annual invent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se of IPCC GPG 13/CP.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0960" y="1447560"/>
            <a:ext cx="8724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ff"/>
                </a:solidFill>
                <a:uFillTx/>
                <a:latin typeface="Verdana"/>
              </a:rPr>
              <a:t>Common Reporting Form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ecific tables for LULU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framework for reporting information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HG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assumptions for each s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gregate activity data and implied emissio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nkers, feedstocks, recalculations and changes of methodologies in relation to previous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mission of annual inventory data in a standardized/uniform format from all Annex I Pa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identification of possible errors and/or omiss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is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aggregate activity data and implied emission factors over time and across Pa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41120" y="762120"/>
            <a:ext cx="9002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FCCC reporting guidelines on annual invent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120" y="456840"/>
            <a:ext cx="900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FCCC reporting guidelines on annual invent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0960" y="1066680"/>
            <a:ext cx="8724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ff"/>
                </a:solidFill>
                <a:uFillTx/>
                <a:latin typeface="Verdana"/>
              </a:rPr>
              <a:t>National Inventory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on inventory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ggregated emission factors and activity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s of sources for emission factors, activity data and rationale for thei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on methodologi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s of sources and rationale for their sel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icipated future improvemen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/quality control (QA/QC)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in response to findings of the review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NFCCC reporting guidelines prov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6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d structure of the 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6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mework to reflect the IPCC good practice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0960" y="228600"/>
            <a:ext cx="872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Greenhouse Gas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0960" y="1371600"/>
            <a:ext cx="8724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 gases and sources (Annex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3366ff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3366ff"/>
                </a:solidFill>
                <a:latin typeface="Verdana"/>
              </a:rPr>
              <a:t>Article 3.3/3.4 LULUCF activities not included until commitment period, and it will be reported as supplementary information in specific CRF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ll geographic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te time-se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years from base year up to most recent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of methods consistent with 1996 IPCC Guidelin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IPCC good practice gu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mitted in standardized electronic reporting tables (common reporting form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tional inventory report (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cription of methods used, data sources, emission factors, QA/QC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0960" y="457200"/>
            <a:ext cx="872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nd use, Land-use Change and 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0960" y="1219320"/>
            <a:ext cx="8724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specific CRF to report LULU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ions using LULUCF 2003 G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168720"/>
            <a:ext cx="17524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235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235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235400"/>
            <a:ext cx="129564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4235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235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235400"/>
            <a:ext cx="129564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74240" y="31687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200" y="43369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L,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62400" y="4336920"/>
            <a:ext cx="10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L,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09720" y="4336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L,L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41360" y="433692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L,L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11800" y="4336920"/>
            <a:ext cx="11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,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76840" y="43369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L,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378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240" y="5346720"/>
            <a:ext cx="1404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-I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Fertiliza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378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378400"/>
            <a:ext cx="129564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378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378400"/>
            <a:ext cx="12952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11840" y="5378400"/>
            <a:ext cx="1364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-II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inage of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12040" y="5378400"/>
            <a:ext cx="1073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-III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nd cov. 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68240" y="5378400"/>
            <a:ext cx="136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-IV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 em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38920" y="537840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-V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om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14400" y="37782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62320" y="37782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9880" y="3778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028840" y="3778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181480" y="37782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10080" y="37782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9720" y="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6:32:51Z</dcterms:created>
  <dc:creator>Saier</dc:creator>
  <dc:description/>
  <dc:language>en-US</dc:language>
  <cp:lastModifiedBy>Sanz-Sanchez</cp:lastModifiedBy>
  <dcterms:modified xsi:type="dcterms:W3CDTF">2009-05-05T14:39:11Z</dcterms:modified>
  <cp:revision>64</cp:revision>
  <dc:subject/>
  <dc:title>PowerPoint Presentation</dc:title>
</cp:coreProperties>
</file>