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6.jpeg" ContentType="image/jpeg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7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5AE-F57B-4911-8D62-B1FADCE8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83B-7158-4D75-A6DA-3494FA4B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6DC-52CE-4B68-912D-2AE81FFD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DEE-2D0B-46D0-8440-325B0C5F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3F4-0792-4409-9D5D-FED54538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9BA-A43A-4A90-8C1A-1E6916C1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C53-14CD-4C30-BFFA-A55DED7B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589-000C-4C95-AEDD-5446E885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128-8D8A-4484-9A19-1CE9ABE2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A7D-876E-4819-8DD1-06D17F0D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A7B-7DA5-4CA1-AFDC-84469619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2FE-2A79-4622-AF92-35FD7279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1E6-E27F-482F-B729-475BE8822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Fluxes of Boreal and Temperate For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Birdsey and Yude 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Fores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ngyun F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king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6019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ed at IPCC Expert Meeting, Brazil, 5-7 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1304640" cy="1447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266688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Emissions from U.S. Forest Fires Compared with Net 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lux from Forestry and Land-use Change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rom Heath and Smith in EPA Greenhouse Gas Inventory, 2007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1773360"/>
          <a:ext cx="746748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73360"/>
                    <a:ext cx="7467480" cy="495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114800" y="4495680"/>
            <a:ext cx="144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st Fire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297180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Forest Seque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-1004760" y="1523880"/>
          <a:ext cx="8556480" cy="46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04760" y="1523880"/>
                    <a:ext cx="855648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62000" y="228600"/>
            <a:ext cx="8839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rbon Budget of the U.S. Forest S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est Ecosystems and Wood Produ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648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Seque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65530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irdse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9436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1600200"/>
            <a:ext cx="35812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 tons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57240" y="4100400"/>
            <a:ext cx="49532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259092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ts could change sink to sour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510552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s could enhance sink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0120" y="3581280"/>
            <a:ext cx="609480" cy="1433160"/>
            <a:chOff x="7620120" y="3581280"/>
            <a:chExt cx="609480" cy="1433160"/>
          </a:xfrm>
        </p:grpSpPr>
        <p:sp>
          <p:nvSpPr>
            <p:cNvPr id="97" name=""/>
            <p:cNvSpPr/>
            <p:nvPr/>
          </p:nvSpPr>
          <p:spPr>
            <a:xfrm>
              <a:off x="7620120" y="3900240"/>
              <a:ext cx="60948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905600" y="358128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924680" y="47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xico’s forests are a net source of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inly from deforestation and forest 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could be reve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32 Grupo"/>
          <p:cNvGrpSpPr/>
          <p:nvPr/>
        </p:nvGrpSpPr>
        <p:grpSpPr>
          <a:xfrm>
            <a:off x="2133720" y="1676520"/>
            <a:ext cx="7448400" cy="5181480"/>
            <a:chOff x="2133720" y="1676520"/>
            <a:chExt cx="7448400" cy="5181480"/>
          </a:xfrm>
        </p:grpSpPr>
        <p:pic>
          <p:nvPicPr>
            <p:cNvPr id="102" name="4 Imagen" descr="bosque elegible.jpg"/>
            <p:cNvPicPr/>
            <p:nvPr/>
          </p:nvPicPr>
          <p:blipFill>
            <a:blip r:embed="rId1"/>
            <a:srcRect l="1884" t="5169" r="7535" b="7753"/>
            <a:stretch/>
          </p:blipFill>
          <p:spPr>
            <a:xfrm>
              <a:off x="2133720" y="1676520"/>
              <a:ext cx="693180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5 CuadroTexto"/>
            <p:cNvSpPr/>
            <p:nvPr/>
          </p:nvSpPr>
          <p:spPr>
            <a:xfrm>
              <a:off x="6659640" y="2709720"/>
              <a:ext cx="292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rimary for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est recovery  1993-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egraded for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egraded  forest 1993-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36 Rectángulo"/>
            <p:cNvSpPr/>
            <p:nvPr/>
          </p:nvSpPr>
          <p:spPr>
            <a:xfrm>
              <a:off x="2909880" y="1783080"/>
              <a:ext cx="4291560" cy="53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28600" y="5410080"/>
            <a:ext cx="457200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orestation between 1993 and 2002: 512,500 ha/y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gradation between 1993 and 2002:   457,700 ha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30040" y="1676520"/>
            <a:ext cx="3407040" cy="1523520"/>
            <a:chOff x="230040" y="1676520"/>
            <a:chExt cx="3407040" cy="1523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85800" y="2438280"/>
              <a:ext cx="6843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1828800" y="2438280"/>
              <a:ext cx="1295640" cy="7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30040" y="1676520"/>
              <a:ext cx="34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d b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. Armando Alanís-de la R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s of carbon flux for Russian forests are highly variable – future is unc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estimates range from a sink of 406 to a source of 45 TgCy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rong influencing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e Return Interval Maps for North America and Eurasia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alshi et al.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442880"/>
            <a:ext cx="85564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372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’s forest carbon sink is linked to age-class structure and fores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487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64771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Fang et al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800600" y="3600360"/>
          <a:ext cx="4343400" cy="325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600360"/>
                    <a:ext cx="4343400" cy="325764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136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d with other countries, China has a balanced forest age-class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533376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7520" y="1371600"/>
            <a:ext cx="58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st area by age class for China (Pan et al.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9718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age-class distribution for Eastern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mass stocks in European forests have been increasing for decades – similar to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of growth over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able age-clas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levels of natural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s in damage from air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depos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ility amo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in European forests is likely to increase for deca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057320"/>
            <a:ext cx="6324480" cy="5800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10280" y="6400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ais et al.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s 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000" y="50004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s based on forest inventory data ar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ifferences in volume/biomass co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-based and atmospheric-based approaches are conv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s of approaches offer best options for identifying causes of observed chang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05320" y="3789360"/>
            <a:ext cx="5638680" cy="309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95280" y="5715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ala et al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review, reporting period approximately 1995-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eal and temperate forests of the northern hemi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or regions assigned to either boreal or temperat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estimation approaches var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st inventory converted to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st inventory plus ecosystem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st inventory plus ecosystem models plus atmospheric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 products sometime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temperate and boreal sequestered nearly 0.9 PgCy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ce 199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two-thirds of this increase is in temperate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e forest sink is likely to continue for decades – critical variabl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-cove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 de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ture of the boreal forest sink is highly uncert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disturbance is hard to pred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imate variability effects are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 baseline estimate for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Table: Average Annual Change in Carbon Stocks (TgCy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3733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al Fo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e Fo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Eura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Hemi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09480" y="57150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comparison, Liski et al. (2003) estimated 880 TgCy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1990s based on FAO forest inventory data for 55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urces and Sinks, 1960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06360" y="798480"/>
            <a:ext cx="6858000" cy="6037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adel et al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1708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Annual Change in Forest Carbon Stocks by Country or Region (TgCy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85840" y="955800"/>
          <a:ext cx="8153280" cy="57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955800"/>
                    <a:ext cx="815328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191120" y="5791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ada: fires cause significant swings from source to sink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vironment Canada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47920" y="1752480"/>
          <a:ext cx="65530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553080" cy="465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360" y="6026040"/>
            <a:ext cx="9126720" cy="83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103880" cy="439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6588000"/>
            <a:ext cx="8783640" cy="1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ff"/>
                </a:solidFill>
                <a:latin typeface="Times New Roman"/>
              </a:rPr>
              <a:t>Copyright ©2008 by the National Academy of Sc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6019920"/>
            <a:ext cx="8783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urz, Werner A. et al. (2008) Proc. Natl. Acad. Sci. USA 105, 1551-1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5760" y="360"/>
            <a:ext cx="878364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ada's forests are probably shifting from sink to source, mainly caused by current and projected insect out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ct Threats 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ve mountain pine beetle outbreak linked to warming, with potential to spread across the continent.</a:t>
            </a:r>
            <a:br>
              <a:rPr sz="2400"/>
            </a:b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Jesse 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43240" y="731880"/>
            <a:ext cx="5000760" cy="6126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4032360"/>
            <a:ext cx="419112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-1062000" y="1523880"/>
          <a:ext cx="8556480" cy="46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2000" y="1523880"/>
                    <a:ext cx="855648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2000" y="228600"/>
            <a:ext cx="8839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rbon Budget of the U.S. Forest S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est Ecosystems and Wood Produ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4724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Seque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655308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Birdsey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59436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1600200"/>
            <a:ext cx="35812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 tons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72480" y="3276720"/>
            <a:ext cx="2057400" cy="1965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ional baselin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0 Mt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yr offsetting 12% of fossil fue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00360" y="4100400"/>
            <a:ext cx="4952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4:53:20Z</dcterms:created>
  <dc:creator>Birdsey</dc:creator>
  <dc:description/>
  <dc:language>en-US</dc:language>
  <cp:lastModifiedBy>Birdsey</cp:lastModifiedBy>
  <dcterms:modified xsi:type="dcterms:W3CDTF">2009-05-05T11:41:57Z</dcterms:modified>
  <cp:revision>11</cp:revision>
  <dc:subject/>
  <dc:title>Carbon Fluxes of Boreal and Temperate Forests</dc:title>
</cp:coreProperties>
</file>